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999-7868-4CA2-9876-705F523D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BAB-AE79-4688-9A27-B75C750E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806-E905-42BD-BE2F-DDA10413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57D-A818-40DF-9075-5CE3F9DD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A93-F6F5-4CAB-84AA-99A7705E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8A2-AD97-41CA-AB01-B18713BA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16A-FC4D-4170-A989-42AFBDA5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A72-8044-47F3-AC18-A78CAC50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D59-5929-425A-81FE-FB006AA3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9F5-ACF3-4A8B-8C9C-E4269DA6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56C-711F-4A0C-8236-D6937586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C82-63EE-4DF9-B617-A3550848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5236-9340-4478-B6A5-12E86C9C49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log.i.ua/user/1931676/466693/" TargetMode="External"/><Relationship Id="rId3" Type="http://schemas.openxmlformats.org/officeDocument/2006/relationships/hyperlink" Target="http://www.realto.ru/journal/tendencies/show/?id=16274" TargetMode="External"/><Relationship Id="rId4" Type="http://schemas.openxmlformats.org/officeDocument/2006/relationships/hyperlink" Target="http://dedmoroz.deti.mail.ru/mail/a_teren/564/569.html" TargetMode="External"/><Relationship Id="rId5" Type="http://schemas.openxmlformats.org/officeDocument/2006/relationships/hyperlink" Target="http://www.photosight.ru/photos/2243845/" TargetMode="External"/><Relationship Id="rId6" Type="http://schemas.openxmlformats.org/officeDocument/2006/relationships/hyperlink" Target="http://all-castles.com/castles/rossiya/moskovskij-kreml/" TargetMode="External"/><Relationship Id="rId7" Type="http://schemas.openxmlformats.org/officeDocument/2006/relationships/hyperlink" Target="http://www.intomoscow.ru/modules.php?name=Contentp&amp;pa=galery&amp;cpid=f&amp;pid=33" TargetMode="External"/><Relationship Id="rId8" Type="http://schemas.openxmlformats.org/officeDocument/2006/relationships/hyperlink" Target="http://www.apartment.ru/Article/48712576_print.html" TargetMode="External"/><Relationship Id="rId9" Type="http://schemas.openxmlformats.org/officeDocument/2006/relationships/hyperlink" Target="http://mosday.ru/address.php?view=simple" TargetMode="External"/><Relationship Id="rId10" Type="http://schemas.openxmlformats.org/officeDocument/2006/relationships/hyperlink" Target="http://www.ulanhotel.ru/bolshoy-teatr/" TargetMode="External"/><Relationship Id="rId11" Type="http://schemas.openxmlformats.org/officeDocument/2006/relationships/hyperlink" Target="http://www.molgvardia.ru/nextday/2010/04/16/15894" TargetMode="External"/><Relationship Id="rId12" Type="http://schemas.openxmlformats.org/officeDocument/2006/relationships/hyperlink" Target="http://www.zateevo.ru/?section=page&amp;action=edit&amp;alia" TargetMode="External"/><Relationship Id="rId13" Type="http://schemas.openxmlformats.org/officeDocument/2006/relationships/hyperlink" Target="http://www.russianmiami.com/common/arc/story.php?id_cr=100&amp;id=492462" TargetMode="External"/><Relationship Id="rId14" Type="http://schemas.openxmlformats.org/officeDocument/2006/relationships/hyperlink" Target="http://mskwalks.narod.ru/zirk.html" TargetMode="External"/><Relationship Id="rId15" Type="http://schemas.openxmlformats.org/officeDocument/2006/relationships/hyperlink" Target="http://www.bigness.ru/?area=articleSearchResults&amp;offset=100&amp;w" TargetMode="External"/><Relationship Id="rId16" Type="http://schemas.openxmlformats.org/officeDocument/2006/relationships/hyperlink" Target="http://www.bigness.ru/?area=articleSearchResults&amp;offset=100&amp;w" TargetMode="External"/><Relationship Id="rId17" Type="http://schemas.openxmlformats.org/officeDocument/2006/relationships/hyperlink" Target="http://www.bigness.ru/?area=articleSearchResults&amp;offset=100&amp;w" TargetMode="External"/><Relationship Id="rId18" Type="http://schemas.openxmlformats.org/officeDocument/2006/relationships/hyperlink" Target="http://www.bigness.ru/?area=articleSearchResults&amp;offset=100&amp;w" TargetMode="External"/><Relationship Id="rId19" Type="http://schemas.openxmlformats.org/officeDocument/2006/relationships/hyperlink" Target="http://www.bigness.ru/?area=articleSearchResults&amp;offset=100&amp;w" TargetMode="External"/><Relationship Id="rId20" Type="http://schemas.openxmlformats.org/officeDocument/2006/relationships/hyperlink" Target="http://www.bigness.ru/?area=articleSearchResults&amp;offset=100&amp;w" TargetMode="External"/><Relationship Id="rId21" Type="http://schemas.openxmlformats.org/officeDocument/2006/relationships/hyperlink" Target="http://www.bigness.ru/?area=articleSearchResults&amp;offset=100&amp;w" TargetMode="External"/><Relationship Id="rId22" Type="http://schemas.openxmlformats.org/officeDocument/2006/relationships/hyperlink" Target="http://www.bigness.ru/?area=articleSearchResults&amp;offset=100&amp;w" TargetMode="External"/><Relationship Id="rId23" Type="http://schemas.openxmlformats.org/officeDocument/2006/relationships/hyperlink" Target="http://www.bigness.ru/?area=articleSearchResults&amp;offset=100&amp;w" TargetMode="External"/><Relationship Id="rId24" Type="http://schemas.openxmlformats.org/officeDocument/2006/relationships/hyperlink" Target="http://www.bigness.ru/?area=articleSearchResults&amp;offset=100&amp;w" TargetMode="External"/><Relationship Id="rId25" Type="http://schemas.openxmlformats.org/officeDocument/2006/relationships/hyperlink" Target="http://www.bigness.ru/?area=articleSearchResults&amp;offset=100&amp;w" TargetMode="External"/><Relationship Id="rId26" Type="http://schemas.openxmlformats.org/officeDocument/2006/relationships/hyperlink" Target="http://www.bigness.ru/?area=articleSearchResults&amp;offset=100&amp;w" TargetMode="External"/><Relationship Id="rId27" Type="http://schemas.openxmlformats.org/officeDocument/2006/relationships/hyperlink" Target="http://www.bigness.ru/?area=articleSearchResults&amp;offset=100&amp;w" TargetMode="External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ff"/>
              </a:solidFill>
              <a:latin typeface="Comic Sans MS"/>
            </a:endParaRPr>
          </a:p>
        </p:txBody>
      </p:sp>
      <p:pic>
        <p:nvPicPr>
          <p:cNvPr id="66" name="Picture 4" descr="Копия uuu0002"/>
          <p:cNvPicPr/>
          <p:nvPr/>
        </p:nvPicPr>
        <p:blipFill>
          <a:blip r:embed="rId2"/>
          <a:stretch/>
        </p:blipFill>
        <p:spPr>
          <a:xfrm>
            <a:off x="2843280" y="404640"/>
            <a:ext cx="4029120" cy="4667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89744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ерои нашего учебника Серёжа и Надя приглашают нас посмотреть достопримечательности Мос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Московский Кре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5"/>
          <p:cNvPicPr/>
          <p:nvPr/>
        </p:nvPicPr>
        <p:blipFill>
          <a:blip r:embed="rId2"/>
          <a:stretch/>
        </p:blipFill>
        <p:spPr>
          <a:xfrm>
            <a:off x="1332000" y="1628640"/>
            <a:ext cx="6905520" cy="46468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        </a:t>
            </a: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Храм Христа Спас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6"/>
          <p:cNvPicPr/>
          <p:nvPr/>
        </p:nvPicPr>
        <p:blipFill>
          <a:blip r:embed="rId2"/>
          <a:stretch/>
        </p:blipFill>
        <p:spPr>
          <a:xfrm>
            <a:off x="1692360" y="1268280"/>
            <a:ext cx="6618240" cy="4964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   </a:t>
            </a: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Улица Арб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7"/>
          <p:cNvGrpSpPr/>
          <p:nvPr/>
        </p:nvGrpSpPr>
        <p:grpSpPr>
          <a:xfrm>
            <a:off x="395280" y="1628640"/>
            <a:ext cx="8345520" cy="4753080"/>
            <a:chOff x="395280" y="1628640"/>
            <a:chExt cx="8345520" cy="4753080"/>
          </a:xfrm>
        </p:grpSpPr>
        <p:pic>
          <p:nvPicPr>
            <p:cNvPr id="77" name="Picture 5" descr="7"/>
            <p:cNvPicPr/>
            <p:nvPr/>
          </p:nvPicPr>
          <p:blipFill>
            <a:blip r:embed="rId2"/>
            <a:stretch/>
          </p:blipFill>
          <p:spPr>
            <a:xfrm>
              <a:off x="4356000" y="1628640"/>
              <a:ext cx="4384800" cy="475164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78" name="Picture 6" descr="8"/>
            <p:cNvPicPr/>
            <p:nvPr/>
          </p:nvPicPr>
          <p:blipFill>
            <a:blip r:embed="rId3"/>
            <a:stretch/>
          </p:blipFill>
          <p:spPr>
            <a:xfrm>
              <a:off x="395280" y="1628640"/>
              <a:ext cx="3673440" cy="475308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9"/>
          <p:cNvPicPr/>
          <p:nvPr/>
        </p:nvPicPr>
        <p:blipFill>
          <a:blip r:embed="rId2"/>
          <a:stretch/>
        </p:blipFill>
        <p:spPr>
          <a:xfrm>
            <a:off x="1908000" y="1268280"/>
            <a:ext cx="6048720" cy="50612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Театр зверей 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имени В. Ду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"/>
          <p:cNvGrpSpPr/>
          <p:nvPr/>
        </p:nvGrpSpPr>
        <p:grpSpPr>
          <a:xfrm>
            <a:off x="684360" y="1628640"/>
            <a:ext cx="7724520" cy="4680000"/>
            <a:chOff x="684360" y="1628640"/>
            <a:chExt cx="7724520" cy="4680000"/>
          </a:xfrm>
        </p:grpSpPr>
        <p:pic>
          <p:nvPicPr>
            <p:cNvPr id="85" name="Picture 5" descr="10"/>
            <p:cNvPicPr/>
            <p:nvPr/>
          </p:nvPicPr>
          <p:blipFill>
            <a:blip r:embed="rId2"/>
            <a:stretch/>
          </p:blipFill>
          <p:spPr>
            <a:xfrm>
              <a:off x="684360" y="1628640"/>
              <a:ext cx="3512880" cy="46800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86" name="Picture 6" descr="11"/>
            <p:cNvPicPr/>
            <p:nvPr/>
          </p:nvPicPr>
          <p:blipFill>
            <a:blip r:embed="rId3"/>
            <a:stretch/>
          </p:blipFill>
          <p:spPr>
            <a:xfrm>
              <a:off x="4896000" y="1628640"/>
              <a:ext cx="3512880" cy="46800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       </a:t>
            </a: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Третьяковская гал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2"/>
          <p:cNvPicPr/>
          <p:nvPr/>
        </p:nvPicPr>
        <p:blipFill>
          <a:blip r:embed="rId2"/>
          <a:stretch/>
        </p:blipFill>
        <p:spPr>
          <a:xfrm>
            <a:off x="1547640" y="1341360"/>
            <a:ext cx="6689880" cy="4975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Цирк 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на Цветном бульв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3"/>
          <p:cNvPicPr/>
          <p:nvPr/>
        </p:nvPicPr>
        <p:blipFill>
          <a:blip r:embed="rId2"/>
          <a:stretch/>
        </p:blipFill>
        <p:spPr>
          <a:xfrm>
            <a:off x="1619280" y="1628640"/>
            <a:ext cx="6265800" cy="4694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Красная площад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4846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вы думаете, почему площадь названа Кра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4"/>
          <p:cNvPicPr/>
          <p:nvPr/>
        </p:nvPicPr>
        <p:blipFill>
          <a:blip r:embed="rId2"/>
          <a:stretch/>
        </p:blipFill>
        <p:spPr>
          <a:xfrm>
            <a:off x="1763640" y="1197000"/>
            <a:ext cx="6408720" cy="4316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   </a:t>
            </a: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85880" y="1915920"/>
            <a:ext cx="7756560" cy="165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йте рассказ «Красная площадь» в учебн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стр. 106-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42960" y="4035600"/>
            <a:ext cx="785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к почему же москви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звали свою саму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лавную площадь Красной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Что вы знаете 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   о городе Москва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расоты Москвы"/>
          <p:cNvPicPr/>
          <p:nvPr/>
        </p:nvPicPr>
        <p:blipFill>
          <a:blip r:embed="rId2"/>
          <a:stretch/>
        </p:blipFill>
        <p:spPr>
          <a:xfrm>
            <a:off x="539640" y="1844640"/>
            <a:ext cx="8280360" cy="4479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91440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лексеев Ф.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расная площадь в Москве. 18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5"/>
          <p:cNvPicPr/>
          <p:nvPr/>
        </p:nvPicPr>
        <p:blipFill>
          <a:blip r:embed="rId2"/>
          <a:stretch/>
        </p:blipFill>
        <p:spPr>
          <a:xfrm>
            <a:off x="1187280" y="1700280"/>
            <a:ext cx="7129800" cy="4572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71144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 одной сторон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асную площад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рамляют сте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сковского Кремл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йти в котор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жно чере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пасскую баш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16"/>
          <p:cNvPicPr/>
          <p:nvPr/>
        </p:nvPicPr>
        <p:blipFill>
          <a:blip r:embed="rId2"/>
          <a:stretch/>
        </p:blipFill>
        <p:spPr>
          <a:xfrm>
            <a:off x="4522680" y="549360"/>
            <a:ext cx="4370400" cy="5832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5640" y="2062080"/>
            <a:ext cx="421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 другой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звыш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кровский со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или Храм Вас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лаженн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7"/>
          <p:cNvPicPr/>
          <p:nvPr/>
        </p:nvPicPr>
        <p:blipFill>
          <a:blip r:embed="rId2"/>
          <a:stretch/>
        </p:blipFill>
        <p:spPr>
          <a:xfrm>
            <a:off x="4284720" y="549360"/>
            <a:ext cx="4533840" cy="5715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95480" y="55558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против собора находится Исторический м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8"/>
          <p:cNvPicPr/>
          <p:nvPr/>
        </p:nvPicPr>
        <p:blipFill>
          <a:blip r:embed="rId2"/>
          <a:stretch/>
        </p:blipFill>
        <p:spPr>
          <a:xfrm>
            <a:off x="1619280" y="189000"/>
            <a:ext cx="7056360" cy="5292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3" name="Picture 9" descr="19"/>
            <p:cNvPicPr/>
            <p:nvPr/>
          </p:nvPicPr>
          <p:blipFill>
            <a:blip r:embed="rId2"/>
            <a:stretch/>
          </p:blipFill>
          <p:spPr>
            <a:xfrm>
              <a:off x="1116000" y="3065400"/>
              <a:ext cx="6624720" cy="37926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14" name="Picture 5" descr="16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644920" cy="352908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15" name="Picture 6" descr="17"/>
            <p:cNvPicPr/>
            <p:nvPr/>
          </p:nvPicPr>
          <p:blipFill>
            <a:blip r:embed="rId4"/>
            <a:stretch/>
          </p:blipFill>
          <p:spPr>
            <a:xfrm>
              <a:off x="6343560" y="0"/>
              <a:ext cx="2800440" cy="352908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16" name="Picture 8" descr="1"/>
            <p:cNvPicPr/>
            <p:nvPr/>
          </p:nvPicPr>
          <p:blipFill>
            <a:blip r:embed="rId5"/>
            <a:stretch/>
          </p:blipFill>
          <p:spPr>
            <a:xfrm>
              <a:off x="3419640" y="189000"/>
              <a:ext cx="2127240" cy="251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олица нашей Род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то основал нашу столиц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называют воина на гербе нашей стол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такое герб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ая главная, самая славная, самая красивая площадь Мос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такое план мест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411240" y="155736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6466320" y="1700280"/>
            <a:ext cx="256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ри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олгору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402360" y="3213000"/>
            <a:ext cx="46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еоргий Победоносе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516720" y="765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4379760" y="3789360"/>
            <a:ext cx="34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Эмблема гор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769080" y="4869000"/>
            <a:ext cx="199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расна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лощад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6646680" y="5300640"/>
            <a:ext cx="225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Чертё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ест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ff"/>
                </a:solidFill>
                <a:latin typeface="Comic Sans MS"/>
              </a:rPr>
              <a:t>Работа в ТПО</a:t>
            </a:r>
            <a:br>
              <a:rPr sz="6600"/>
            </a:br>
            <a:r>
              <a:rPr b="0" lang="ru-RU" sz="6600" spc="-1" strike="noStrike">
                <a:solidFill>
                  <a:srgbClr val="c00000"/>
                </a:solidFill>
                <a:latin typeface="Comic Sans MS"/>
              </a:rPr>
              <a:t>стр. 64-6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516720" y="765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Picture 8" descr="1"/>
          <p:cNvPicPr/>
          <p:nvPr/>
        </p:nvPicPr>
        <p:blipFill>
          <a:blip r:embed="rId2"/>
          <a:stretch/>
        </p:blipFill>
        <p:spPr>
          <a:xfrm>
            <a:off x="357120" y="3786120"/>
            <a:ext cx="2127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17859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ff"/>
                </a:solidFill>
                <a:latin typeface="Comic Sans MS"/>
              </a:rPr>
              <a:t>Домашнее задание</a:t>
            </a:r>
            <a:br>
              <a:rPr sz="6600"/>
            </a:br>
            <a:r>
              <a:rPr b="0" lang="ru-RU" sz="6600" spc="-1" strike="noStrike">
                <a:solidFill>
                  <a:srgbClr val="c00000"/>
                </a:solidFill>
                <a:latin typeface="Comic Sans MS"/>
              </a:rPr>
              <a:t>стр. 98 – 101, переска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516720" y="765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8" descr="1"/>
          <p:cNvPicPr/>
          <p:nvPr/>
        </p:nvPicPr>
        <p:blipFill>
          <a:blip r:embed="rId2"/>
          <a:stretch/>
        </p:blipFill>
        <p:spPr>
          <a:xfrm>
            <a:off x="357120" y="3786120"/>
            <a:ext cx="2127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log.i.ua/user/1931676/466693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ealto.ru/journal/tendencies/show/?id=162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edmoroz.deti.mail.ru/mail/a_teren/564/56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photosight.ru/photos/2243845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ll-castles.com/castles/rossiya/moskovskij-kreml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intomoscow.ru/modules.php?name=Contentp&amp;pa=galery&amp;cpid=f&amp;pid=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apartment.ru/Article/48712576_prin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mosday.ru/address.php?view=si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ulanhotel.ru/bolshoy-teatr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molgvardia.ru/nextday/2010/04/16/158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zateevo.ru/?section=page&amp;action=edit&amp;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russianmiami.com/common/arc/story.php?id_cr=100&amp;id=4924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mskwalks.narod.ru/zirk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bignes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?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area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=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articleSearchResult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&amp;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offse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=100&amp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velaskes.ru/?item=10993d0d-9125-48bb-9d1f-310f46f57051&amp;termin=149bfbea-95b1-4c43-948b-9f406dc7c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kreml.by.ru/index.files/p0000047.jpg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chadushki.ucoz.ru/forum/168-3727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mosday.ru/photos/gallery.php?author=masterwe&amp;size=3&amp;frames=0&amp;alt=9&amp;rows=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tvkultura.ru/news.html?id=4460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512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Город Москва – 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столица нашей Род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92000" y="2099880"/>
            <a:ext cx="53643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род был основан более 850 лет назад на берегах Москва-реки. Основал город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рий Долгорукий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которому теперь в центре города установлен памят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"/>
          <p:cNvPicPr/>
          <p:nvPr/>
        </p:nvPicPr>
        <p:blipFill>
          <a:blip r:embed="rId2"/>
          <a:stretch/>
        </p:blipFill>
        <p:spPr>
          <a:xfrm>
            <a:off x="179280" y="1832040"/>
            <a:ext cx="3413160" cy="45496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Что такое герб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3284640"/>
            <a:ext cx="4392360" cy="2736720"/>
          </a:xfrm>
          <a:prstGeom prst="rect">
            <a:avLst/>
          </a:prstGeom>
          <a:solidFill>
            <a:srgbClr val="ffff00"/>
          </a:solidFill>
          <a:ln w="381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ногие города нашей страны имеют свои гербы, но каждый из них неповтор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"/>
          <p:cNvPicPr/>
          <p:nvPr/>
        </p:nvPicPr>
        <p:blipFill>
          <a:blip r:embed="rId2"/>
          <a:stretch/>
        </p:blipFill>
        <p:spPr>
          <a:xfrm>
            <a:off x="4859280" y="1557360"/>
            <a:ext cx="3748320" cy="4441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68640" y="1916280"/>
            <a:ext cx="4272840" cy="1068840"/>
          </a:xfrm>
          <a:prstGeom prst="rect">
            <a:avLst/>
          </a:prstGeom>
          <a:solidFill>
            <a:srgbClr val="ffcc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Герб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эмблема город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Что изображено 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на гербе Москв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2565000"/>
            <a:ext cx="5041800" cy="2808360"/>
          </a:xfrm>
          <a:prstGeom prst="rect">
            <a:avLst/>
          </a:prstGeom>
          <a:solidFill>
            <a:srgbClr val="ccccff"/>
          </a:solidFill>
          <a:ln w="38160">
            <a:solidFill>
              <a:srgbClr val="9966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гербе Москвы изображён всадник с копьём, поражающий змея. Это свят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еоргий Победоносец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"/>
          <p:cNvPicPr/>
          <p:nvPr/>
        </p:nvPicPr>
        <p:blipFill>
          <a:blip r:embed="rId2"/>
          <a:stretch/>
        </p:blipFill>
        <p:spPr>
          <a:xfrm>
            <a:off x="5508720" y="1989000"/>
            <a:ext cx="3403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4979520"/>
            <a:ext cx="896472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сква – огромный город. В нём около 400 улиц и площадей.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Что может помочь легко ориентироваться в городе?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4"/>
          <p:cNvPicPr/>
          <p:nvPr/>
        </p:nvPicPr>
        <p:blipFill>
          <a:blip r:embed="rId2"/>
          <a:stretch/>
        </p:blipFill>
        <p:spPr>
          <a:xfrm>
            <a:off x="1908000" y="549360"/>
            <a:ext cx="6551640" cy="4384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           </a:t>
            </a: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85920" y="2286000"/>
            <a:ext cx="78580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стр. 99 учебника изображён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план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ентральной части Мос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.  Рассмотри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2.  Что изображено  на плане в учебни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Что такое пла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hhhhhh"/>
          <p:cNvPicPr/>
          <p:nvPr/>
        </p:nvPicPr>
        <p:blipFill>
          <a:blip r:embed="rId2"/>
          <a:stretch/>
        </p:blipFill>
        <p:spPr>
          <a:xfrm>
            <a:off x="5065560" y="1197000"/>
            <a:ext cx="4078440" cy="518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fffffff"/>
          <p:cNvPicPr/>
          <p:nvPr/>
        </p:nvPicPr>
        <p:blipFill>
          <a:blip r:embed="rId3"/>
          <a:stretch/>
        </p:blipFill>
        <p:spPr>
          <a:xfrm>
            <a:off x="1332000" y="1341360"/>
            <a:ext cx="2665440" cy="48322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4690800" cy="453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Пла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чертёж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ьзуясь пла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рода, достаточ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егко можно проех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ли пройти туда, к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ам хоч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221472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читайте текст «Достопримечательности Москвы» на стр. 100 – 10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ассмотрите иллюстр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4:08:21Z</dcterms:created>
  <dc:creator>мама</dc:creator>
  <dc:description/>
  <dc:language>en-US</dc:language>
  <cp:lastModifiedBy>admin</cp:lastModifiedBy>
  <dcterms:modified xsi:type="dcterms:W3CDTF">2018-04-13T01:52:14Z</dcterms:modified>
  <cp:revision>13</cp:revision>
  <dc:subject/>
  <dc:title>Слайд 1</dc:title>
</cp:coreProperties>
</file>