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3F64-A43E-43B2-8828-87E7C0A9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DED-6257-4418-9B02-B16E9BFF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83545-6B3F-424D-913C-241B3D92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75385-72DC-4784-8651-F8375EFC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87145-9104-42E8-816F-CE40951A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0984C-1A12-4B0B-ACFF-4AC5A4E3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AD6D0-82A4-4919-9F81-40B2E8C7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5C00D-C04E-4D0E-AB11-52B4A467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645DE-1E1B-48CC-B1B4-4D318B21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05E08-136D-4D81-9E1D-697ED034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FE44D-32E9-4084-B8D3-7BAE7D41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224F-D5A3-41F0-9218-F9AC1D61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D27-2864-42D6-9504-99F8E763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4C0E-1C2C-46C0-A83F-16AB54AE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B115-D4CA-405F-B6CE-401D9ECC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B477-3A39-400E-9E81-9DF1C60C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3EC3-5B4C-4C71-AE2A-80E5E639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2FA5-92ED-40FC-93A9-7DF47865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FDD8-4BDA-4B3E-ADA6-7FF8AECE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CD52-A548-49AC-9267-2007FB8A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804-A346-4F01-B940-7ECB8846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A621-562A-4B85-B274-559D2621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86AF-4EB2-4B6B-9E5E-4A930BAF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15A9-B184-4967-8054-D908B573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3EB6-F724-4CF5-A046-9FCB1658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6619-492E-4D8A-A766-1D0B7472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B1C14-AC4B-45D3-97D9-02577792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7CEBF-C1BF-4227-B2A6-163D9EC4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99BC5-75B4-454F-A1F1-931F55B1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4BA6C-D4F5-4CFA-AEC0-84024C07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72B67-0ECF-4D09-BDEA-0BA11C28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17A-0214-4549-B8DC-37090119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ABB4C-4B07-41C5-87E9-C39525E9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DC160-9C6B-4E43-8118-1C03980B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35195-362D-48CF-AB3B-CD06E3B8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B4637-C8C0-4602-978D-F35DF1DE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17117-9124-490A-A2E1-5E22EAD3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34365-CBBF-4DC7-B207-5272C53A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F076E-C081-4D92-80D6-99A91CCF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9A8D0-4597-4996-975A-B048FBF5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12AF7-8C32-454A-AEC5-F9AEF129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E72AA-1EE5-4222-B05B-E1F5AE62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465-53CD-4578-AE3E-54A88BB0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DC682-85FC-417F-A9D6-6042D96C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463F9-C6E4-4DA5-91B5-9436F985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39C3C-EEF7-4E56-9EF7-34C25558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E9905-4B79-477F-8220-178B81EA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DE6CB-7C99-4969-A47E-2D03069E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E4DBE-8DE6-4AF3-9202-07F78345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8E889-931C-4653-B63D-2624B5E3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2199F-4E52-4FBD-A8DE-DB97E98D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8E0F1-AB6A-4202-922E-EC7D5F4F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74B78-4783-4AA6-919F-9549AD70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5410-3FBD-4AC2-BF6E-BB0DEF9B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F2CCB-BB18-4F4E-9AEA-CEFD32DB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E9F15-EBC7-4008-B499-3BCFD086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CC3CB-07C2-4E5C-9BFA-7F1745A1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F8470-0A5E-4B1D-BB24-5C7EC685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A5F63-467C-4D1F-845D-BBF4E5AA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78F10-F897-4D7B-93D2-BDDF4822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C538E-8511-410D-A86A-DD023B47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9B651-84A0-4BC8-B2CA-603A8194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A2247-7141-46BA-9407-FF59EB08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E8985-DEDD-4C3E-ABE4-495F4A8B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7956-3944-4A4C-950E-A83796E0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DE382-13EF-46ED-9AC9-E4EFD685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0C97A-EC3A-4F54-9D27-38FD8940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54EDD-E956-44FA-8A51-B27B0506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DF86D-60AF-4D29-9CDB-F357C789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A0D84-DFCA-44FE-BEB3-0400D607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5E612-E6AF-45F4-A44F-8DA26CE8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723FB-648E-417B-AE00-BC608CD8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6483C-812A-4B4D-85B3-689C1313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BEC4E-A819-4F03-9BEF-13BB70D8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1DA52-1140-4858-8D69-F8338EE5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EBA-E8AE-4B69-8439-09C79528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7E29C-C6BA-4EEF-A9F3-AE807753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DF39E-6897-4FBC-9744-665A1112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DBF36-A33C-4EFE-B83C-37DCB842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08B3A-6534-4149-A537-44EC3BA7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50570-2C22-4C26-81F7-882C98F9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E8D6A-7567-4BA7-8B2D-79EA968B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7AD6A-A29A-4581-9C2F-1829596D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B8774-6A79-49EB-BADE-315C88FA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A1441-89B4-4912-85BF-E266D135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A80B4-920F-4A5A-A972-8803458C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4D27-638B-4EFA-963A-78B4164F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8C4FC-9E06-4451-ABE8-E95F1B22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81B40-5D9A-4D97-A28F-3ABF90CE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A7736-DC1F-4BF3-8ADD-391D2173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87C15-D315-42F6-A20D-228FB446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F6C95-E6FC-4494-A2E8-2A4666B6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69A92-EE6A-466A-B358-1FB5B8C5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362C2-554E-4700-AFD3-F1B19742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CEB0B-598D-42CB-822C-86EB8E5C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6F636-187C-4235-9F9F-553A9085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0A83E-4190-4EFA-995A-4867969B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8029-7080-40A1-8E5D-4549AC65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FA69A-6BF5-4B16-85C9-543883C5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1F591-3A40-4FE1-831D-CA8ADE01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FC852-EBA4-4FEC-AFD3-CDBB2616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412DA-C2E4-418E-B91E-1A3F9BEB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84319-28DC-4E68-8930-C407A725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E46AD-13C7-47D7-BC7C-27912155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A259B-BF57-4BC9-AEC6-6CE2721D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A437D-5448-4160-BB1E-8D8CE9B5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79191-68A4-470E-8EC5-19B47C1A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DA54A-11D2-4668-AD34-0A0F4D40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8044-E9CC-479A-8B03-8F70B204B1C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5AC5-A230-4622-AA7D-89B8750F72D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C930-E03B-4E28-9B9F-F105DBB73BC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88F9-991F-4714-B997-DF7840052EC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6D2B-5C3E-464D-933A-3686E0A4173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C18D-3AEF-45CE-8E56-6661E94BCFC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46D6-509E-4753-AE8B-67C47F00317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89F7-84D6-4630-AB13-8CB888CB89F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19A6-B016-435E-AEB2-E7B7246235B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3"/>
          <p:cNvSpPr/>
          <p:nvPr/>
        </p:nvSpPr>
        <p:spPr>
          <a:xfrm>
            <a:off x="2214720" y="214200"/>
            <a:ext cx="4786200" cy="914400"/>
          </a:xfrm>
          <a:prstGeom prst="rect">
            <a:avLst/>
          </a:prstGeom>
          <a:solidFill>
            <a:srgbClr val="fbeec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ами. Рубашк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Рисунок 5" descr="https://i.ytimg.com/vi/bajMVfddXDM/maxresdefault.jpg"/>
          <p:cNvPicPr/>
          <p:nvPr/>
        </p:nvPicPr>
        <p:blipFill>
          <a:blip r:embed="rId1"/>
          <a:stretch/>
        </p:blipFill>
        <p:spPr>
          <a:xfrm>
            <a:off x="500040" y="1285920"/>
            <a:ext cx="8215200" cy="478620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6"/>
          <p:cNvSpPr/>
          <p:nvPr/>
        </p:nvSpPr>
        <p:spPr>
          <a:xfrm>
            <a:off x="4929120" y="5000760"/>
            <a:ext cx="4071960" cy="15001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Лейпожих Светлана Ильинич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КОУ Тазовская школа – интернат средне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"/>
          <p:cNvSpPr/>
          <p:nvPr/>
        </p:nvSpPr>
        <p:spPr>
          <a:xfrm>
            <a:off x="500040" y="214200"/>
            <a:ext cx="8143920" cy="6286680"/>
          </a:xfrm>
          <a:prstGeom prst="rect">
            <a:avLst/>
          </a:prstGeom>
          <a:solidFill>
            <a:srgbClr val="fbeec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ориг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оригами - -Япония . На японском язык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гибать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бумага.  Если сложить эти два слова, получи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А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скусство сгибать бумаг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конца 16 века оригами превратилось         в любимое развлечение японцев. Именно в этот период появилось большинство классических фигу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бумаги можно сложить различные фигурки птиц,  животных и многое другое. Японцы разработали систему знаков, с помощью которых можно показать, как надо работать с бумагой, чтобы сложить выбранную фигу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4" name="Picture 3" descr="C:\Users\user\Desktop\рубаш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ккуратность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очность выполнения техник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зобретательност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Picture 5" descr="C:\Users\user\Desktop\IMG_7053.jpg"/>
          <p:cNvPicPr/>
          <p:nvPr/>
        </p:nvPicPr>
        <p:blipFill>
          <a:blip r:embed="rId2"/>
          <a:stretch/>
        </p:blipFill>
        <p:spPr>
          <a:xfrm>
            <a:off x="0" y="3371760"/>
            <a:ext cx="91440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11:48:44Z</dcterms:created>
  <dc:creator>user</dc:creator>
  <dc:description/>
  <dc:language>en-US</dc:language>
  <cp:lastModifiedBy>user</cp:lastModifiedBy>
  <dcterms:modified xsi:type="dcterms:W3CDTF">2018-04-09T08:42:25Z</dcterms:modified>
  <cp:revision>15</cp:revision>
  <dc:subject/>
  <dc:title>Открытка 23 февраля</dc:title>
</cp:coreProperties>
</file>