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48542-364C-4957-8FC0-D59C3ACDF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F8B78-5E06-4E59-A546-B82CB8E3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3090D-6B50-4DCC-A6AD-3BCA2A61C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34B14-B7B1-4E14-8C1B-4479C7C89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BE118-114A-4BC9-B6BB-507AC3B9E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A99D-0442-4CD6-8E33-0DD9D1172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72FC3-AA16-4D3C-A52F-D7A609C8E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B2DF-5BB9-48A9-A74A-7F77A809A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7FFAB-2A1A-480C-9160-01CFE91AC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3E73-257F-463B-8ECE-38D206CE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6C41-8BD6-487C-9227-D7892CF8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D803-8358-440E-9C23-CE13DFB1A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127E-CC63-4423-B1F2-AAFDEB2B090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edsovet.su/" TargetMode="External"/><Relationship Id="rId2" Type="http://schemas.openxmlformats.org/officeDocument/2006/relationships/hyperlink" Target="http://pedsovet.su/" TargetMode="External"/><Relationship Id="rId3" Type="http://schemas.openxmlformats.org/officeDocument/2006/relationships/hyperlink" Target="http://pedsovet.su/"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84360" y="404280"/>
            <a:ext cx="6121440" cy="20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00"/>
                </a:solidFill>
                <a:latin typeface="Round Script"/>
              </a:rPr>
              <a:t>Мастер- класс</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484000" y="1844640"/>
            <a:ext cx="6048360" cy="4392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00"/>
                </a:solidFill>
                <a:latin typeface="Round Script"/>
              </a:rPr>
              <a:t>Игровая кукла </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00"/>
                </a:solidFill>
                <a:latin typeface="Round Script"/>
              </a:rPr>
              <a:t>  </a:t>
            </a:r>
            <a:r>
              <a:rPr b="0" lang="ru-RU" sz="2800" spc="-1" strike="noStrike">
                <a:solidFill>
                  <a:srgbClr val="007000"/>
                </a:solidFill>
                <a:latin typeface="Round Script"/>
              </a:rPr>
              <a:t>«Ложка»</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00"/>
                </a:solidFill>
                <a:latin typeface="Calibri"/>
              </a:rPr>
              <a:t>Кузнецова Ольга Олеговна –                             учитель   начальных классов                  МБОУ Кабановская СОШ          Орехово-Зуевского района</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00"/>
                </a:solidFill>
                <a:latin typeface="Round Script"/>
              </a:rPr>
              <a:t>201</a:t>
            </a:r>
            <a:r>
              <a:rPr b="0" lang="ru-RU" sz="2800" spc="-1" strike="noStrike">
                <a:solidFill>
                  <a:srgbClr val="007000"/>
                </a:solidFill>
                <a:latin typeface="Arial"/>
              </a:rPr>
              <a:t>7</a:t>
            </a:r>
            <a:r>
              <a:rPr b="0" lang="ru-RU" sz="2800" spc="-1" strike="noStrike">
                <a:solidFill>
                  <a:srgbClr val="007000"/>
                </a:solidFill>
                <a:latin typeface="Round Script"/>
              </a:rPr>
              <a:t>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63280" y="260280"/>
            <a:ext cx="7056360" cy="207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Round Script"/>
              </a:rPr>
              <a:t>Переворачиваем нашу куколку «лицом» вниз, на расположенную ткань для юбочки и фартука. Собираем в гармошку и завязываем красными нитками. </a:t>
            </a:r>
            <a:endParaRPr b="0" lang="en-US" sz="2000" spc="-1" strike="noStrike">
              <a:solidFill>
                <a:srgbClr val="000000"/>
              </a:solidFill>
              <a:latin typeface="Times New Roman"/>
            </a:endParaRPr>
          </a:p>
        </p:txBody>
      </p:sp>
      <p:pic>
        <p:nvPicPr>
          <p:cNvPr id="64" name="Picture 2" descr="L:\Ложка\DSC04724.JPG"/>
          <p:cNvPicPr/>
          <p:nvPr/>
        </p:nvPicPr>
        <p:blipFill>
          <a:blip r:embed="rId1"/>
          <a:stretch/>
        </p:blipFill>
        <p:spPr>
          <a:xfrm>
            <a:off x="2627280" y="249228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49000"/>
            <a:ext cx="822960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Повязываем платок.</a:t>
            </a:r>
            <a:br>
              <a:rPr sz="3200"/>
            </a:br>
            <a:r>
              <a:rPr b="0" lang="ru-RU" sz="3200" spc="-1" strike="noStrike">
                <a:solidFill>
                  <a:srgbClr val="000000"/>
                </a:solidFill>
                <a:latin typeface="Round Script"/>
              </a:rPr>
              <a:t>Наша куколка готова.</a:t>
            </a:r>
            <a:endParaRPr b="0" lang="en-US" sz="3200" spc="-1" strike="noStrike">
              <a:solidFill>
                <a:srgbClr val="000000"/>
              </a:solidFill>
              <a:latin typeface="Times New Roman"/>
            </a:endParaRPr>
          </a:p>
        </p:txBody>
      </p:sp>
      <p:pic>
        <p:nvPicPr>
          <p:cNvPr id="66" name="Picture 2" descr="L:\Ложка\DSC04725.JPG"/>
          <p:cNvPicPr/>
          <p:nvPr/>
        </p:nvPicPr>
        <p:blipFill>
          <a:blip r:embed="rId1"/>
          <a:stretch/>
        </p:blipFill>
        <p:spPr>
          <a:xfrm>
            <a:off x="1258920" y="2717640"/>
            <a:ext cx="4068720" cy="3051360"/>
          </a:xfrm>
          <a:prstGeom prst="rect">
            <a:avLst/>
          </a:prstGeom>
          <a:ln w="0">
            <a:noFill/>
          </a:ln>
        </p:spPr>
      </p:pic>
      <p:pic>
        <p:nvPicPr>
          <p:cNvPr id="67" name="Picture 3" descr="L:\Ложка\DSC04726.JPG"/>
          <p:cNvPicPr/>
          <p:nvPr/>
        </p:nvPicPr>
        <p:blipFill>
          <a:blip r:embed="rId2"/>
          <a:stretch/>
        </p:blipFill>
        <p:spPr>
          <a:xfrm>
            <a:off x="5724360" y="2421000"/>
            <a:ext cx="273384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050560" y="2924280"/>
            <a:ext cx="3961080" cy="26654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Round Script"/>
              </a:rPr>
              <a:t>Вот возьму я ложечку,                         Замотаю тряпочку,           В лоскуточки наряжу,                         Сверху бантик привяжу.      Получилась не игрушка,                       А любимая подружка</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9" name="Picture 3" descr="L:\Ложка\DSC04726.JPG"/>
          <p:cNvPicPr/>
          <p:nvPr/>
        </p:nvPicPr>
        <p:blipFill>
          <a:blip r:embed="rId1"/>
          <a:stretch/>
        </p:blipFill>
        <p:spPr>
          <a:xfrm>
            <a:off x="5724360" y="1700280"/>
            <a:ext cx="2808360" cy="39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Romantica script"/>
              </a:rPr>
              <a:t>      </a:t>
            </a:r>
            <a:r>
              <a:rPr b="0" lang="ru-RU" sz="4800" spc="-1" strike="noStrike">
                <a:solidFill>
                  <a:srgbClr val="000000"/>
                </a:solidFill>
                <a:latin typeface="Round Script"/>
              </a:rPr>
              <a:t>Совет</a:t>
            </a:r>
            <a:endParaRPr b="0" lang="en-US" sz="4800" spc="-1" strike="noStrike">
              <a:solidFill>
                <a:srgbClr val="000000"/>
              </a:solidFill>
              <a:latin typeface="Times New Roman"/>
            </a:endParaRPr>
          </a:p>
        </p:txBody>
      </p:sp>
      <p:sp>
        <p:nvSpPr>
          <p:cNvPr id="71" name=""/>
          <p:cNvSpPr txBox="1"/>
          <p:nvPr/>
        </p:nvSpPr>
        <p:spPr>
          <a:xfrm>
            <a:off x="2484000" y="1267920"/>
            <a:ext cx="6202440" cy="5256360"/>
          </a:xfrm>
          <a:prstGeom prst="rect">
            <a:avLst/>
          </a:prstGeom>
          <a:noFill/>
          <a:ln w="0">
            <a:noFill/>
          </a:ln>
        </p:spPr>
        <p:txBody>
          <a:bodyPr anchor="t">
            <a:normAutofit/>
          </a:bodyPr>
          <a:p>
            <a:pPr marL="343080" indent="-343080">
              <a:lnSpc>
                <a:spcPct val="100000"/>
              </a:lnSpc>
              <a:spcBef>
                <a:spcPts val="700"/>
              </a:spcBef>
              <a:buClr>
                <a:srgbClr val="000000"/>
              </a:buClr>
              <a:buFont typeface="Round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Round Script"/>
              </a:rPr>
              <a:t>Юбка  должна быть пышная, поэтому ткань не надо экономить;</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Round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Round Script"/>
              </a:rPr>
              <a:t>Если хотите выполнить туловище потолще, можно на ручку ложки намотать ткань, но обязательно привязать  красной ниткой. Но раньше так не делали, т.к такую куклу утром развязывали что бы ребенок мог поесть.</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842920" y="2060640"/>
            <a:ext cx="5329080" cy="4093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800" spc="-1" strike="noStrike">
                <a:solidFill>
                  <a:srgbClr val="000000"/>
                </a:solidFill>
                <a:latin typeface="Round Script"/>
              </a:rPr>
              <a:t>Куколку «Ложку» можно выполнить из любых тканей, даже нетканых  салфеток и  подарить ребенку. Главное объяснить ребенку значение этой кукл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050560" y="333000"/>
            <a:ext cx="676908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00"/>
                </a:solidFill>
                <a:latin typeface="Romantica script"/>
              </a:rPr>
              <a:t>Литература-интернет-ресурсы </a:t>
            </a:r>
            <a:r>
              <a:rPr b="0" lang="ru-RU" sz="2400" spc="-1" strike="noStrike" u="sng">
                <a:solidFill>
                  <a:srgbClr val="800000"/>
                </a:solidFill>
                <a:uFillTx/>
                <a:latin typeface="Romantica script"/>
                <a:hlinkClick r:id="rId1"/>
              </a:rPr>
              <a:t>http</a:t>
            </a:r>
            <a:r>
              <a:rPr b="0" lang="ru-RU" sz="2400" spc="-1" strike="noStrike" u="sng">
                <a:solidFill>
                  <a:srgbClr val="800000"/>
                </a:solidFill>
                <a:uFillTx/>
                <a:latin typeface="Romantica script"/>
                <a:hlinkClick r:id="rId2"/>
              </a:rPr>
              <a:t>://pedsovet.su</a:t>
            </a:r>
            <a:r>
              <a:rPr b="0" lang="ru-RU" sz="2400" spc="-1" strike="noStrike" u="sng">
                <a:solidFill>
                  <a:srgbClr val="800000"/>
                </a:solidFill>
                <a:uFillTx/>
                <a:latin typeface="Romantica script"/>
                <a:hlinkClick r:id="rId3"/>
              </a:rPr>
              <a:t>/</a:t>
            </a:r>
            <a:br>
              <a:rPr sz="2400"/>
            </a:br>
            <a:br>
              <a:rPr sz="2400"/>
            </a:br>
            <a:br>
              <a:rPr sz="2400"/>
            </a:br>
            <a:br>
              <a:rPr sz="2400"/>
            </a:br>
            <a:br>
              <a:rPr sz="2400"/>
            </a:br>
            <a:br>
              <a:rPr sz="2400"/>
            </a:br>
            <a:br>
              <a:rPr sz="2400"/>
            </a:br>
            <a:br>
              <a:rPr sz="2400"/>
            </a:br>
            <a:r>
              <a:rPr b="0" lang="ru-RU"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pic>
        <p:nvPicPr>
          <p:cNvPr id="74" name="Picture 7" descr=""/>
          <p:cNvPicPr/>
          <p:nvPr/>
        </p:nvPicPr>
        <p:blipFill>
          <a:blip r:embed="rId4"/>
          <a:stretch/>
        </p:blipFill>
        <p:spPr>
          <a:xfrm>
            <a:off x="2124000" y="1773360"/>
            <a:ext cx="6769080" cy="45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87280" y="188640"/>
            <a:ext cx="7490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00"/>
                </a:solidFill>
                <a:latin typeface="Times New Roman"/>
              </a:rPr>
              <a:t>Цели и задачи</a:t>
            </a:r>
            <a:endParaRPr b="0" lang="en-US" sz="4400" spc="-1" strike="noStrike">
              <a:solidFill>
                <a:srgbClr val="000000"/>
              </a:solidFill>
              <a:latin typeface="Times New Roman"/>
            </a:endParaRPr>
          </a:p>
        </p:txBody>
      </p:sp>
      <p:sp>
        <p:nvSpPr>
          <p:cNvPr id="44" name="PlaceHolder 2"/>
          <p:cNvSpPr>
            <a:spLocks noGrp="1"/>
          </p:cNvSpPr>
          <p:nvPr>
            <p:ph/>
          </p:nvPr>
        </p:nvSpPr>
        <p:spPr>
          <a:xfrm>
            <a:off x="1692000" y="980640"/>
            <a:ext cx="7272360" cy="5256360"/>
          </a:xfrm>
          <a:prstGeom prst="rect">
            <a:avLst/>
          </a:prstGeom>
          <a:noFill/>
          <a:ln w="0">
            <a:noFill/>
          </a:ln>
        </p:spPr>
        <p:txBody>
          <a:bodyPr anchor="t">
            <a:normAutofit fontScale="96000"/>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Цель: Сформировать представление о традиционной народной культуре и научить изготавливать игровую куклу  «Ложку»</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Задачи: </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познакомить с историей народной куклы;</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изготовить  игровую куклу ;</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развивать эстетический вкус, внимание, художественно-образное мышление;</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воспитывать аккуратность, терпение, умение выполнять работу до конечного желаемого результата и умение работать в коллективе, уважение  к традициям и обычаям родного края, развивать мелкую моторику рук.</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формировать индивидуальные творческие способности;</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учит умению самостоятельно подбирать цветовые решения  и украшения для куклы;</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обогащать словарный запас, знакомить с новыми словами и их значениями(кукла-закрутка, обереговая, игровая,  повойник, лоскут, безликая кукла);</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Round Script"/>
              </a:rPr>
              <a:t>-стимулировать развитие коммуникативных навыков и дружелюбия.</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      </a:t>
            </a:r>
            <a:r>
              <a:rPr b="0" lang="ru-RU" sz="3200" spc="-1" strike="noStrike">
                <a:solidFill>
                  <a:srgbClr val="000000"/>
                </a:solidFill>
                <a:latin typeface="Round Script"/>
              </a:rPr>
              <a:t>Немного истории…</a:t>
            </a:r>
            <a:endParaRPr b="0" lang="en-US" sz="3200" spc="-1" strike="noStrike">
              <a:solidFill>
                <a:srgbClr val="000000"/>
              </a:solidFill>
              <a:latin typeface="Times New Roman"/>
            </a:endParaRPr>
          </a:p>
        </p:txBody>
      </p:sp>
      <p:sp>
        <p:nvSpPr>
          <p:cNvPr id="46" name=""/>
          <p:cNvSpPr txBox="1"/>
          <p:nvPr/>
        </p:nvSpPr>
        <p:spPr>
          <a:xfrm>
            <a:off x="2195640" y="1267920"/>
            <a:ext cx="6697440" cy="5256360"/>
          </a:xfrm>
          <a:prstGeom prst="rect">
            <a:avLst/>
          </a:prstGeom>
          <a:noFill/>
          <a:ln w="0">
            <a:noFill/>
          </a:ln>
        </p:spPr>
        <p:txBody>
          <a:bodyPr anchor="t">
            <a:normAutofit fontScale="97000"/>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Round Script"/>
              </a:rPr>
              <a:t>По мнению археологов, историков, искусствоведов, кукла -    это любая фигурка человека, даже если она не является    игрушкой. Значение куклы многообразно: ритуальное, магическое, исцеляющее, развлекательное, воспитательное.</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Round Script"/>
              </a:rPr>
              <a:t>Русская тряпичная кукла считается одним из самых загадочных символов России. Это не просто детская игрушка, но и важнейший атрибут древних обрядов, символ продолжения рода, залог семейного счастья. А ещё - это проводник в глубину человеческой души и способ самопознания. С незапамятных времен мастерами было освоено искусство изготовления кукол, вобравших в себя культурные традиции и обычаи Руси. Поэтому именно кукла была одним из тех веками проверенных средств, с помощью которых старшее поколение могло передать, а младшее принять, сохранить и понести дальше бесценные сокровища накопленного жизненного опыта.</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124000" y="333360"/>
            <a:ext cx="6840720" cy="6120000"/>
          </a:xfrm>
          <a:prstGeom prst="rect">
            <a:avLst/>
          </a:prstGeom>
          <a:noFill/>
          <a:ln w="0">
            <a:noFill/>
          </a:ln>
        </p:spPr>
        <p:txBody>
          <a:bodyPr anchor="t">
            <a:normAutofit fontScale="96000"/>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Round Script"/>
              </a:rPr>
              <a:t>Кукла не рождается сама, её создает человек. Она обретает жизнь при помощи воображения и воли своего создателя. Создавая игрушки, отцы и матери, бабушки и дедушки вкладывали в куколки всю свою жизненную мудрость и любовь к детям. А дети чувствовали это и относились к рукотворным игрушкам очень бережно. Разве можно выбросить родительскую любовь, заботу и ласку?</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Round Script"/>
              </a:rPr>
              <a:t>Интерес к народным ремёслам в современном мире всё возрастает. А происходит это потому, что в не  столь  отдаленные времена здесь образовалась пустота. И теперь возникла большая необходимость заполнить эту брешь.</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Round Script"/>
              </a:rPr>
              <a:t>Наше сегодняшнее желание - знать: какой же была народная игрушка, как ею играли, и что она значила - это не только познавательный интерес, но ещё и стремление помнить историческое и культурное прошлое своего народа, сохранить семейные ценности.</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Round Script"/>
              </a:rPr>
              <a:t>Вот почему традиционная тряпичная кукла в сегодняшней России переживает подлинное возрождение!</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Кукла «Ложка»</a:t>
            </a:r>
            <a:endParaRPr b="0" lang="en-US" sz="3200" spc="-1" strike="noStrike">
              <a:solidFill>
                <a:srgbClr val="000000"/>
              </a:solidFill>
              <a:latin typeface="Times New Roman"/>
            </a:endParaRPr>
          </a:p>
        </p:txBody>
      </p:sp>
      <p:sp>
        <p:nvSpPr>
          <p:cNvPr id="49" name=""/>
          <p:cNvSpPr txBox="1"/>
          <p:nvPr/>
        </p:nvSpPr>
        <p:spPr>
          <a:xfrm>
            <a:off x="2123640" y="1052640"/>
            <a:ext cx="6769080" cy="547200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Round Script"/>
              </a:rPr>
              <a:t>Тряпичная кукла на ложке -  это прежде всего кукла игровая. Ее делали для того, чтобы занять, развеселить, отвлечь ребенка.  Такие куклы были распространены на севере России, в Архангельской губернии. Но, как и почти любые предметы и занятия наших предков, кукла несла и мистическую, охранную функцию. И определяла «характер» этой тряпичной куклы ложка. Ведь это не просто приспособление для еды – это символ достатка и сытости. Маленькие серебряные ложки дарили на свадьбу. А серебряную ложечку ребенку «на зубок» (то есть, когда прорежется первый зуб) и сегодня еще иногда дарят. Тряпичная кукла на ложке – кормилица, хозяйка дома. Об этом и ее головной убор рассказывает. Он состоит из повойника и платка, который повязывают сверху – так традиционно одевались взрослые замужние женщины.</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Round Script"/>
              </a:rPr>
              <a:t>    </a:t>
            </a:r>
            <a:r>
              <a:rPr b="0" lang="ru-RU" sz="4400" spc="-1" strike="noStrike">
                <a:solidFill>
                  <a:srgbClr val="000000"/>
                </a:solidFill>
                <a:latin typeface="Round Script"/>
              </a:rPr>
              <a:t>Используемый материал</a:t>
            </a:r>
            <a:endParaRPr b="0" lang="en-US" sz="4400" spc="-1" strike="noStrike">
              <a:solidFill>
                <a:srgbClr val="000000"/>
              </a:solidFill>
              <a:latin typeface="Times New Roman"/>
            </a:endParaRPr>
          </a:p>
        </p:txBody>
      </p:sp>
      <p:sp>
        <p:nvSpPr>
          <p:cNvPr id="51" name=""/>
          <p:cNvSpPr txBox="1"/>
          <p:nvPr/>
        </p:nvSpPr>
        <p:spPr>
          <a:xfrm>
            <a:off x="1619280" y="1052280"/>
            <a:ext cx="7067520" cy="5073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Round Script"/>
              </a:rPr>
              <a:t>-ветошь</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     </a:t>
            </a:r>
            <a:r>
              <a:rPr b="0" lang="ru-RU" sz="3200" spc="-1" strike="noStrike">
                <a:solidFill>
                  <a:srgbClr val="000000"/>
                </a:solidFill>
                <a:latin typeface="Round Script"/>
              </a:rPr>
              <a:t>-цветная ткань</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     </a:t>
            </a:r>
            <a:r>
              <a:rPr b="0" lang="ru-RU" sz="3200" spc="-1" strike="noStrike">
                <a:solidFill>
                  <a:srgbClr val="000000"/>
                </a:solidFill>
                <a:latin typeface="Round Script"/>
              </a:rPr>
              <a:t>-ленточка для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     </a:t>
            </a:r>
            <a:r>
              <a:rPr b="0" lang="ru-RU" sz="3200" spc="-1" strike="noStrike">
                <a:solidFill>
                  <a:srgbClr val="000000"/>
                </a:solidFill>
                <a:latin typeface="Round Script"/>
              </a:rPr>
              <a:t>-красные нитки</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     </a:t>
            </a:r>
            <a:r>
              <a:rPr b="0" lang="ru-RU" sz="3200" spc="-1" strike="noStrike">
                <a:solidFill>
                  <a:srgbClr val="000000"/>
                </a:solidFill>
                <a:latin typeface="Round Script"/>
              </a:rPr>
              <a:t>-деревянная ложка</a:t>
            </a:r>
            <a:endParaRPr b="0" lang="en-US" sz="3200" spc="-1" strike="noStrike">
              <a:solidFill>
                <a:srgbClr val="000000"/>
              </a:solidFill>
              <a:latin typeface="Times New Roman"/>
            </a:endParaRPr>
          </a:p>
        </p:txBody>
      </p:sp>
      <p:pic>
        <p:nvPicPr>
          <p:cNvPr id="52" name="Picture 3" descr="L:\Ложка\DSC04710.JPG"/>
          <p:cNvPicPr/>
          <p:nvPr/>
        </p:nvPicPr>
        <p:blipFill>
          <a:blip r:embed="rId1"/>
          <a:stretch/>
        </p:blipFill>
        <p:spPr>
          <a:xfrm>
            <a:off x="4932360" y="3933720"/>
            <a:ext cx="355284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        </a:t>
            </a:r>
            <a:r>
              <a:rPr b="0" lang="ru-RU" sz="3200" spc="-1" strike="noStrike">
                <a:solidFill>
                  <a:srgbClr val="000000"/>
                </a:solidFill>
                <a:latin typeface="Round Script"/>
              </a:rPr>
              <a:t>Технология изготовления куклы</a:t>
            </a:r>
            <a:endParaRPr b="0" lang="en-US" sz="3200" spc="-1" strike="noStrike">
              <a:solidFill>
                <a:srgbClr val="000000"/>
              </a:solidFill>
              <a:latin typeface="Times New Roman"/>
            </a:endParaRPr>
          </a:p>
        </p:txBody>
      </p:sp>
      <p:sp>
        <p:nvSpPr>
          <p:cNvPr id="54" name=""/>
          <p:cNvSpPr txBox="1"/>
          <p:nvPr/>
        </p:nvSpPr>
        <p:spPr>
          <a:xfrm>
            <a:off x="1619280" y="2565000"/>
            <a:ext cx="3168720" cy="356076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Round Script"/>
              </a:rPr>
              <a:t>       </a:t>
            </a:r>
            <a:r>
              <a:rPr b="0" lang="ru-RU" sz="2400" spc="-1" strike="noStrike">
                <a:solidFill>
                  <a:srgbClr val="000000"/>
                </a:solidFill>
                <a:latin typeface="Round Script"/>
              </a:rPr>
              <a:t>Ветошь вкладываем в ложку и закрепляем повойником ,  подвязывая его  вокруг ложки. Узелок находится  в затылочной части головы.</a:t>
            </a:r>
            <a:endParaRPr b="0" lang="en-US" sz="2400" spc="-1" strike="noStrike">
              <a:solidFill>
                <a:srgbClr val="000000"/>
              </a:solidFill>
              <a:latin typeface="Times New Roman"/>
            </a:endParaRPr>
          </a:p>
        </p:txBody>
      </p:sp>
      <p:pic>
        <p:nvPicPr>
          <p:cNvPr id="55" name="Picture 2" descr="L:\Ложка\DSC04709.JPG"/>
          <p:cNvPicPr/>
          <p:nvPr/>
        </p:nvPicPr>
        <p:blipFill>
          <a:blip r:embed="rId1"/>
          <a:stretch/>
        </p:blipFill>
        <p:spPr>
          <a:xfrm>
            <a:off x="4859280" y="1127160"/>
            <a:ext cx="3132360" cy="2347920"/>
          </a:xfrm>
          <a:prstGeom prst="rect">
            <a:avLst/>
          </a:prstGeom>
          <a:ln w="0">
            <a:noFill/>
          </a:ln>
        </p:spPr>
      </p:pic>
      <p:pic>
        <p:nvPicPr>
          <p:cNvPr id="56" name="Picture 3" descr="L:\Ложка\DSC04713.JPG"/>
          <p:cNvPicPr/>
          <p:nvPr/>
        </p:nvPicPr>
        <p:blipFill>
          <a:blip r:embed="rId2"/>
          <a:stretch/>
        </p:blipFill>
        <p:spPr>
          <a:xfrm>
            <a:off x="4859280" y="3591000"/>
            <a:ext cx="3132360" cy="23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03280" y="333360"/>
            <a:ext cx="728352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Round Script"/>
              </a:rPr>
              <a:t>Для рук пригодится ткань  цветная или телесного цвета ( к примеру двунитка). Загибаем край полотна, складываем и туго стягиваем красной ниткой. Получается манжет.</a:t>
            </a:r>
            <a:endParaRPr b="0" lang="en-US" sz="2200" spc="-1" strike="noStrike">
              <a:solidFill>
                <a:srgbClr val="000000"/>
              </a:solidFill>
              <a:latin typeface="Times New Roman"/>
            </a:endParaRPr>
          </a:p>
        </p:txBody>
      </p:sp>
      <p:pic>
        <p:nvPicPr>
          <p:cNvPr id="58" name="Picture 2" descr="L:\Ложка\DSC04714.JPG"/>
          <p:cNvPicPr/>
          <p:nvPr/>
        </p:nvPicPr>
        <p:blipFill>
          <a:blip r:embed="rId1"/>
          <a:stretch/>
        </p:blipFill>
        <p:spPr>
          <a:xfrm>
            <a:off x="395280" y="1773360"/>
            <a:ext cx="3384720" cy="2538360"/>
          </a:xfrm>
          <a:prstGeom prst="rect">
            <a:avLst/>
          </a:prstGeom>
          <a:ln w="0">
            <a:noFill/>
          </a:ln>
        </p:spPr>
      </p:pic>
      <p:pic>
        <p:nvPicPr>
          <p:cNvPr id="59" name="Picture 5" descr="L:\Ложка\DSC04716.JPG"/>
          <p:cNvPicPr/>
          <p:nvPr/>
        </p:nvPicPr>
        <p:blipFill>
          <a:blip r:embed="rId2"/>
          <a:stretch/>
        </p:blipFill>
        <p:spPr>
          <a:xfrm>
            <a:off x="5364000" y="2133720"/>
            <a:ext cx="3322800" cy="2492280"/>
          </a:xfrm>
          <a:prstGeom prst="rect">
            <a:avLst/>
          </a:prstGeom>
          <a:ln w="0">
            <a:noFill/>
          </a:ln>
        </p:spPr>
      </p:pic>
      <p:pic>
        <p:nvPicPr>
          <p:cNvPr id="60" name="Picture 6" descr="L:\Ложка\DSC04718.JPG"/>
          <p:cNvPicPr/>
          <p:nvPr/>
        </p:nvPicPr>
        <p:blipFill>
          <a:blip r:embed="rId3"/>
          <a:stretch/>
        </p:blipFill>
        <p:spPr>
          <a:xfrm>
            <a:off x="2987640" y="4149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ound Script"/>
              </a:rPr>
              <a:t>Подвязываем ручки к ложке.</a:t>
            </a:r>
            <a:endParaRPr b="0" lang="en-US" sz="3200" spc="-1" strike="noStrike">
              <a:solidFill>
                <a:srgbClr val="000000"/>
              </a:solidFill>
              <a:latin typeface="Times New Roman"/>
            </a:endParaRPr>
          </a:p>
        </p:txBody>
      </p:sp>
      <p:pic>
        <p:nvPicPr>
          <p:cNvPr id="62" name="Picture 2" descr="L:\Ложка\DSC04722.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Пользователь</cp:lastModifiedBy>
  <dcterms:modified xsi:type="dcterms:W3CDTF">2018-01-22T13:45:13Z</dcterms:modified>
  <cp:revision>43</cp:revision>
  <dc:subject/>
  <dc:title>Слайд 1</dc:title>
</cp:coreProperties>
</file>