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8C7-2828-471F-B2AE-6C3B926B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532-7A5B-4C20-A15C-A35BED2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5CB-BBAB-47C2-A931-1BA345E5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E1C-44CB-4F5E-8EBC-8704072D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BEAB-F951-43EA-B93D-6C9F27D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553-B0B9-4E18-BDFC-3DBC032A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ED3-6340-4948-862F-5AB83D62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AD3-3BFF-480D-97CF-98F8688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686-6B11-4640-B7D5-D17714E3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191-CFCD-4BC8-956F-9D8E71E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E67-ECB6-4760-A706-FD4D9B03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F82-D8AC-465A-8A65-5C4B3103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0DA-56C7-466D-AEC0-F6E287232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33400" y="157320"/>
            <a:ext cx="39625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ИКИ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ИЦЫ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79360" y="5587560"/>
            <a:ext cx="367020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Криушинская С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: Нельде Т. 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184320" y="2200320"/>
            <a:ext cx="2108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C:\Users\Немцы\AppData\Local\Microsoft\Windows\Temporary Internet Files\Content.IE5\TDVWWZUI\343[1].png"/>
          <p:cNvPicPr/>
          <p:nvPr/>
        </p:nvPicPr>
        <p:blipFill>
          <a:blip r:embed="rId1"/>
          <a:stretch/>
        </p:blipFill>
        <p:spPr>
          <a:xfrm>
            <a:off x="7124760" y="552600"/>
            <a:ext cx="4565520" cy="448128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25560" y="2792520"/>
            <a:ext cx="7778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огического мыш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ыслительных опера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я решать нестандартные 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Заголовок 1"/>
          <p:cNvSpPr/>
          <p:nvPr/>
        </p:nvSpPr>
        <p:spPr>
          <a:xfrm>
            <a:off x="3025800" y="130320"/>
            <a:ext cx="52545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УМАЙ И НАПИШ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одзаголовок 2"/>
          <p:cNvSpPr/>
          <p:nvPr/>
        </p:nvSpPr>
        <p:spPr>
          <a:xfrm>
            <a:off x="363600" y="65232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одзаголовок 2"/>
          <p:cNvSpPr/>
          <p:nvPr/>
        </p:nvSpPr>
        <p:spPr>
          <a:xfrm>
            <a:off x="1117440" y="3219480"/>
            <a:ext cx="1459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8 8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1990800" y="2695680"/>
            <a:ext cx="360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одзаголовок 2"/>
          <p:cNvSpPr/>
          <p:nvPr/>
        </p:nvSpPr>
        <p:spPr>
          <a:xfrm>
            <a:off x="1157400" y="1908000"/>
            <a:ext cx="1460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одзаголовок 2"/>
          <p:cNvSpPr/>
          <p:nvPr/>
        </p:nvSpPr>
        <p:spPr>
          <a:xfrm>
            <a:off x="1511280" y="2284560"/>
            <a:ext cx="959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одзаголовок 2"/>
          <p:cNvSpPr/>
          <p:nvPr/>
        </p:nvSpPr>
        <p:spPr>
          <a:xfrm>
            <a:off x="1009800" y="1440000"/>
            <a:ext cx="14605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одзаголовок 2"/>
          <p:cNvSpPr/>
          <p:nvPr/>
        </p:nvSpPr>
        <p:spPr>
          <a:xfrm>
            <a:off x="903240" y="1674720"/>
            <a:ext cx="360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>
            <a:off x="1073160" y="3132000"/>
            <a:ext cx="13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одзаголовок 2"/>
          <p:cNvSpPr/>
          <p:nvPr/>
        </p:nvSpPr>
        <p:spPr>
          <a:xfrm>
            <a:off x="952560" y="1440000"/>
            <a:ext cx="14605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4 2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одзаголовок 2"/>
          <p:cNvSpPr/>
          <p:nvPr/>
        </p:nvSpPr>
        <p:spPr>
          <a:xfrm>
            <a:off x="1120680" y="1924200"/>
            <a:ext cx="1460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одзаголовок 2"/>
          <p:cNvSpPr/>
          <p:nvPr/>
        </p:nvSpPr>
        <p:spPr>
          <a:xfrm>
            <a:off x="1467000" y="2289240"/>
            <a:ext cx="9586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одзаголовок 2"/>
          <p:cNvSpPr/>
          <p:nvPr/>
        </p:nvSpPr>
        <p:spPr>
          <a:xfrm>
            <a:off x="1986120" y="2679840"/>
            <a:ext cx="36036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одзаголовок 2"/>
          <p:cNvSpPr/>
          <p:nvPr/>
        </p:nvSpPr>
        <p:spPr>
          <a:xfrm>
            <a:off x="4457880" y="1469880"/>
            <a:ext cx="1734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одзаголовок 2"/>
          <p:cNvSpPr/>
          <p:nvPr/>
        </p:nvSpPr>
        <p:spPr>
          <a:xfrm>
            <a:off x="4457880" y="2060640"/>
            <a:ext cx="1734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одзаголовок 2"/>
          <p:cNvSpPr/>
          <p:nvPr/>
        </p:nvSpPr>
        <p:spPr>
          <a:xfrm>
            <a:off x="4521240" y="2649600"/>
            <a:ext cx="173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одзаголовок 2"/>
          <p:cNvSpPr/>
          <p:nvPr/>
        </p:nvSpPr>
        <p:spPr>
          <a:xfrm>
            <a:off x="6912000" y="15210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одзаголовок 2"/>
          <p:cNvSpPr/>
          <p:nvPr/>
        </p:nvSpPr>
        <p:spPr>
          <a:xfrm>
            <a:off x="6923160" y="2058840"/>
            <a:ext cx="1735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одзаголовок 2"/>
          <p:cNvSpPr/>
          <p:nvPr/>
        </p:nvSpPr>
        <p:spPr>
          <a:xfrm>
            <a:off x="6912000" y="2695680"/>
            <a:ext cx="173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одзаголовок 2"/>
          <p:cNvSpPr/>
          <p:nvPr/>
        </p:nvSpPr>
        <p:spPr>
          <a:xfrm>
            <a:off x="4457880" y="1509840"/>
            <a:ext cx="1734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5 3 0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одзаголовок 2"/>
          <p:cNvSpPr/>
          <p:nvPr/>
        </p:nvSpPr>
        <p:spPr>
          <a:xfrm>
            <a:off x="4443480" y="2073240"/>
            <a:ext cx="1735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5 3 0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одзаголовок 2"/>
          <p:cNvSpPr/>
          <p:nvPr/>
        </p:nvSpPr>
        <p:spPr>
          <a:xfrm>
            <a:off x="4505400" y="2649600"/>
            <a:ext cx="1736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 6 1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одзаголовок 2"/>
          <p:cNvSpPr/>
          <p:nvPr/>
        </p:nvSpPr>
        <p:spPr>
          <a:xfrm>
            <a:off x="6912000" y="1552680"/>
            <a:ext cx="173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 7 6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одзаголовок 2"/>
          <p:cNvSpPr/>
          <p:nvPr/>
        </p:nvSpPr>
        <p:spPr>
          <a:xfrm>
            <a:off x="6867360" y="205272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8 4 9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одзаголовок 2"/>
          <p:cNvSpPr/>
          <p:nvPr/>
        </p:nvSpPr>
        <p:spPr>
          <a:xfrm>
            <a:off x="6851520" y="2701800"/>
            <a:ext cx="173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 9 2 5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одзаголовок 2"/>
          <p:cNvSpPr/>
          <p:nvPr/>
        </p:nvSpPr>
        <p:spPr>
          <a:xfrm>
            <a:off x="4257720" y="1778040"/>
            <a:ext cx="360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одзаголовок 2"/>
          <p:cNvSpPr/>
          <p:nvPr/>
        </p:nvSpPr>
        <p:spPr>
          <a:xfrm>
            <a:off x="6845400" y="1684440"/>
            <a:ext cx="360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ямая соединительная линия 31"/>
          <p:cNvSpPr/>
          <p:nvPr/>
        </p:nvSpPr>
        <p:spPr>
          <a:xfrm>
            <a:off x="4618080" y="2625840"/>
            <a:ext cx="138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ая соединительная линия 32"/>
          <p:cNvSpPr/>
          <p:nvPr/>
        </p:nvSpPr>
        <p:spPr>
          <a:xfrm>
            <a:off x="7026120" y="2625840"/>
            <a:ext cx="13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Заголовок 1"/>
          <p:cNvSpPr/>
          <p:nvPr/>
        </p:nvSpPr>
        <p:spPr>
          <a:xfrm>
            <a:off x="3156120" y="309600"/>
            <a:ext cx="52545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БЕРИ СЛО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одзаголовок 2"/>
          <p:cNvSpPr/>
          <p:nvPr/>
        </p:nvSpPr>
        <p:spPr>
          <a:xfrm>
            <a:off x="363600" y="65232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одзаголовок 2"/>
          <p:cNvSpPr/>
          <p:nvPr/>
        </p:nvSpPr>
        <p:spPr>
          <a:xfrm>
            <a:off x="1455840" y="1784520"/>
            <a:ext cx="10144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одзаголовок 2"/>
          <p:cNvSpPr/>
          <p:nvPr/>
        </p:nvSpPr>
        <p:spPr>
          <a:xfrm>
            <a:off x="1455840" y="2403360"/>
            <a:ext cx="101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Подзаголовок 2"/>
          <p:cNvSpPr/>
          <p:nvPr/>
        </p:nvSpPr>
        <p:spPr>
          <a:xfrm>
            <a:off x="1481040" y="3052800"/>
            <a:ext cx="101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одзаголовок 2"/>
          <p:cNvSpPr/>
          <p:nvPr/>
        </p:nvSpPr>
        <p:spPr>
          <a:xfrm>
            <a:off x="1481040" y="3710160"/>
            <a:ext cx="101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одзаголовок 2"/>
          <p:cNvSpPr/>
          <p:nvPr/>
        </p:nvSpPr>
        <p:spPr>
          <a:xfrm>
            <a:off x="1530360" y="4343400"/>
            <a:ext cx="101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одзаголовок 2"/>
          <p:cNvSpPr/>
          <p:nvPr/>
        </p:nvSpPr>
        <p:spPr>
          <a:xfrm>
            <a:off x="4968720" y="3483000"/>
            <a:ext cx="15224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. . . 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одзаголовок 2"/>
          <p:cNvSpPr/>
          <p:nvPr/>
        </p:nvSpPr>
        <p:spPr>
          <a:xfrm>
            <a:off x="5006880" y="3432240"/>
            <a:ext cx="1551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ая соединительная линия 13"/>
          <p:cNvSpPr/>
          <p:nvPr/>
        </p:nvSpPr>
        <p:spPr>
          <a:xfrm flipV="1">
            <a:off x="2246400" y="3875040"/>
            <a:ext cx="2722320" cy="6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Прямая соединительная линия 14"/>
          <p:cNvSpPr/>
          <p:nvPr/>
        </p:nvSpPr>
        <p:spPr>
          <a:xfrm>
            <a:off x="2138400" y="3321000"/>
            <a:ext cx="2830320" cy="27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ая соединительная линия 15"/>
          <p:cNvSpPr/>
          <p:nvPr/>
        </p:nvSpPr>
        <p:spPr>
          <a:xfrm flipV="1">
            <a:off x="2214720" y="3701520"/>
            <a:ext cx="2754000" cy="22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ая соединительная линия 16"/>
          <p:cNvSpPr/>
          <p:nvPr/>
        </p:nvSpPr>
        <p:spPr>
          <a:xfrm>
            <a:off x="2214720" y="2674800"/>
            <a:ext cx="2754000" cy="84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ая соединительная линия 17"/>
          <p:cNvSpPr/>
          <p:nvPr/>
        </p:nvSpPr>
        <p:spPr>
          <a:xfrm>
            <a:off x="2189160" y="1987560"/>
            <a:ext cx="2779560" cy="14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Заголовок 1"/>
          <p:cNvSpPr/>
          <p:nvPr/>
        </p:nvSpPr>
        <p:spPr>
          <a:xfrm>
            <a:off x="2227320" y="1276200"/>
            <a:ext cx="78184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ЁЛАЯ 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МЕНКА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1"/>
          <p:cNvSpPr/>
          <p:nvPr/>
        </p:nvSpPr>
        <p:spPr>
          <a:xfrm>
            <a:off x="450720" y="244440"/>
            <a:ext cx="87836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СЬ РЕШАТЬ, СТАРАЯСЬ РАССУЖДАТЬ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Рисунок 1" descr="Описание: C:\Users\Немцы\AppData\Local\Microsoft\Windows\Temporary Internet Files\Content.IE5\PPMTLMUK\wise_owl[1].gif"/>
          <p:cNvPicPr/>
          <p:nvPr/>
        </p:nvPicPr>
        <p:blipFill>
          <a:blip r:embed="rId1"/>
          <a:stretch/>
        </p:blipFill>
        <p:spPr>
          <a:xfrm>
            <a:off x="8362800" y="244440"/>
            <a:ext cx="365472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одзаголовок 2"/>
          <p:cNvSpPr/>
          <p:nvPr/>
        </p:nvSpPr>
        <p:spPr>
          <a:xfrm>
            <a:off x="915840" y="1579680"/>
            <a:ext cx="1298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515880" y="80496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996840" y="2270160"/>
            <a:ext cx="1138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одзаголовок 2"/>
          <p:cNvSpPr/>
          <p:nvPr/>
        </p:nvSpPr>
        <p:spPr>
          <a:xfrm>
            <a:off x="1038240" y="3083040"/>
            <a:ext cx="96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одзаголовок 2"/>
          <p:cNvSpPr/>
          <p:nvPr/>
        </p:nvSpPr>
        <p:spPr>
          <a:xfrm>
            <a:off x="1114560" y="3895560"/>
            <a:ext cx="901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одзаголовок 2"/>
          <p:cNvSpPr/>
          <p:nvPr/>
        </p:nvSpPr>
        <p:spPr>
          <a:xfrm>
            <a:off x="1038240" y="4708440"/>
            <a:ext cx="9651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одзаголовок 2"/>
          <p:cNvSpPr/>
          <p:nvPr/>
        </p:nvSpPr>
        <p:spPr>
          <a:xfrm>
            <a:off x="5151600" y="1571760"/>
            <a:ext cx="12985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ая соединительная линия 13"/>
          <p:cNvSpPr/>
          <p:nvPr/>
        </p:nvSpPr>
        <p:spPr>
          <a:xfrm>
            <a:off x="1933560" y="1798560"/>
            <a:ext cx="320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Прямая соединительная линия 14"/>
          <p:cNvSpPr/>
          <p:nvPr/>
        </p:nvSpPr>
        <p:spPr>
          <a:xfrm>
            <a:off x="1965240" y="2505240"/>
            <a:ext cx="32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2233440" y="3083040"/>
            <a:ext cx="1020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2209680" y="1611360"/>
            <a:ext cx="1022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2233440" y="2270160"/>
            <a:ext cx="1020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одзаголовок 2"/>
          <p:cNvSpPr/>
          <p:nvPr/>
        </p:nvSpPr>
        <p:spPr>
          <a:xfrm>
            <a:off x="2254320" y="3903840"/>
            <a:ext cx="10224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дзаголовок 2"/>
          <p:cNvSpPr/>
          <p:nvPr/>
        </p:nvSpPr>
        <p:spPr>
          <a:xfrm>
            <a:off x="2254320" y="4716360"/>
            <a:ext cx="1022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Прямая соединительная линия 21"/>
          <p:cNvSpPr/>
          <p:nvPr/>
        </p:nvSpPr>
        <p:spPr>
          <a:xfrm>
            <a:off x="1965240" y="4943520"/>
            <a:ext cx="32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1952640" y="4130640"/>
            <a:ext cx="32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1998720" y="3308400"/>
            <a:ext cx="32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Заголовок 1"/>
          <p:cNvSpPr/>
          <p:nvPr/>
        </p:nvSpPr>
        <p:spPr>
          <a:xfrm>
            <a:off x="3276720" y="450720"/>
            <a:ext cx="5254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УМАЙ И НАПИШ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1"/>
          <p:cNvSpPr/>
          <p:nvPr/>
        </p:nvSpPr>
        <p:spPr>
          <a:xfrm>
            <a:off x="3798720" y="298440"/>
            <a:ext cx="87836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ДЦЫ!!!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Заголовок 1"/>
          <p:cNvSpPr/>
          <p:nvPr/>
        </p:nvSpPr>
        <p:spPr>
          <a:xfrm>
            <a:off x="254160" y="3619440"/>
            <a:ext cx="828324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ПАСИБО ЗА РАБОТУ!!!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Рисунок 1" descr="https://i12.fotocdn.net/s4/2/gallery_m/332/2418756353.jpg"/>
          <p:cNvPicPr/>
          <p:nvPr/>
        </p:nvPicPr>
        <p:blipFill>
          <a:blip r:embed="rId1"/>
          <a:stretch/>
        </p:blipFill>
        <p:spPr>
          <a:xfrm>
            <a:off x="8018640" y="3306600"/>
            <a:ext cx="3958920" cy="3329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http://i4.tabor.ru/feed/2017-01-19/7274632/307509_760x500.jpg"/>
          <p:cNvPicPr/>
          <p:nvPr/>
        </p:nvPicPr>
        <p:blipFill>
          <a:blip r:embed="rId2"/>
          <a:stretch/>
        </p:blipFill>
        <p:spPr>
          <a:xfrm>
            <a:off x="352440" y="298440"/>
            <a:ext cx="404352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4365720" y="157320"/>
            <a:ext cx="32493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ИН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200160" y="576360"/>
            <a:ext cx="7617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250920" y="3576600"/>
            <a:ext cx="681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5537160" y="623880"/>
            <a:ext cx="549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5537160" y="3576600"/>
            <a:ext cx="600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http://rtr.md/wp-content/uploads/2016/08/%D0%96%D0%B5%D0%BB%D0%B5%D0%B7%D0%BD%D0%B0%D1%8F-%D0%B4%D0%BE%D1%80%D0%BE%D0%B3%D0%B0.jpg"/>
          <p:cNvPicPr/>
          <p:nvPr/>
        </p:nvPicPr>
        <p:blipFill>
          <a:blip r:embed="rId1"/>
          <a:stretch/>
        </p:blipFill>
        <p:spPr>
          <a:xfrm>
            <a:off x="961920" y="576360"/>
            <a:ext cx="4002120" cy="30002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http://s44.radikal.ru/i105/0809/48/60c2a58c9649.jpg"/>
          <p:cNvPicPr/>
          <p:nvPr/>
        </p:nvPicPr>
        <p:blipFill>
          <a:blip r:embed="rId2"/>
          <a:stretch/>
        </p:blipFill>
        <p:spPr>
          <a:xfrm>
            <a:off x="6659640" y="662040"/>
            <a:ext cx="3875040" cy="2914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http://www.playcast.ru/uploads/2017/05/15/22594224.gif"/>
          <p:cNvPicPr/>
          <p:nvPr/>
        </p:nvPicPr>
        <p:blipFill>
          <a:blip r:embed="rId3"/>
          <a:stretch/>
        </p:blipFill>
        <p:spPr>
          <a:xfrm>
            <a:off x="961920" y="3670200"/>
            <a:ext cx="4002120" cy="3013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img1.liveinternet.ru/images/attach/c/4/81/943/81943245_large_2795685_Skazka_o_zolotom_petyshke_12.jpg"/>
          <p:cNvPicPr/>
          <p:nvPr/>
        </p:nvPicPr>
        <p:blipFill>
          <a:blip r:embed="rId4"/>
          <a:stretch/>
        </p:blipFill>
        <p:spPr>
          <a:xfrm>
            <a:off x="6659640" y="3670200"/>
            <a:ext cx="3875040" cy="3013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3" descr="https://static.my-shop.ru/product/3/134/1334513.jpg"/>
          <p:cNvPicPr/>
          <p:nvPr/>
        </p:nvPicPr>
        <p:blipFill>
          <a:blip r:embed="rId5"/>
          <a:stretch/>
        </p:blipFill>
        <p:spPr>
          <a:xfrm>
            <a:off x="6659640" y="3670200"/>
            <a:ext cx="3875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дзаголовок 2"/>
          <p:cNvSpPr/>
          <p:nvPr/>
        </p:nvSpPr>
        <p:spPr>
          <a:xfrm>
            <a:off x="208080" y="1198440"/>
            <a:ext cx="641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208080" y="4971960"/>
            <a:ext cx="628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5962680" y="2473200"/>
            <a:ext cx="671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297000" y="249120"/>
            <a:ext cx="552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7432560" y="249120"/>
            <a:ext cx="603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5913360" y="4552920"/>
            <a:ext cx="836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3832200" y="157320"/>
            <a:ext cx="3143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ИН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068480" y="149400"/>
            <a:ext cx="8366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http://prostokoshka.ru/wp-content/uploads/2015/10/SHalash.jpg"/>
          <p:cNvPicPr/>
          <p:nvPr/>
        </p:nvPicPr>
        <p:blipFill>
          <a:blip r:embed="rId1"/>
          <a:stretch/>
        </p:blipFill>
        <p:spPr>
          <a:xfrm>
            <a:off x="1025640" y="1198440"/>
            <a:ext cx="4643280" cy="3486240"/>
          </a:xfrm>
          <a:prstGeom prst="rect">
            <a:avLst/>
          </a:prstGeom>
          <a:ln w="0">
            <a:noFill/>
          </a:ln>
        </p:spPr>
      </p:pic>
      <p:sp>
        <p:nvSpPr>
          <p:cNvPr id="65" name="Подзаголовок 2"/>
          <p:cNvSpPr/>
          <p:nvPr/>
        </p:nvSpPr>
        <p:spPr>
          <a:xfrm>
            <a:off x="942840" y="5073480"/>
            <a:ext cx="2668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>
            <a:off x="1068480" y="5276880"/>
            <a:ext cx="4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8" descr="http://images.crafta.ua/collecting-items/6513135119"/>
          <p:cNvPicPr/>
          <p:nvPr/>
        </p:nvPicPr>
        <p:blipFill>
          <a:blip r:embed="rId2"/>
          <a:stretch/>
        </p:blipFill>
        <p:spPr>
          <a:xfrm>
            <a:off x="6634080" y="2144880"/>
            <a:ext cx="5023080" cy="2182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9" descr="https://botan.cc/prepod/_bloks/pic/wbuklwe-005.jpg"/>
          <p:cNvPicPr/>
          <p:nvPr/>
        </p:nvPicPr>
        <p:blipFill>
          <a:blip r:embed="rId3"/>
          <a:stretch/>
        </p:blipFill>
        <p:spPr>
          <a:xfrm>
            <a:off x="6993000" y="4627440"/>
            <a:ext cx="4559400" cy="2070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https://master-nalchik.ru/image/cache/catalog/old_bmshop/products/4094bceb78-800x800.jpg"/>
          <p:cNvPicPr/>
          <p:nvPr/>
        </p:nvPicPr>
        <p:blipFill>
          <a:blip r:embed="rId4"/>
          <a:stretch/>
        </p:blipFill>
        <p:spPr>
          <a:xfrm>
            <a:off x="8666280" y="14940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1"/>
          <p:cNvSpPr/>
          <p:nvPr/>
        </p:nvSpPr>
        <p:spPr>
          <a:xfrm>
            <a:off x="3206880" y="195120"/>
            <a:ext cx="6748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 ЗАКОНОМЕР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439560" y="662040"/>
            <a:ext cx="2108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rcRect l="14805" t="46436" r="7332" b="31326"/>
          <a:stretch/>
        </p:blipFill>
        <p:spPr>
          <a:xfrm>
            <a:off x="635040" y="1484280"/>
            <a:ext cx="8559720" cy="49039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"/>
          <p:cNvPicPr/>
          <p:nvPr/>
        </p:nvPicPr>
        <p:blipFill>
          <a:blip r:embed="rId2"/>
          <a:srcRect l="52978" t="48720" r="35898" b="41205"/>
          <a:stretch/>
        </p:blipFill>
        <p:spPr>
          <a:xfrm>
            <a:off x="2678040" y="4869000"/>
            <a:ext cx="105732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одзаголовок 2"/>
          <p:cNvSpPr/>
          <p:nvPr/>
        </p:nvSpPr>
        <p:spPr>
          <a:xfrm>
            <a:off x="426960" y="588960"/>
            <a:ext cx="2108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2627280" y="449280"/>
            <a:ext cx="77788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 вместо точек слово из трёх букв, которое служило бы окончанием первого слова и началом втор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3884760" y="1814400"/>
            <a:ext cx="136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481040" y="1762200"/>
            <a:ext cx="101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4051440" y="3213000"/>
            <a:ext cx="1015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4051440" y="4653000"/>
            <a:ext cx="1338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ЁШ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4057560" y="2414520"/>
            <a:ext cx="1015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1676520" y="5264280"/>
            <a:ext cx="1014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4092480" y="5211720"/>
            <a:ext cx="1014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611360" y="4662360"/>
            <a:ext cx="1015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611360" y="3973680"/>
            <a:ext cx="1425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4051440" y="3973680"/>
            <a:ext cx="101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676520" y="3236760"/>
            <a:ext cx="10141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2719440" y="5165640"/>
            <a:ext cx="1120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2492280" y="2451240"/>
            <a:ext cx="11732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2768760" y="3187800"/>
            <a:ext cx="914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2789280" y="4575240"/>
            <a:ext cx="982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2593800" y="1757520"/>
            <a:ext cx="970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2774880" y="3963960"/>
            <a:ext cx="10112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 . 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1519200" y="2414520"/>
            <a:ext cx="1015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2479680" y="2452680"/>
            <a:ext cx="136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ЛО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2511360" y="1787400"/>
            <a:ext cx="1360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ВА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2690640" y="3213000"/>
            <a:ext cx="136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КО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2732040" y="3932280"/>
            <a:ext cx="1360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РО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2690640" y="4599000"/>
            <a:ext cx="1360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М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2660760" y="5186520"/>
            <a:ext cx="13604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БОР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Заголовок 1"/>
          <p:cNvSpPr/>
          <p:nvPr/>
        </p:nvSpPr>
        <p:spPr>
          <a:xfrm>
            <a:off x="2952720" y="547560"/>
            <a:ext cx="4148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ИШИ СЛОВ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819000" y="1317600"/>
            <a:ext cx="408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   1      2     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819000" y="2246400"/>
            <a:ext cx="408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     6      2     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938160" y="3182760"/>
            <a:ext cx="408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     20      21     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938160" y="4413240"/>
            <a:ext cx="4087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     16      20      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4906800" y="1333440"/>
            <a:ext cx="325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      А      Б      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4708440" y="3182760"/>
            <a:ext cx="3252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    Т      У      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5073480" y="2085840"/>
            <a:ext cx="3252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      Е      Б      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одзаголовок 2"/>
          <p:cNvSpPr/>
          <p:nvPr/>
        </p:nvSpPr>
        <p:spPr>
          <a:xfrm>
            <a:off x="4906800" y="4322880"/>
            <a:ext cx="3252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    О      Т      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одзаголовок 2"/>
          <p:cNvSpPr/>
          <p:nvPr/>
        </p:nvSpPr>
        <p:spPr>
          <a:xfrm>
            <a:off x="363600" y="65232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2952720" y="547560"/>
            <a:ext cx="7839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ИШИ НЕДОСТАЮЩЕЕ ЧИСЛО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363600" y="65232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одзаголовок 2"/>
          <p:cNvSpPr/>
          <p:nvPr/>
        </p:nvSpPr>
        <p:spPr>
          <a:xfrm>
            <a:off x="655560" y="1644480"/>
            <a:ext cx="3414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25)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655560" y="2401920"/>
            <a:ext cx="341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5 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1935000" y="2401920"/>
            <a:ext cx="1017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5483160" y="1644480"/>
            <a:ext cx="3414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27)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дзаголовок 2"/>
          <p:cNvSpPr/>
          <p:nvPr/>
        </p:nvSpPr>
        <p:spPr>
          <a:xfrm>
            <a:off x="5483160" y="2273400"/>
            <a:ext cx="3414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    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    )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6578640" y="2273400"/>
            <a:ext cx="12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1832040" y="2389320"/>
            <a:ext cx="1224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одзаголовок 2"/>
          <p:cNvSpPr/>
          <p:nvPr/>
        </p:nvSpPr>
        <p:spPr>
          <a:xfrm>
            <a:off x="6680160" y="2273400"/>
            <a:ext cx="1019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2808360" y="157320"/>
            <a:ext cx="591012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РИГИРУЮЩАЯ ГИМНАСТИК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ГЛАЗ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3133800" y="3098880"/>
            <a:ext cx="5018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АЛЕЦ  ДВОИТС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3254400" y="4986360"/>
            <a:ext cx="50180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ИСЬМО  НОСОМ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3206880" y="195120"/>
            <a:ext cx="6748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 ЗАКОНОМЕРНОСТЬ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дзаголовок 2"/>
          <p:cNvSpPr/>
          <p:nvPr/>
        </p:nvSpPr>
        <p:spPr>
          <a:xfrm>
            <a:off x="363600" y="652320"/>
            <a:ext cx="2106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дзаголовок 2"/>
          <p:cNvSpPr/>
          <p:nvPr/>
        </p:nvSpPr>
        <p:spPr>
          <a:xfrm>
            <a:off x="587520" y="1512720"/>
            <a:ext cx="5040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О  (НОТА)  ТАЛЬ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дзаголовок 2"/>
          <p:cNvSpPr/>
          <p:nvPr/>
        </p:nvSpPr>
        <p:spPr>
          <a:xfrm>
            <a:off x="1619280" y="1512720"/>
            <a:ext cx="1015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дзаголовок 2"/>
          <p:cNvSpPr/>
          <p:nvPr/>
        </p:nvSpPr>
        <p:spPr>
          <a:xfrm>
            <a:off x="3432240" y="1512720"/>
            <a:ext cx="1015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одзаголовок 2"/>
          <p:cNvSpPr/>
          <p:nvPr/>
        </p:nvSpPr>
        <p:spPr>
          <a:xfrm>
            <a:off x="2317680" y="1512720"/>
            <a:ext cx="1014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одзаголовок 2"/>
          <p:cNvSpPr/>
          <p:nvPr/>
        </p:nvSpPr>
        <p:spPr>
          <a:xfrm>
            <a:off x="2773440" y="1512720"/>
            <a:ext cx="1015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одзаголовок 2"/>
          <p:cNvSpPr/>
          <p:nvPr/>
        </p:nvSpPr>
        <p:spPr>
          <a:xfrm>
            <a:off x="1119240" y="2139840"/>
            <a:ext cx="39765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Е                   КА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одзаголовок 2"/>
          <p:cNvSpPr/>
          <p:nvPr/>
        </p:nvSpPr>
        <p:spPr>
          <a:xfrm>
            <a:off x="1730520" y="2154240"/>
            <a:ext cx="795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2317680" y="2168640"/>
            <a:ext cx="793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Р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одзаголовок 2"/>
          <p:cNvSpPr/>
          <p:nvPr/>
        </p:nvSpPr>
        <p:spPr>
          <a:xfrm>
            <a:off x="3632040" y="2154240"/>
            <a:ext cx="793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одзаголовок 2"/>
          <p:cNvSpPr/>
          <p:nvPr/>
        </p:nvSpPr>
        <p:spPr>
          <a:xfrm>
            <a:off x="2905200" y="2139840"/>
            <a:ext cx="793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одзаголовок 2"/>
          <p:cNvSpPr/>
          <p:nvPr/>
        </p:nvSpPr>
        <p:spPr>
          <a:xfrm>
            <a:off x="2127240" y="2111400"/>
            <a:ext cx="1504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. . . 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одзаголовок 2"/>
          <p:cNvSpPr/>
          <p:nvPr/>
        </p:nvSpPr>
        <p:spPr>
          <a:xfrm>
            <a:off x="6324480" y="1512720"/>
            <a:ext cx="4545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О   (СЕЛО)  ЛОШАД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6473880" y="1515960"/>
            <a:ext cx="846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7742160" y="1509840"/>
            <a:ext cx="846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8197920" y="1503360"/>
            <a:ext cx="84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8699400" y="2111400"/>
            <a:ext cx="84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6324480" y="2111400"/>
            <a:ext cx="3686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Я               Р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дзаголовок 2"/>
          <p:cNvSpPr/>
          <p:nvPr/>
        </p:nvSpPr>
        <p:spPr>
          <a:xfrm>
            <a:off x="7742160" y="2100240"/>
            <a:ext cx="8463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одзаголовок 2"/>
          <p:cNvSpPr/>
          <p:nvPr/>
        </p:nvSpPr>
        <p:spPr>
          <a:xfrm>
            <a:off x="6640560" y="2139840"/>
            <a:ext cx="847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одзаголовок 2"/>
          <p:cNvSpPr/>
          <p:nvPr/>
        </p:nvSpPr>
        <p:spPr>
          <a:xfrm>
            <a:off x="8862840" y="1508040"/>
            <a:ext cx="846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одзаголовок 2"/>
          <p:cNvSpPr/>
          <p:nvPr/>
        </p:nvSpPr>
        <p:spPr>
          <a:xfrm>
            <a:off x="8236080" y="2075040"/>
            <a:ext cx="847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7583400" y="2079720"/>
            <a:ext cx="154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. . . 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587520" y="3259080"/>
            <a:ext cx="4981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                    РЕСТОР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одзаголовок 2"/>
          <p:cNvSpPr/>
          <p:nvPr/>
        </p:nvSpPr>
        <p:spPr>
          <a:xfrm>
            <a:off x="1511280" y="3271680"/>
            <a:ext cx="507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одзаголовок 2"/>
          <p:cNvSpPr/>
          <p:nvPr/>
        </p:nvSpPr>
        <p:spPr>
          <a:xfrm>
            <a:off x="757080" y="4538520"/>
            <a:ext cx="4545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А                  ТРАВИ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1644480" y="4551480"/>
            <a:ext cx="406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одзаголовок 2"/>
          <p:cNvSpPr/>
          <p:nvPr/>
        </p:nvSpPr>
        <p:spPr>
          <a:xfrm>
            <a:off x="2502000" y="3287880"/>
            <a:ext cx="10015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973160" y="3259080"/>
            <a:ext cx="639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308240" y="3271680"/>
            <a:ext cx="5079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одзаголовок 2"/>
          <p:cNvSpPr/>
          <p:nvPr/>
        </p:nvSpPr>
        <p:spPr>
          <a:xfrm>
            <a:off x="2263680" y="3259080"/>
            <a:ext cx="506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одзаголовок 2"/>
          <p:cNvSpPr/>
          <p:nvPr/>
        </p:nvSpPr>
        <p:spPr>
          <a:xfrm>
            <a:off x="3360600" y="3265560"/>
            <a:ext cx="822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одзаголовок 2"/>
          <p:cNvSpPr/>
          <p:nvPr/>
        </p:nvSpPr>
        <p:spPr>
          <a:xfrm>
            <a:off x="1836720" y="4521240"/>
            <a:ext cx="542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457280" y="4554360"/>
            <a:ext cx="4050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одзаголовок 2"/>
          <p:cNvSpPr/>
          <p:nvPr/>
        </p:nvSpPr>
        <p:spPr>
          <a:xfrm>
            <a:off x="2135160" y="4556160"/>
            <a:ext cx="4287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3162240" y="4554360"/>
            <a:ext cx="889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одзаголовок 2"/>
          <p:cNvSpPr/>
          <p:nvPr/>
        </p:nvSpPr>
        <p:spPr>
          <a:xfrm>
            <a:off x="2357280" y="4537080"/>
            <a:ext cx="890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одзаголовок 2"/>
          <p:cNvSpPr/>
          <p:nvPr/>
        </p:nvSpPr>
        <p:spPr>
          <a:xfrm>
            <a:off x="1765440" y="4545000"/>
            <a:ext cx="16459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.  .  .  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одзаголовок 2"/>
          <p:cNvSpPr/>
          <p:nvPr/>
        </p:nvSpPr>
        <p:spPr>
          <a:xfrm>
            <a:off x="1822320" y="3259080"/>
            <a:ext cx="1809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ДРЕ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одзаголовок 2"/>
          <p:cNvSpPr/>
          <p:nvPr/>
        </p:nvSpPr>
        <p:spPr>
          <a:xfrm>
            <a:off x="6124680" y="3054240"/>
            <a:ext cx="4360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Й                СОЛ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одзаголовок 2"/>
          <p:cNvSpPr/>
          <p:nvPr/>
        </p:nvSpPr>
        <p:spPr>
          <a:xfrm>
            <a:off x="6276960" y="4368960"/>
            <a:ext cx="4361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                ПОМ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дзаголовок 2"/>
          <p:cNvSpPr/>
          <p:nvPr/>
        </p:nvSpPr>
        <p:spPr>
          <a:xfrm>
            <a:off x="7488360" y="3038400"/>
            <a:ext cx="1323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Л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одзаголовок 2"/>
          <p:cNvSpPr/>
          <p:nvPr/>
        </p:nvSpPr>
        <p:spPr>
          <a:xfrm>
            <a:off x="7594560" y="4352760"/>
            <a:ext cx="1325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. . . .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одзаголовок 2"/>
          <p:cNvSpPr/>
          <p:nvPr/>
        </p:nvSpPr>
        <p:spPr>
          <a:xfrm>
            <a:off x="7462800" y="3035160"/>
            <a:ext cx="7732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одзаголовок 2"/>
          <p:cNvSpPr/>
          <p:nvPr/>
        </p:nvSpPr>
        <p:spPr>
          <a:xfrm>
            <a:off x="8032680" y="3081240"/>
            <a:ext cx="736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одзаголовок 2"/>
          <p:cNvSpPr/>
          <p:nvPr/>
        </p:nvSpPr>
        <p:spPr>
          <a:xfrm>
            <a:off x="6340320" y="3057480"/>
            <a:ext cx="687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одзаголовок 2"/>
          <p:cNvSpPr/>
          <p:nvPr/>
        </p:nvSpPr>
        <p:spPr>
          <a:xfrm>
            <a:off x="9056520" y="3049560"/>
            <a:ext cx="7002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6470640" y="4368960"/>
            <a:ext cx="730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одзаголовок 2"/>
          <p:cNvSpPr/>
          <p:nvPr/>
        </p:nvSpPr>
        <p:spPr>
          <a:xfrm>
            <a:off x="7677000" y="4361040"/>
            <a:ext cx="774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одзаголовок 2"/>
          <p:cNvSpPr/>
          <p:nvPr/>
        </p:nvSpPr>
        <p:spPr>
          <a:xfrm>
            <a:off x="9221760" y="4368960"/>
            <a:ext cx="79236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одзаголовок 2"/>
          <p:cNvSpPr/>
          <p:nvPr/>
        </p:nvSpPr>
        <p:spPr>
          <a:xfrm>
            <a:off x="8164440" y="4361040"/>
            <a:ext cx="833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04:23:59Z</dcterms:created>
  <dc:creator>pk</dc:creator>
  <dc:description/>
  <dc:language>en-US</dc:language>
  <cp:lastModifiedBy>Татьяна Нельде</cp:lastModifiedBy>
  <dcterms:modified xsi:type="dcterms:W3CDTF">2017-10-23T11:47:47Z</dcterms:modified>
  <cp:revision>27</cp:revision>
  <dc:subject/>
  <dc:title>УМНИКИ И УМНИЦЫ</dc:title>
</cp:coreProperties>
</file>