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8.jpeg" ContentType="image/jpeg"/>
  <Override PartName="/ppt/media/click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12.png" ContentType="image/png"/>
  <Override PartName="/ppt/media/image2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3523-2F64-4E94-B66D-8A7C016C74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AA70-2DE5-4484-B77E-277D4CC20F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FEE1-B01D-4E19-82F3-C8C0C2CD09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878-A1AD-4067-ADBC-E9796B9A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EDB-CAD9-4406-B874-BE1BE0D8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48D-3CFB-4CAB-820A-BF16823B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D4E-E3CA-409D-8FBA-3BEF4ED1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DBE7-7666-43CD-9982-EDB29112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2FD9-BDEC-4E2C-97A0-43A015D5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705B-D89D-4425-A962-089B121D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D5BC-23E4-4C0F-8E9A-A1EDEAFB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F058-0E6F-4171-906C-A8EF1081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38EF-55A3-4EF5-AEFB-1FF68613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EDB4-DF5D-4D5B-A573-7FE96A63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47C-BB3D-49A9-81AD-CE20E8AE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CCD7-3039-46A9-A8BA-8D32F8AB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7BAB-08F7-417E-A636-8F2314DC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26FE-C9AE-4CCE-A06D-485F4EC7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E6B5-88A0-411E-881A-1E3446BF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7D79-9433-4995-8486-F67A85F7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68DB-27AA-4B4F-B77F-4637F50F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4655-D292-479B-BF9A-C58BDF17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3C48-D22D-49E8-91FD-B31AEEEE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CF64-1496-4A11-8290-F676A3F9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918F-241E-41F0-8977-2AACD186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005-CF94-494D-BEA0-4433B1FE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D345-3C4A-4351-B9BD-1F71DC1C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1C3A-CDBB-4B1C-9645-2B4AFF01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B64D-CE9D-47D0-998D-C9D84326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7B6E-FFF4-4071-8BC9-812B6E6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03CC-7BBD-4E00-AFB0-EE41FBF0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50DF-1722-4F8C-B718-CDFEC17E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EC65-A740-46EE-879B-9439A73F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9B115-656B-46F1-839E-5AF45354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7CE1-9986-4C95-85C7-AE04F6A3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D932-5608-42B4-AB62-E8495951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D0E-5EC8-49C5-9448-0D0DD676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66DE-D972-487D-960C-7C5A171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58FA-B4D5-4AA3-8368-77F05987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AA99-AB2B-4722-978F-3110FB44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ACDA-81A0-482A-9911-9093937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08D1-4342-4EE7-ADE3-59E2C21D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840B-7CAE-4EF5-AC74-AB5634FB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9324F-BFC1-47FD-A845-13FAECAA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A2E31-6CBB-4CFA-B291-A8335C6B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10EA-3915-4332-A920-87F6BA50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DD1A9-3029-47A1-B116-CC99BBE8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F69-C482-484A-821C-CD7499E9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B1F5-67F6-4C7E-95AF-B48F1BBD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E717E-586A-4E45-85F4-EE6F5145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2115-70F3-4D12-8F40-DB126F7D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E7F39-903F-4B2B-93B4-E9BBB5C5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502F-5F9F-44DA-B266-BAE53D96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7740-2A26-4ACC-A75E-E90FD8B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B23C-2520-4170-8AF8-6A211A9F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98B3E-0A31-41E1-B07E-2DC00DA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FE1A-722F-4736-9269-CB419F7A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EA42F-AA85-4F09-A101-42A756BB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DBA-15E2-4B64-A167-5EACA12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11689-2118-40E6-957B-B6F19C91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8D6A4-BFFB-41B0-A8A2-DC916E21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B4C8-74F6-47BA-9885-375240FD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855C2-DC14-4B80-8A7C-D3185C3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DA8E6-B767-4C0C-A4F9-4BB53A80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C9573-5448-45D1-B7FA-EE40B3AA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3BBBA-9541-4A27-8D7F-98111E49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DBF4D-293F-4E3E-A797-AB49B73B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27D9B-DDAD-4BE9-94B8-B3CD1EBA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B400-F042-49B1-AE0D-9EFA0FB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621-0DE4-435E-9694-FCA4DCD8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CBFE6-D369-41E7-A06C-EEBE973F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4AFF8-2366-4350-9296-7B69167A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55860-FBD6-4084-92CF-D0310BC4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C3D3C-2186-4CCF-A34D-BFCC7815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9AA84-520A-496D-B227-0E44868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AE157-485F-47A3-824C-CB22F15C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E2FAF-A25C-4FE8-A5FB-09C35404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28FDB-F45F-4F8C-834F-B12B0C1F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525D0-888F-40BA-B7BF-682A1D4C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8486-9DEE-459D-9C7F-0A6201D2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4C5-1BF8-4854-8F34-0A1B3B4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90B81-EDC5-48B3-B979-D7C6AA6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987BD-A51D-4758-BCB0-21AC803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9B0D-8881-4001-B4D5-3DB673FA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9E7A9-44E3-4E27-A1F8-18FD97E4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160D9-8DE9-45AC-B06A-BD0E596D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E9AFB-70CC-4292-93ED-315F8222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4599C-E14F-4027-9351-CDA2646A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40092-F33F-479A-B3D6-094C3451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21DE8-178F-4E6A-B559-4113750E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2ED6E-7BA3-43CE-AA09-67A046A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B15-A9ED-4F37-92F8-F0D812C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06F36-5EDD-4A6B-B89F-40D6343D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500FE-9E38-4A0E-9339-1321F4DA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7487C-AF90-4B89-8730-BF668B6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CAC18-711B-455D-BE2F-B1FE4E9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BB3BC-6466-4322-B199-F799921C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0FE91-9331-475F-9512-E8D65967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1B38B-C4D7-4729-8CFC-0D48C96C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586-1F33-48F0-8E50-D60ADBD05F6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DCF6-7201-4324-AB0B-D51C4A743A3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C4E3-DE33-47A4-A49B-43577F80998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1BD1-EB1E-4A1A-B3AD-3734832135F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35A4-8AC5-4477-9197-1228A125F32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1AEC-BC8D-46BD-807E-A23F7E3DB0F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7A03-A761-4FA3-BEE6-FC7371D2CFE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F329-7945-4611-A311-9A06DB22D1A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Фотоэффект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102120" y="4005360"/>
            <a:ext cx="3701880" cy="2298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Столетов Александр Григорьевич (1839-1896 )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503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сследование фотоэффекта доставило Столетову мировую известность. Столетов показал также возможность применения фотоэффекта на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4" descr="Столетов"/>
          <p:cNvPicPr/>
          <p:nvPr/>
        </p:nvPicPr>
        <p:blipFill>
          <a:blip r:embed="rId1"/>
          <a:stretch/>
        </p:blipFill>
        <p:spPr>
          <a:xfrm>
            <a:off x="5148360" y="1916280"/>
            <a:ext cx="3063600" cy="3751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428400"/>
            <a:ext cx="8215200" cy="857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600" spc="-1" strike="noStrike">
                <a:solidFill>
                  <a:srgbClr val="f07f09"/>
                </a:solidFill>
                <a:latin typeface="Verdana"/>
              </a:rPr>
              <a:t>Схема экспериментальной установки для исследования фотоэффек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4" descr="5-2-1"/>
          <p:cNvPicPr/>
          <p:nvPr/>
        </p:nvPicPr>
        <p:blipFill>
          <a:blip r:embed="rId1"/>
          <a:stretch/>
        </p:blipFill>
        <p:spPr>
          <a:xfrm>
            <a:off x="2071800" y="1285920"/>
            <a:ext cx="4429080" cy="5078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07f09"/>
                </a:solidFill>
                <a:uFillTx/>
                <a:latin typeface="Times New Roman"/>
              </a:rPr>
              <a:t>Задание 1.</a:t>
            </a:r>
            <a:r>
              <a:rPr b="1" lang="ru-RU" sz="2800" spc="-1" strike="noStrike">
                <a:solidFill>
                  <a:srgbClr val="f07f09"/>
                </a:solidFill>
                <a:latin typeface="Times New Roman"/>
              </a:rPr>
              <a:t> Получить зависимость </a:t>
            </a:r>
            <a:r>
              <a:rPr b="1" i="1" lang="en-US" sz="2800" spc="-1" strike="noStrike">
                <a:solidFill>
                  <a:srgbClr val="f07f09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f07f09"/>
                </a:solidFill>
                <a:latin typeface="Times New Roman"/>
              </a:rPr>
              <a:t>(U)</a:t>
            </a:r>
            <a:r>
              <a:rPr b="1" lang="ru-RU" sz="2800" spc="-1" strike="noStrike">
                <a:solidFill>
                  <a:srgbClr val="f07f09"/>
                </a:solidFill>
                <a:latin typeface="Times New Roman"/>
              </a:rPr>
              <a:t>. Выяснить физический смысл характерных точек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2880" y="1285560"/>
            <a:ext cx="4357800" cy="408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е синий или зеленый светофильтр. Изменяя напряжение, рассмотрите получающуюся вольтамперную характеристик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 Наблюдается ли ток 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=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 Что происходит с силой тока при дальнейшем увеличении напряже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Picture 16" descr="photoef"/>
          <p:cNvPicPr/>
          <p:nvPr/>
        </p:nvPicPr>
        <p:blipFill>
          <a:blip r:embed="rId1"/>
          <a:stretch/>
        </p:blipFill>
        <p:spPr>
          <a:xfrm>
            <a:off x="642960" y="1571760"/>
            <a:ext cx="3438360" cy="235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lick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07f09"/>
                </a:solidFill>
                <a:latin typeface="Verdana"/>
              </a:rPr>
              <a:t>Анализ вольт-амперной характеристи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чиная с некоторого значения напряжения сила тока в цепи перестает изменяться, достигнув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насыщ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684360" y="4869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 выбит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ы обла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нетической энерг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450800" y="4930920"/>
                <a:ext cx="1366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Group 17"/>
          <p:cNvGrpSpPr/>
          <p:nvPr/>
        </p:nvGrpSpPr>
        <p:grpSpPr>
          <a:xfrm>
            <a:off x="1116000" y="1628640"/>
            <a:ext cx="3664080" cy="2878200"/>
            <a:chOff x="1116000" y="1628640"/>
            <a:chExt cx="3664080" cy="2878200"/>
          </a:xfrm>
        </p:grpSpPr>
        <p:graphicFrame>
          <p:nvGraphicFramePr>
            <p:cNvPr id="399" name="Object 4"/>
            <p:cNvGraphicFramePr/>
            <p:nvPr/>
          </p:nvGraphicFramePr>
          <p:xfrm>
            <a:off x="1116000" y="1628640"/>
            <a:ext cx="3311640" cy="28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628640"/>
                      <a:ext cx="3311640" cy="28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1" name="Freeform 8"/>
            <p:cNvSpPr/>
            <p:nvPr/>
          </p:nvSpPr>
          <p:spPr>
            <a:xfrm>
              <a:off x="3921120" y="1828800"/>
              <a:ext cx="858960" cy="193680"/>
            </a:xfrm>
            <a:custGeom>
              <a:avLst/>
              <a:gdLst>
                <a:gd name="textAreaLeft" fmla="*/ 0 w 858960"/>
                <a:gd name="textAreaRight" fmla="*/ 859320 w 858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1" h="122">
                  <a:moveTo>
                    <a:pt x="541" y="0"/>
                  </a:moveTo>
                  <a:lnTo>
                    <a:pt x="0" y="1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3"/>
            <p:cNvSpPr/>
            <p:nvPr/>
          </p:nvSpPr>
          <p:spPr>
            <a:xfrm>
              <a:off x="2195640" y="335772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ill Sans MT"/>
                </a:rPr>
                <a:t>I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Gill Sans MT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14"/>
          <p:cNvSpPr/>
          <p:nvPr/>
        </p:nvSpPr>
        <p:spPr>
          <a:xfrm>
            <a:off x="4859280" y="357336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ла тока насыщения прямо пропорциональна числу электронов, выбитых светом за 1 с с поверхности ка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5072040" y="5143680"/>
                <a:ext cx="35290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с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5" name="Line 18"/>
          <p:cNvSpPr/>
          <p:nvPr/>
        </p:nvSpPr>
        <p:spPr>
          <a:xfrm flipH="1" flipV="1">
            <a:off x="2700360" y="3789000"/>
            <a:ext cx="287280" cy="9349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lick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07f09"/>
                </a:solidFill>
                <a:uFillTx/>
                <a:latin typeface="Times New Roman"/>
              </a:rPr>
              <a:t>Задание 2</a:t>
            </a:r>
            <a:r>
              <a:rPr b="1" lang="ru-RU" sz="2800" spc="-1" strike="noStrike">
                <a:solidFill>
                  <a:srgbClr val="f07f09"/>
                </a:solidFill>
                <a:latin typeface="Times New Roman"/>
              </a:rPr>
              <a:t>. Исследовать изменение </a:t>
            </a:r>
            <a:r>
              <a:rPr b="1" i="1" lang="en-US" sz="2800" spc="-1" strike="noStrike">
                <a:solidFill>
                  <a:srgbClr val="f07f09"/>
                </a:solidFill>
                <a:latin typeface="Times New Roman"/>
              </a:rPr>
              <a:t>I(U) </a:t>
            </a:r>
            <a:r>
              <a:rPr b="1" lang="ru-RU" sz="2800" spc="-1" strike="noStrike">
                <a:solidFill>
                  <a:srgbClr val="f07f09"/>
                </a:solidFill>
                <a:latin typeface="Times New Roman"/>
              </a:rPr>
              <a:t>при различных значениях светового поток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788000" y="1600200"/>
            <a:ext cx="3898800" cy="34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изменяя частоту света, поменяйте мощность излучения (световой поток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происходит с током насыще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3174840" cy="517680"/>
        </p:xfrm>
        <a:graphic>
          <a:graphicData uri="http://schemas.openxmlformats.org/drawingml/2006/table">
            <a:tbl>
              <a:tblPr/>
              <a:tblGrid>
                <a:gridCol w="31748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9" name="Picture 16" descr="photoef"/>
          <p:cNvPicPr/>
          <p:nvPr/>
        </p:nvPicPr>
        <p:blipFill>
          <a:blip r:embed="rId1"/>
          <a:stretch/>
        </p:blipFill>
        <p:spPr>
          <a:xfrm>
            <a:off x="571680" y="1928880"/>
            <a:ext cx="3987720" cy="26622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18"/>
          <p:cNvSpPr/>
          <p:nvPr/>
        </p:nvSpPr>
        <p:spPr>
          <a:xfrm>
            <a:off x="611280" y="50133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lick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07f09"/>
                </a:solidFill>
                <a:latin typeface="Times New Roman"/>
              </a:rPr>
              <a:t>Зависимость числа выбитых электронов от светового пото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148000" y="1600200"/>
            <a:ext cx="3538440" cy="334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, падающий на фотокатод увеличивается, а его спектральный состав остается неизменны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332160" y="-7966080"/>
          <a:ext cx="208080" cy="227678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2768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4" name="Picture 5" descr="5-2-2"/>
          <p:cNvPicPr/>
          <p:nvPr/>
        </p:nvPicPr>
        <p:blipFill>
          <a:blip r:embed="rId1"/>
          <a:stretch/>
        </p:blipFill>
        <p:spPr>
          <a:xfrm>
            <a:off x="3422520" y="-7645320"/>
            <a:ext cx="239076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3332160" y="-7966080"/>
          <a:ext cx="208080" cy="227678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2768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Text Box 37"/>
          <p:cNvSpPr/>
          <p:nvPr/>
        </p:nvSpPr>
        <p:spPr>
          <a:xfrm>
            <a:off x="663480" y="4481640"/>
            <a:ext cx="79218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ла тока насыщения и, следовательно, число выбит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етом за 1 с электронов увеличивается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Verdana"/>
              </a:rPr>
              <a:t>нас,2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&gt;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Verdana"/>
              </a:rPr>
              <a:t>нас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е запирающего напряжения не меня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7" descr="5-2-2"/>
          <p:cNvPicPr/>
          <p:nvPr/>
        </p:nvPicPr>
        <p:blipFill>
          <a:blip r:embed="rId2"/>
          <a:stretch/>
        </p:blipFill>
        <p:spPr>
          <a:xfrm>
            <a:off x="900000" y="1628640"/>
            <a:ext cx="3816360" cy="266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7f09"/>
                </a:solidFill>
                <a:uFillTx/>
                <a:latin typeface="Times New Roman"/>
              </a:rPr>
              <a:t>Задание 3.</a:t>
            </a:r>
            <a:r>
              <a:rPr b="1" lang="ru-RU" sz="2400" spc="-1" strike="noStrike">
                <a:solidFill>
                  <a:srgbClr val="f07f0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07f09"/>
                </a:solidFill>
                <a:latin typeface="Times New Roman"/>
              </a:rPr>
              <a:t>Исследовать изменение </a:t>
            </a:r>
            <a:r>
              <a:rPr b="1" i="1" lang="en-US" sz="3200" spc="-1" strike="noStrike">
                <a:solidFill>
                  <a:srgbClr val="f07f09"/>
                </a:solidFill>
                <a:latin typeface="Times New Roman"/>
              </a:rPr>
              <a:t>U</a:t>
            </a:r>
            <a:r>
              <a:rPr b="1" i="1" lang="ru-RU" sz="1800" spc="-1" strike="noStrike">
                <a:solidFill>
                  <a:srgbClr val="f07f09"/>
                </a:solidFill>
                <a:latin typeface="Times New Roman"/>
              </a:rPr>
              <a:t>зап</a:t>
            </a:r>
            <a:r>
              <a:rPr b="1" i="1" lang="ru-RU" sz="2400" spc="-1" strike="noStrike">
                <a:solidFill>
                  <a:srgbClr val="f07f09"/>
                </a:solidFill>
                <a:latin typeface="Times New Roman"/>
              </a:rPr>
              <a:t> при освещении светом различного спектрального состава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142880" y="1600200"/>
            <a:ext cx="4357800" cy="4400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овательно меняйте светофильт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Чему равно запирающее напряжение при минимальной частоте (максимальной длине волн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ак меняется запирающее напряжение при увеличении частот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0"/>
          <a:ext cx="3174840" cy="517680"/>
        </p:xfrm>
        <a:graphic>
          <a:graphicData uri="http://schemas.openxmlformats.org/drawingml/2006/table">
            <a:tbl>
              <a:tblPr/>
              <a:tblGrid>
                <a:gridCol w="31748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1" name="Picture 16" descr="photoef"/>
          <p:cNvPicPr/>
          <p:nvPr/>
        </p:nvPicPr>
        <p:blipFill>
          <a:blip r:embed="rId1"/>
          <a:stretch/>
        </p:blipFill>
        <p:spPr>
          <a:xfrm>
            <a:off x="500040" y="1928880"/>
            <a:ext cx="3755880" cy="264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lick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07f09"/>
                </a:solidFill>
                <a:latin typeface="Verdana"/>
              </a:rPr>
              <a:t>Анализ вольт-амперной характеристи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таком значении напряжения сила тока в цепи анода равна нул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4" name="Group 17"/>
          <p:cNvGrpSpPr/>
          <p:nvPr/>
        </p:nvGrpSpPr>
        <p:grpSpPr>
          <a:xfrm>
            <a:off x="2484360" y="1557360"/>
            <a:ext cx="5759640" cy="2878200"/>
            <a:chOff x="2484360" y="1557360"/>
            <a:chExt cx="5759640" cy="2878200"/>
          </a:xfrm>
        </p:grpSpPr>
        <p:graphicFrame>
          <p:nvGraphicFramePr>
            <p:cNvPr id="425" name="Object 2"/>
            <p:cNvGraphicFramePr/>
            <p:nvPr/>
          </p:nvGraphicFramePr>
          <p:xfrm>
            <a:off x="4932360" y="1557360"/>
            <a:ext cx="3311640" cy="28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32360" y="1557360"/>
                      <a:ext cx="3311640" cy="28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7" name="Text Box 9"/>
            <p:cNvSpPr/>
            <p:nvPr/>
          </p:nvSpPr>
          <p:spPr>
            <a:xfrm>
              <a:off x="6012000" y="335772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ill Sans MT"/>
                </a:rPr>
                <a:t>I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Gill Sans MT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"/>
            <p:cNvSpPr/>
            <p:nvPr/>
          </p:nvSpPr>
          <p:spPr>
            <a:xfrm>
              <a:off x="2484360" y="3429000"/>
              <a:ext cx="3459240" cy="463680"/>
            </a:xfrm>
            <a:custGeom>
              <a:avLst/>
              <a:gdLst>
                <a:gd name="textAreaLeft" fmla="*/ 0 w 3459240"/>
                <a:gd name="textAreaRight" fmla="*/ 3459600 w 34592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79" h="292">
                  <a:moveTo>
                    <a:pt x="0" y="0"/>
                  </a:moveTo>
                  <a:lnTo>
                    <a:pt x="2179" y="292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Object 3"/>
                <p:cNvSpPr txBox="1"/>
                <p:nvPr/>
              </p:nvSpPr>
              <p:spPr>
                <a:xfrm>
                  <a:off x="5664240" y="3500280"/>
                  <a:ext cx="35568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з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0" name="Text Box 18"/>
          <p:cNvSpPr/>
          <p:nvPr/>
        </p:nvSpPr>
        <p:spPr>
          <a:xfrm>
            <a:off x="468360" y="3789360"/>
            <a:ext cx="439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пряжение запир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(запирающее напря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642960" y="4857840"/>
            <a:ext cx="7993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 &gt;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з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лучения электроны, выбитые из электрода, могут достигнуть противоположного электрода и создать некоторый начальный ток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07f09"/>
                </a:solidFill>
                <a:latin typeface="Verdana"/>
              </a:rPr>
              <a:t>Законы фотоэффект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00040" y="1856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15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фотоэлектронов, выбиваемых светом с поверхности металла за 1 с, прямо пропорционально поглощаемой за это время энергии световой вол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15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нетическая энергия фотоэлектронов линейно возрастает с частотой света не зависит от интенсивности падающего с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15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аждого вещества существует красная граница фотоэффекта, т. е. существует наименьшая частот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и которой еще возможен фотоэфф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15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ффект практически безинерционен, фототок возникает мгновенно после начала освещения катода при условии, что частота света ν &gt; 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  <p:sndAc>
      <p:stSnd>
        <p:snd r:embed="rId1" name="click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07f09"/>
                </a:solidFill>
                <a:latin typeface="Verdana"/>
              </a:rPr>
              <a:t>Работа выход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28760" y="192852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выхода - это характеристика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показывает, какую работу должен совершить электрон, чтобы преодолеть поверхностную разность потенциалов и выйти за пределы металл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выхода обычно измеряется в электронвольтах (эВ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766f"/>
                </a:solidFill>
                <a:latin typeface="Verdana"/>
              </a:rPr>
              <a:t>Задачи урок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83520" cy="420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1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5c00"/>
                </a:solidFill>
                <a:latin typeface="Verdana"/>
              </a:rPr>
              <a:t>Обобщить знания по теории фотоэффек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5c00"/>
                </a:solidFill>
                <a:latin typeface="Verdana"/>
              </a:rPr>
              <a:t>Сформировать знания о практическом применении фотоэффек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5c00"/>
                </a:solidFill>
                <a:latin typeface="Verdana"/>
              </a:rPr>
              <a:t>Продолжить формирование научного мировозз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07f09"/>
                </a:solidFill>
                <a:latin typeface="Verdana"/>
              </a:rPr>
              <a:t>Уравнение Эйнштей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00040" y="157176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основании 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закона сохранения энерг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сл уравнения Эйнштейна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нергия кванта тратится на работу выхода электрона из металла и сообщение электрону кинетической энерг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этом уравнении: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ν - частота падающего света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масса электрона (фотоэлектрона)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скорость электрона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постоянная Планка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работа выхода электронов из металла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3276720" y="1989000"/>
                <a:ext cx="216036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3286080" y="2000160"/>
                <a:ext cx="21607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  <p:sndAc>
      <p:stSnd>
        <p:snd r:embed="rId1" name="click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4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4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нение фотоэффек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говорило кино и стала возможной передача движущихся изображ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роль размеров издел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ческое включение и выключение маяков и уличного осв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матизация станков на завод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идящие» автоматы в метр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лнечные батареи (космические корабл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Объект 4" descr=""/>
          <p:cNvPicPr/>
          <p:nvPr/>
        </p:nvPicPr>
        <p:blipFill>
          <a:blip r:embed="rId1"/>
          <a:stretch/>
        </p:blipFill>
        <p:spPr>
          <a:xfrm>
            <a:off x="4427640" y="3068640"/>
            <a:ext cx="1477800" cy="18320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6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1873080" cy="149688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7" descr=""/>
          <p:cNvPicPr/>
          <p:nvPr/>
        </p:nvPicPr>
        <p:blipFill>
          <a:blip r:embed="rId3"/>
          <a:stretch/>
        </p:blipFill>
        <p:spPr>
          <a:xfrm>
            <a:off x="6516720" y="1413000"/>
            <a:ext cx="1500120" cy="112536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8" descr=""/>
          <p:cNvPicPr/>
          <p:nvPr/>
        </p:nvPicPr>
        <p:blipFill>
          <a:blip r:embed="rId4"/>
          <a:stretch/>
        </p:blipFill>
        <p:spPr>
          <a:xfrm>
            <a:off x="6516720" y="2637000"/>
            <a:ext cx="1800360" cy="1728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9" descr=""/>
          <p:cNvPicPr/>
          <p:nvPr/>
        </p:nvPicPr>
        <p:blipFill>
          <a:blip r:embed="rId5"/>
          <a:stretch/>
        </p:blipFill>
        <p:spPr>
          <a:xfrm>
            <a:off x="6380280" y="4581360"/>
            <a:ext cx="1773000" cy="1771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lick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blinds dir="vert"/>
    <p:sndAc>
      <p:stSnd>
        <p:snd r:embed="rId1" name="click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76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§ 19 № 12.14, 12.23, 12.3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0" y="980640"/>
            <a:ext cx="316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Генрих Рудольф Герц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1857 - 1894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4535640" cy="547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858920" y="1125000"/>
            <a:ext cx="365148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акс Карл Эрнест Людвиг Планк</a:t>
            </a:r>
            <a:br>
              <a:rPr sz="20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292360" y="3789000"/>
            <a:ext cx="3218040" cy="1865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1858 - 194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Объект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854160" cy="525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blinds dir="vert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3280" y="1197000"/>
            <a:ext cx="343548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лександр Григорьевич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толето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292360" y="4005000"/>
            <a:ext cx="3218040" cy="1649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1839 - 18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Объект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768480" cy="534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blinds dir="vert"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льберт Эйнштей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292360" y="4076280"/>
            <a:ext cx="3218040" cy="15778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1879 - 195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Объект 4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024440" cy="535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blinds dir="vert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ест для самопрвер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468360" y="1395360"/>
            <a:ext cx="8675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тдельная порция электромагнитной энергии, поглощаемая атомом называ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джоулем;  2) электрон-вольтом;  3) квантом;  4)электроном;  5)паска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Гипотезу о том, что атомы испускают электромагнитную энергию отдельными порциями, выдвину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М. Планк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2) Д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жоуль;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М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рад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 Эйнштейн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Д. Максвел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мпульс фотона определяется формул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= m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;    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= mv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; 3)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=m 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= h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;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=h/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нергия фотонов при уменьшении длины световой волны в 2 р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уменьшается в 2 раза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увеличивается в 2 раза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уменьшается в 4 раза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увеличивается в 4 раза;   5) не изменя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нергия кванта пропорциональна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скорости кванта;   2) времени излучения; 3) длине волны;   4) частоте колеб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мощности изл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1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2 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3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4 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5 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  <p:sndAc>
      <p:stSnd>
        <p:snd r:embed="rId1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569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Фотоэффек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248000" cy="244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явление вырывания электронов из вещества под действием св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9" descr="Юра14"/>
          <p:cNvPicPr/>
          <p:nvPr/>
        </p:nvPicPr>
        <p:blipFill>
          <a:blip r:embed="rId1"/>
          <a:stretch/>
        </p:blipFill>
        <p:spPr>
          <a:xfrm>
            <a:off x="6643800" y="857160"/>
            <a:ext cx="1882800" cy="2185920"/>
          </a:xfrm>
          <a:prstGeom prst="rect">
            <a:avLst/>
          </a:prstGeom>
          <a:ln w="0">
            <a:noFill/>
          </a:ln>
        </p:spPr>
      </p:pic>
      <p:pic>
        <p:nvPicPr>
          <p:cNvPr id="385" name="фотоэффект.wmv" descr=""/>
          <p:cNvPicPr/>
          <p:nvPr/>
        </p:nvPicPr>
        <p:blipFill>
          <a:blip r:embed="rId2"/>
          <a:stretch/>
        </p:blipFill>
        <p:spPr>
          <a:xfrm>
            <a:off x="4857840" y="321480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7:46:33Z</dcterms:created>
  <dc:creator>Zver</dc:creator>
  <dc:description/>
  <dc:language>en-US</dc:language>
  <cp:lastModifiedBy>ольга</cp:lastModifiedBy>
  <dcterms:modified xsi:type="dcterms:W3CDTF">2017-06-12T06:58:29Z</dcterms:modified>
  <cp:revision>24</cp:revision>
  <dc:subject/>
  <dc:title>Слайд 1</dc:title>
</cp:coreProperties>
</file>