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894960" y="746280"/>
            <a:ext cx="49705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391B-22AD-4194-B639-34EE8B1E3A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тульный слай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CEFA-1420-413B-9009-1A8FE821E30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2253-FEC3-429E-B089-C8D8DE04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DBC1-992E-4364-B516-18F23761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66FE3-8449-4369-B884-BA606E5D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3A4C6-F35D-47E0-8E43-08DC1B60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F0585-40FA-44FE-BA5E-29A8DCDF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35120-D04C-4990-B307-BE00CB4D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8D62B-023D-4C10-A6F2-75D73E8A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437AD-960D-4577-A4FA-19BB9B8C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5CAE8-A724-4E56-8512-DD42C23E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64133-E2AF-42C3-8190-A9BFDADB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D4F1F-B2E7-452B-AD74-4994683A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4C438-5003-4243-AB3D-4BAA8588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A16E-2F08-44F7-B11E-FC4867F9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09206-2C3C-4C70-BE6E-B1E3BB5D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C552A-16B5-416D-A533-4E00647D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22E5F-ED2C-4CF6-8D2C-EDA57659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87192-5664-4166-868A-B69FF582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68685-7167-4D36-84E3-BD85B54D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E1934-4CED-4B15-8439-F82045CB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CF019-B2A7-43CE-9898-EE954BA7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BE06E-55AB-4889-A472-AE1B82CF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7336A-53B8-4263-997F-EB12727F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95C81-FA19-481D-BF11-A20F70DE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2159-4B75-470D-B2FC-136E7926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39708-CB94-453C-B53E-0842ACFF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C924D-A671-486B-B4EE-1277F4B6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74253-6E3D-4D86-A93E-D4708532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80CEC-6B7C-44C0-BE93-C608239A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42194-23C7-4BF3-98FA-907461A5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CC36B-9E86-4036-9B88-87C979E7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BECB8-58D7-449B-AA96-D16580E5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49D10-716B-436F-BEDD-60A6A747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1A485-858A-4B3B-B611-5BAC4748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8CE82-B010-448A-B8F4-748A4F2D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8B5E-BBB4-4779-B6A5-23030E91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CD604-05FD-48A3-8A09-3C79CFB2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D23CD-AF9A-4B9C-B3D7-7C7D5274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F31E7-39F6-4F43-8F80-B8531799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FE301-AF1F-4DEC-9368-0797F8A2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F69C2-4010-423A-B7CD-C71A2BB0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F008E-A8CA-4DAC-8827-5C7BCA84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F75A7-C0CE-462F-BC98-DDB4F9A1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209A7-E22D-45D8-9DC1-7DDC5101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94C2C-36E1-431F-8699-4ED36D28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95267-B0D9-42F5-9910-E65796A2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B72F-1E14-48D3-AF76-8C76F04D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48CEC-47F0-44DF-9DCC-AFBAC3D2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35C10-5325-4014-86B9-2480B169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41452-6ACA-4FBD-89F9-B6323AB6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32EF0-1023-4CA1-B4B3-D235729A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09B6C-F520-4EE9-B20B-C5949D89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7F4B-B377-47D0-A53D-3CFAF4AC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6344-47E2-43CB-B35F-6397E575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8BCB-5A54-4BEE-B021-3667C525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82B2-E189-43EE-9377-3A2D60CB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AB40-1E19-4C1F-8F2F-33353A57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F6C3-EC70-4FFF-AE04-DE8422E8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703C-FC0E-4315-955C-B03D27B2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B993-B51C-45C5-BB8B-E51E7E98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9089-37D5-4D74-9E40-A5FE088A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ECF5-4B4E-49E0-8003-EB8B1003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F858-65C8-4FBF-BBFB-2D8C5E8D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2D7A3-78D2-4408-9CD1-0DC1DB2A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4116F-9347-4DF0-B541-2FF331D9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6F8C0-1D2D-4A6C-AFDF-C94987D3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4F77D-6AEE-4562-9999-B48582D4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AC4EC-D07B-49CF-BD47-797D3FFD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3DBA-F87D-48F9-A189-A08318F2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98AC6-EB67-471E-9FCA-716D17A9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20763-C336-422B-BA17-09686377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9F43A-40C0-46C5-8ADB-910BE831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708FC-F696-479D-9D10-7F7A0830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CD3D0-0ACB-49DC-B7CC-FE40CCDF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3C8A8-6F90-449C-A20A-6DA8D552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4F09C-74D6-4B31-928A-8A4B9CF3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4821B-1C82-47FA-A358-BB4BB06C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122C4-EE26-4E59-842E-F9C004FA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098BB-A249-4CCC-B02B-60C2B83B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55E6-5B54-4B84-98A3-9E31CB2A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CD3EB-3547-461C-857A-E84F489D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4D7D8-6FCF-403B-8A01-B69782BB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65A19-F79E-4F4D-909E-22E2D417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A6AB5-71E7-4A7C-BDB6-F63DB638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B0B36-75CE-4947-9BFF-5CF0EB32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4BA93-EE54-48A9-989E-2F54C4DA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777D4-7A8F-476F-996B-EF0A6A77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EEB4F-4F1C-4D7D-A80A-6790804E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C7CAB-686D-4F96-9EE5-A9BC7ABA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F2EAA-F098-4531-9E87-3335BF7C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347A-5354-4A53-A8E1-774A724F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078CA-B862-4783-BC34-12F52874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673D8-DD88-4D83-A15B-51517794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0050F-6E84-472B-9931-48A13F16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E9E3A-20E6-4AC6-A0C4-90B59464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99C74-772D-4BCE-8F93-D305B372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43654-0A6E-46E9-82CA-89155F32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D287C-43A4-40C3-913C-17E664DD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1C65E-4A4F-43AB-8C53-79D5B84F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9C878-D855-4532-B10E-B349E88B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98374-E33F-4D24-8912-6BADE809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D095-B471-47B7-9F55-8C25BEFA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877BA-5BD8-45F5-90BC-1A45E996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36370-EC1B-4EF0-8488-5138DCF7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B7596-F2BC-4463-A443-F9DAAB61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5CF44-D012-478C-92BA-64E94EB6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6E725-A31F-4346-A404-15BEF64E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99EDC-C0EA-4224-8E02-1CA663F6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52439-3E47-4A0C-BF2F-424002D2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FCD29-C602-4C7C-A2FE-F8E9B687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FC05B-6EF0-4FD5-9290-E0613B9F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F6BAE-EC54-4EA9-9610-1E3B2BD5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0F8B-B708-4D2B-812D-E61C2458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04099-D9FC-4C9F-A3D5-20E55782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9DDDD-D3C0-43B3-B0C5-EDD4CED3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940A3-BA26-413F-BBB7-6DAC80A7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BDDC2-E894-4E0C-B13D-9C422753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149EF-DB40-4189-93EE-C32A67DE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126D5-26B0-4794-97FB-6C418756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11EDA-2A55-4716-B1EF-3C591A67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0F7F5-9CDC-4A90-BF3F-8E5F6FA3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454F8-DDD5-415A-B31F-443E4C86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0814D-6D64-4430-A16F-0B2236CA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C945-41AA-40B9-83F8-DAF88FCB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9BCBD-030E-4F59-8DD0-F4A0EC7F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27D8B-3785-40BA-A1D8-F317FC07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D77A2-2588-4E29-B44B-3C3D469B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53D2D-62F8-41F7-BF55-D3392D2E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39394-D6FB-44A7-A24B-EA8420D4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14F89-129A-489C-8C3A-CC9414C5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38B54-5D38-4E61-BCD8-8A68AC1D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93836-65C6-4A8F-BD7A-07306666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38015-7F12-4384-AF8C-2454D2FE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56B84-C3A8-4404-81DB-F8EE1014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CBF5-43F6-490C-9936-D3B8EA45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05086-C33A-49E3-93E9-E80F5ECC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6022F-4539-4F92-801D-73211F0E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D61DC-F510-4787-BFBB-E6D3D8AC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7F2FA-430B-4486-8878-216C2864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D158F-F99D-4F67-9364-F84E3C7A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D5441-4868-490D-B3BA-42AEEED0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FF94D-82BA-483C-ABA0-4E714EF0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5E507-4E48-4265-A366-70D239CD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292A9-C77B-412D-A113-6BA03430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59FEB-CFDA-4CA5-ADEF-28091B7B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8780-B8DA-4EB0-BF2A-3F0B757A4B97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CC91-2B55-4E8F-86CB-104C6D72B62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2CD1-83BD-43DA-B5F2-A4C3A4AF45CF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C3CD-ABD6-43F1-9A8D-D25D78EC46C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01E3-65C4-4010-BA97-2FFFFFCB239C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72C1-5472-4920-B96D-CA9034E0C0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7834-83AA-4156-9BBA-28454E375188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EF30-4F11-475A-B813-3CA8A2CB19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5CC4-1074-4943-952D-2C9115FA0E34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973A-F716-40E7-9F6D-AC673E545BE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8BD2-6354-4F0B-8AEB-24EAF6AB0ACD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670B-E76C-49CA-972C-E234DE44AEC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0970-BC1C-46B8-BE20-57773AC17C83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8EE4-6322-478E-A614-BA97D8218EC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D979-1832-4252-9337-4714A92F0E0B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7494-501C-493D-8358-792E253DB81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4496-135A-4FCC-B372-A94AB1DB8B2D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4A7D-8C8F-4A36-B017-93E7344BE55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ED6E-1BEF-4428-A791-BC6091E66C68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Эффективное управление временем и ресурсами.                                                                                            </a:t>
            </a:r>
            <a:fld id="{DDFCDDBF-8CD1-4B43-A399-FDC8543C5C5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8133-B46A-4920-BC7F-6EA3E679FD66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BF09-B83A-452B-9EFF-A7738ACE8C0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0505-0BC1-477C-8A78-BC13B6394DE7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22D7-F160-4F4B-AA06-4C7A726066E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mailto:domtvorchestva@bk.ru" TargetMode="External"/><Relationship Id="rId3" Type="http://schemas.openxmlformats.org/officeDocument/2006/relationships/hyperlink" Target="https://t.me/trudarmeysky_DT" TargetMode="External"/><Relationship Id="rId4" Type="http://schemas.openxmlformats.org/officeDocument/2006/relationships/hyperlink" Target="http://vk.com/club216070848" TargetMode="External"/><Relationship Id="rId5" Type="http://schemas.openxmlformats.org/officeDocument/2006/relationships/hyperlink" Target="http://vk.com/club216070848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0560" y="2060640"/>
            <a:ext cx="863604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зентация бережливого проекта</a:t>
            </a:r>
            <a:br>
              <a:rPr sz="2400"/>
            </a:br>
            <a:br>
              <a:rPr sz="24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птимизация процесса изготовления наградного материала (диплом)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итогам проведения муниципальных конкурсо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8"/>
          <p:cNvSpPr/>
          <p:nvPr/>
        </p:nvSpPr>
        <p:spPr>
          <a:xfrm>
            <a:off x="6943680" y="541800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ндакова О.А.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одзаголовок 4"/>
          <p:cNvSpPr/>
          <p:nvPr/>
        </p:nvSpPr>
        <p:spPr>
          <a:xfrm>
            <a:off x="357120" y="333360"/>
            <a:ext cx="8458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2000"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е бюджетное учреждение дополнительного образ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рудармейский дом творчеств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копьевский муниципальный о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6" descr=""/>
          <p:cNvPicPr/>
          <p:nvPr/>
        </p:nvPicPr>
        <p:blipFill>
          <a:blip r:embed="rId1"/>
          <a:stretch/>
        </p:blipFill>
        <p:spPr>
          <a:xfrm>
            <a:off x="7667640" y="1668600"/>
            <a:ext cx="1017720" cy="1017360"/>
          </a:xfrm>
          <a:prstGeom prst="rect">
            <a:avLst/>
          </a:prstGeom>
          <a:ln w="0">
            <a:noFill/>
          </a:ln>
        </p:spPr>
      </p:pic>
      <p:sp>
        <p:nvSpPr>
          <p:cNvPr id="503" name="TextBox 8"/>
          <p:cNvSpPr/>
          <p:nvPr/>
        </p:nvSpPr>
        <p:spPr>
          <a:xfrm>
            <a:off x="3851280" y="600228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юнь 2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8" descr="https://avatars.mds.yandex.net/get-goods_pic/15437385/hated5036241ad57ca3e384d3c639133999/350x350"/>
          <p:cNvPicPr/>
          <p:nvPr/>
        </p:nvPicPr>
        <p:blipFill>
          <a:blip r:embed="rId2"/>
          <a:stretch/>
        </p:blipFill>
        <p:spPr>
          <a:xfrm>
            <a:off x="684360" y="1546200"/>
            <a:ext cx="1261800" cy="126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7D54-BB15-4BA5-ACD4-62B29DF9A48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6" descr=""/>
          <p:cNvPicPr/>
          <p:nvPr/>
        </p:nvPicPr>
        <p:blipFill>
          <a:blip r:embed="rId1"/>
          <a:stretch/>
        </p:blipFill>
        <p:spPr>
          <a:xfrm>
            <a:off x="6875640" y="515880"/>
            <a:ext cx="1392120" cy="1392120"/>
          </a:xfrm>
          <a:prstGeom prst="rect">
            <a:avLst/>
          </a:prstGeom>
          <a:ln w="0">
            <a:noFill/>
          </a:ln>
        </p:spPr>
      </p:pic>
      <p:sp>
        <p:nvSpPr>
          <p:cNvPr id="574" name="Заголовок 3"/>
          <p:cNvSpPr/>
          <p:nvPr/>
        </p:nvSpPr>
        <p:spPr>
          <a:xfrm>
            <a:off x="1368360" y="2708280"/>
            <a:ext cx="658836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ИГЛАШАЕМ К СОТРУДНИЧЕСТВУ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ИХОДИТ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ЕМЕРОВСКАЯ ОБЛАСТЬ – КУЗБАСС, ПРОКОПЬЕВСКИЙ М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. ТРУДАРМЕЙСКИЙ, УЛ. СОВЕТСКАЯ, 59, ПОМЕЩЕНИЕ №4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ВОНИТ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8 -3846-64-43-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ИШИТ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-MAIL: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DOMTVORCHESTVA@BK.RU</a:t>
            </a:r>
            <a:r>
              <a:rPr b="0" lang="en-US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ИСОЕДИНЯЙТЕС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АЙТ: TRUDARMDDT.EDUSITE.RU</a:t>
            </a:r>
            <a:r>
              <a:rPr b="0" lang="en-US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ТЕЛЕГРАММ: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S://T.ME/TRUDARMEYSKY_DT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КОНТАКТЕ: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VK.COM/CLUB216070848</a:t>
            </a:r>
            <a:r>
              <a:rPr b="0" lang="en-US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6" descr=""/>
          <p:cNvPicPr/>
          <p:nvPr/>
        </p:nvPicPr>
        <p:blipFill>
          <a:blip r:embed="rId6"/>
          <a:stretch/>
        </p:blipFill>
        <p:spPr>
          <a:xfrm>
            <a:off x="896760" y="426960"/>
            <a:ext cx="1706760" cy="170676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92080" y="1917360"/>
            <a:ext cx="75247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РТОЧКА ПРОЕКТА</a:t>
            </a:r>
            <a:br>
              <a:rPr sz="2700"/>
            </a:b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рточка процесса</a:t>
            </a:r>
            <a:br>
              <a:rPr sz="1400"/>
            </a:b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птимизация процесса изготовления наградного материала </a:t>
            </a: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итогам проведения муниципальных конкурсов»</a:t>
            </a:r>
            <a:br>
              <a:rPr sz="1200"/>
            </a:b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8643960" y="6429240"/>
            <a:ext cx="347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DF03-E316-4B3F-8936-96875610D403}" type="slidenum">
              <a:rPr b="1" lang="ru-RU" sz="1200" spc="-1" strike="noStrike">
                <a:solidFill>
                  <a:srgbClr val="23263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79280" y="1928880"/>
          <a:ext cx="8858520" cy="4162320"/>
        </p:xfrm>
        <a:graphic>
          <a:graphicData uri="http://schemas.openxmlformats.org/drawingml/2006/table">
            <a:tbl>
              <a:tblPr/>
              <a:tblGrid>
                <a:gridCol w="4321440"/>
                <a:gridCol w="4537080"/>
              </a:tblGrid>
              <a:tr h="157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щие данны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  <a:ea typeface="Times New Roman"/>
                        </a:rPr>
                        <a:t>Заказчик:</a:t>
                      </a: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Сандакова О.А., директор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  <a:ea typeface="Times New Roman"/>
                        </a:rPr>
                        <a:t>Процесс:</a:t>
                      </a: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«Оптимизация процесса изготовления наградного материала (диплом) по итогам проведения муниципальных конкурсов»</a:t>
                      </a:r>
                      <a:br>
                        <a:rPr sz="1000"/>
                      </a:br>
                      <a:r>
                        <a:rPr b="0" lang="ru-RU" sz="10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  <a:ea typeface="Times New Roman"/>
                        </a:rPr>
                        <a:t>Границы процесса:</a:t>
                      </a: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приказ об итогах, готовый наградной матери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  <a:ea typeface="Times New Roman"/>
                        </a:rPr>
                        <a:t>Руководитель проекта</a:t>
                      </a: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Сандакова О.А., директ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  <a:ea typeface="Times New Roman"/>
                        </a:rPr>
                        <a:t>Команда проекта</a:t>
                      </a: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: Курмаз О.Ф., заместитель директора по УВР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тенкова Н.Ю., методист, Дышлакова Е.В., методист, Саух Г.Г., методи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основани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Отсутствие единого шабло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Длительные временные потери из-за подстройки текста под дизайн наградного материала (дипло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Неудовлетворённость несвоевременной выдачей наградного материала (диплом) со стороны  победителей и призёров конкурс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90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Цель:  </a:t>
                      </a: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кращение времени протекания процесса изготовления наградного материала (диплом) по итогам конкурс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оки реализации мероприятий проекта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 Старт проекта - 01.06.20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Анализ текущей ситуации 01.06.2025- 20.06.2025 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 разработка текущей карты процесса 01.06.2025-05.06.20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 поиск и выявление проблем 06.06.2025-10.06.20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 разработка целевой карты процесса 11.06.2025-15.06.202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 разработка «дорожной карты» реализации проекта 16.06.2025-20.06.20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 Защита карточки проекта 23.06.20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 Внедрение улучшений 25.06.2025-30.09.20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. Закрытие проекта 20.08.2025-30.09.20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1258920" y="1268280"/>
          <a:ext cx="7635960" cy="639720"/>
        </p:xfrm>
        <a:graphic>
          <a:graphicData uri="http://schemas.openxmlformats.org/drawingml/2006/table">
            <a:tbl>
              <a:tblPr/>
              <a:tblGrid>
                <a:gridCol w="5343480"/>
                <a:gridCol w="229248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____________ О.А. Сандак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«01» июня 2025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9" name="Text Box 6"/>
          <p:cNvSpPr/>
          <p:nvPr/>
        </p:nvSpPr>
        <p:spPr>
          <a:xfrm>
            <a:off x="333360" y="5084640"/>
            <a:ext cx="4041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Эффекты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da2bf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азработан единый шаблон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da2bf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воевременная выдача наградного материала (диплом)                                                          победителям и призёрам конкурсов в электронном виде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da2bf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вышение удовлетворённости победителей и призёр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333360" y="4076640"/>
          <a:ext cx="3662280" cy="944640"/>
        </p:xfrm>
        <a:graphic>
          <a:graphicData uri="http://schemas.openxmlformats.org/drawingml/2006/table">
            <a:tbl>
              <a:tblPr/>
              <a:tblGrid>
                <a:gridCol w="1646280"/>
                <a:gridCol w="936720"/>
                <a:gridCol w="1079280"/>
              </a:tblGrid>
              <a:tr h="39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цели, ед.из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ущий показ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евой показ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Сокращение времени протекания процесса,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14-2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6868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Franklin Gothic Book"/>
              </a:rPr>
              <a:t>ОПИСАНИЕ СИТУАЦИИ «КАК ЕСТ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Номер слайда 4"/>
          <p:cNvSpPr/>
          <p:nvPr/>
        </p:nvSpPr>
        <p:spPr>
          <a:xfrm>
            <a:off x="620640" y="6613560"/>
            <a:ext cx="852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D90B-09E3-4023-A560-E3A25229772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287280" y="892080"/>
            <a:ext cx="8686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ОСНОВАНИЕ ВЫБОРА ПРОЦЕС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Схема 9" descr=""/>
          <p:cNvPicPr/>
          <p:nvPr/>
        </p:nvPicPr>
        <p:blipFill>
          <a:blip r:embed="rId1"/>
          <a:stretch/>
        </p:blipFill>
        <p:spPr>
          <a:xfrm>
            <a:off x="457200" y="1663560"/>
            <a:ext cx="8302680" cy="4797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3"/>
          <p:cNvSpPr/>
          <p:nvPr/>
        </p:nvSpPr>
        <p:spPr>
          <a:xfrm>
            <a:off x="8643960" y="6429240"/>
            <a:ext cx="347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002C-FF5C-48EA-AD02-8247418BF289}" type="slidenum">
              <a:rPr b="1" lang="ru-RU" sz="1200" spc="-1" strike="noStrike">
                <a:solidFill>
                  <a:srgbClr val="23263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1908000" y="2205000"/>
          <a:ext cx="1295640" cy="1540080"/>
        </p:xfrm>
        <a:graphic>
          <a:graphicData uri="http://schemas.openxmlformats.org/drawingml/2006/table">
            <a:tbl>
              <a:tblPr/>
              <a:tblGrid>
                <a:gridCol w="1295640"/>
              </a:tblGrid>
              <a:tr h="355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ор текста для наградного материала (дипло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55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8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7" name="Стрелка вправо 22"/>
          <p:cNvSpPr/>
          <p:nvPr/>
        </p:nvSpPr>
        <p:spPr>
          <a:xfrm>
            <a:off x="3419640" y="2852640"/>
            <a:ext cx="285480" cy="21456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7667640" y="2276640"/>
          <a:ext cx="1228680" cy="1449360"/>
        </p:xfrm>
        <a:graphic>
          <a:graphicData uri="http://schemas.openxmlformats.org/drawingml/2006/table">
            <a:tbl>
              <a:tblPr/>
              <a:tblGrid>
                <a:gridCol w="1228680"/>
              </a:tblGrid>
              <a:tr h="27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ый наградной материал (дипло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ffc000">
                        <a:alpha val="20000"/>
                      </a:srgbClr>
                    </a:solidFill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9" name="Стрелка вправо 24"/>
          <p:cNvSpPr/>
          <p:nvPr/>
        </p:nvSpPr>
        <p:spPr>
          <a:xfrm>
            <a:off x="1476360" y="285264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108000" y="2205000"/>
          <a:ext cx="1224000" cy="1517760"/>
        </p:xfrm>
        <a:graphic>
          <a:graphicData uri="http://schemas.openxmlformats.org/drawingml/2006/table">
            <a:tbl>
              <a:tblPr/>
              <a:tblGrid>
                <a:gridCol w="122400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аз об итогах конкур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ffc000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1" name=""/>
          <p:cNvGraphicFramePr/>
          <p:nvPr/>
        </p:nvGraphicFramePr>
        <p:xfrm>
          <a:off x="3851280" y="2276640"/>
          <a:ext cx="1368360" cy="1677960"/>
        </p:xfrm>
        <a:graphic>
          <a:graphicData uri="http://schemas.openxmlformats.org/drawingml/2006/table">
            <a:tbl>
              <a:tblPr/>
              <a:tblGrid>
                <a:gridCol w="1368360"/>
              </a:tblGrid>
              <a:tr h="380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стройка текста наградного материала (дипло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29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10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2" name="Стрелка вправо 28"/>
          <p:cNvSpPr/>
          <p:nvPr/>
        </p:nvSpPr>
        <p:spPr>
          <a:xfrm>
            <a:off x="5435640" y="285264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36"/>
          <p:cNvSpPr/>
          <p:nvPr/>
        </p:nvSpPr>
        <p:spPr>
          <a:xfrm>
            <a:off x="684360" y="4365720"/>
            <a:ext cx="820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ы пробле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дной материал (диплом) отличается по дизай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я времени из-за длительной подстройки текста под определенный дизайн наградного материала (дипло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и бумаги готовых бланков дипломов (различная плотность, толщина, гладкость) неодинаковы, поэтому краска ложится не равномерно, смазывается, долго сохнет, проблемы с принте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ая доставка до награждаем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37"/>
          <p:cNvSpPr/>
          <p:nvPr/>
        </p:nvSpPr>
        <p:spPr>
          <a:xfrm>
            <a:off x="1454040" y="3925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П (время протекания процесса) – 14-26 д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ятно 1 38"/>
          <p:cNvSpPr/>
          <p:nvPr/>
        </p:nvSpPr>
        <p:spPr>
          <a:xfrm>
            <a:off x="2268360" y="1628640"/>
            <a:ext cx="576360" cy="50508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ятно 1 39"/>
          <p:cNvSpPr/>
          <p:nvPr/>
        </p:nvSpPr>
        <p:spPr>
          <a:xfrm>
            <a:off x="4284720" y="1700280"/>
            <a:ext cx="576360" cy="50472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ятно 1 40"/>
          <p:cNvSpPr/>
          <p:nvPr/>
        </p:nvSpPr>
        <p:spPr>
          <a:xfrm>
            <a:off x="6300720" y="1700280"/>
            <a:ext cx="576360" cy="50472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ятно 1 42"/>
          <p:cNvSpPr/>
          <p:nvPr/>
        </p:nvSpPr>
        <p:spPr>
          <a:xfrm>
            <a:off x="179280" y="4797360"/>
            <a:ext cx="505080" cy="43200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44"/>
          <p:cNvSpPr/>
          <p:nvPr/>
        </p:nvSpPr>
        <p:spPr>
          <a:xfrm>
            <a:off x="2411280" y="1700280"/>
            <a:ext cx="2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45"/>
          <p:cNvSpPr/>
          <p:nvPr/>
        </p:nvSpPr>
        <p:spPr>
          <a:xfrm>
            <a:off x="4427640" y="1773360"/>
            <a:ext cx="2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46"/>
          <p:cNvSpPr/>
          <p:nvPr/>
        </p:nvSpPr>
        <p:spPr>
          <a:xfrm>
            <a:off x="6443640" y="1773360"/>
            <a:ext cx="2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5867280" y="2276640"/>
          <a:ext cx="1225800" cy="1514160"/>
        </p:xfrm>
        <a:graphic>
          <a:graphicData uri="http://schemas.openxmlformats.org/drawingml/2006/table">
            <a:tbl>
              <a:tblPr/>
              <a:tblGrid>
                <a:gridCol w="1225800"/>
              </a:tblGrid>
              <a:tr h="349200">
                <a:tc>
                  <a:txBody>
                    <a:bodyPr lIns="91800" rIns="91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1800" rIns="91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а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адного материала (дипло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42720">
                <a:tc>
                  <a:txBody>
                    <a:bodyPr lIns="91800" rIns="91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8 дн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Стрелка вправо 53"/>
          <p:cNvSpPr/>
          <p:nvPr/>
        </p:nvSpPr>
        <p:spPr>
          <a:xfrm>
            <a:off x="7236000" y="2852640"/>
            <a:ext cx="285480" cy="21456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147600"/>
            <a:ext cx="91440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Franklin Gothic Book"/>
              </a:rPr>
              <a:t>ОПИСАНИЕ СИТУАЦИИ «КАК ЕСТЬ»</a:t>
            </a:r>
            <a:br>
              <a:rPr sz="13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2"/>
          <p:cNvSpPr/>
          <p:nvPr/>
        </p:nvSpPr>
        <p:spPr>
          <a:xfrm>
            <a:off x="206280" y="557280"/>
            <a:ext cx="86868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РТА ТЕКУЩЕГО С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9376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Times New Roman"/>
                <a:ea typeface="Franklin Gothic Book"/>
              </a:rPr>
              <a:t>ОПИСАНИЕ СИТУАЦИИ «КАК ЕСТЬ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282600" y="105264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РАМИДА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11"/>
          <p:cNvSpPr/>
          <p:nvPr/>
        </p:nvSpPr>
        <p:spPr>
          <a:xfrm>
            <a:off x="3708360" y="3284640"/>
            <a:ext cx="5435640" cy="3348000"/>
          </a:xfrm>
          <a:prstGeom prst="rect">
            <a:avLst/>
          </a:prstGeom>
          <a:solidFill>
            <a:srgbClr val="eeece1"/>
          </a:solidFill>
          <a:ln w="2556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3"/>
          <p:cNvSpPr/>
          <p:nvPr/>
        </p:nvSpPr>
        <p:spPr>
          <a:xfrm>
            <a:off x="5273640" y="3645000"/>
            <a:ext cx="3708360" cy="27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дной материал (диплом) отличается по дизай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я времени из-за длительной подстройки текста под определенный дизайн наградного материала (диплом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и бумаги готовых бланков диплом (различная плотность, толщина, гладкость) неодинаковы, поэтому краска ложится не равномерно, смазывается, долго сохнет, проблема с принте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ая доставка наградного материала (диплом) до награждаем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Схема 4" descr=""/>
          <p:cNvPicPr/>
          <p:nvPr/>
        </p:nvPicPr>
        <p:blipFill>
          <a:blip r:embed="rId1"/>
          <a:stretch/>
        </p:blipFill>
        <p:spPr>
          <a:xfrm>
            <a:off x="165240" y="1590840"/>
            <a:ext cx="528480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700000" y="1273320"/>
            <a:ext cx="388764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НАЛИЗ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ОБЛ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8643960" y="6429240"/>
            <a:ext cx="347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8AFA-8502-46B5-A392-6AFB577F0003}" type="slidenum">
              <a:rPr b="1" lang="ru-RU" sz="1200" spc="-1" strike="noStrike">
                <a:solidFill>
                  <a:srgbClr val="23263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457200" y="404640"/>
            <a:ext cx="8686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5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ВЕДЕНИЕ В ПРЕДМЕТНУЮ ОБЛАСТЬ</a:t>
            </a:r>
            <a:br>
              <a:rPr sz="3000"/>
            </a:br>
            <a:r>
              <a:rPr b="1" lang="ru-RU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ОПИСАНИЕ СИТУАЦИИ «КАК ЕСТЬ»)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142920" y="1844640"/>
          <a:ext cx="8858160" cy="4735440"/>
        </p:xfrm>
        <a:graphic>
          <a:graphicData uri="http://schemas.openxmlformats.org/drawingml/2006/table">
            <a:tbl>
              <a:tblPr/>
              <a:tblGrid>
                <a:gridCol w="2214360"/>
                <a:gridCol w="2214720"/>
                <a:gridCol w="2214720"/>
                <a:gridCol w="22143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вопр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ономия врем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адной материал (диплом) отличается по дизайну, нужно куп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в магазине большого количества наградного материала (диплом) одного дизайна, нужны денежные 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нить готовые бланки наградного материала (диплом) на электро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 д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ря времени из-за длительной подстройки текста под определенный дизайн наградного материала (диплом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адной материал (диплом) отличается по дизай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шаблона наградного материала (диплом) в электронном вариан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7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15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и бумаги готовых бланков грамот (различная плотность, толщина, гладкость) неодинаковы, поэтому краска ложится не равномерно, смазывается, долго сохнет, проблема с принтер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адной материал (диплом) уступает по характеристикам фотобумаг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е наградного материала (диплом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электронном вид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5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гая доставка наградного материала (диплом) до награждаем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гий временно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ежу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правка наградного материала (диплом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эл.почт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920" y="40428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ВЕДЕНИЕ В ПРЕДМЕТНУЮ ОБЛАСТЬ</a:t>
            </a:r>
            <a:br>
              <a:rPr sz="3000"/>
            </a:br>
            <a:r>
              <a:rPr b="1" lang="ru-RU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ОПИСАНИЕ СИТУАЦИИ «КАК БУДЕТ»)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8643960" y="6429240"/>
            <a:ext cx="347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9A06-4A1E-4BA5-9651-451C7F22392D}" type="slidenum">
              <a:rPr b="1" lang="ru-RU" sz="1200" spc="-1" strike="noStrike">
                <a:solidFill>
                  <a:srgbClr val="23263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1969920" y="1006560"/>
            <a:ext cx="5123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АРТА ЦЕЛЕВОГО С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Стрелка вправо 7"/>
          <p:cNvSpPr/>
          <p:nvPr/>
        </p:nvSpPr>
        <p:spPr>
          <a:xfrm>
            <a:off x="1619280" y="2924280"/>
            <a:ext cx="28728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1979640" y="2349360"/>
          <a:ext cx="1440000" cy="150048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единого шабл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5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 д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0" name="Стрелка вправо 11"/>
          <p:cNvSpPr/>
          <p:nvPr/>
        </p:nvSpPr>
        <p:spPr>
          <a:xfrm>
            <a:off x="3492360" y="2924280"/>
            <a:ext cx="287640" cy="214200"/>
          </a:xfrm>
          <a:prstGeom prst="rightArrow">
            <a:avLst>
              <a:gd name="adj1" fmla="val 50000"/>
              <a:gd name="adj2" fmla="val 500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13"/>
          <p:cNvSpPr/>
          <p:nvPr/>
        </p:nvSpPr>
        <p:spPr>
          <a:xfrm>
            <a:off x="900000" y="5084640"/>
            <a:ext cx="748836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по решению пробле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шаблона наградного материала в электронном ви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нить готовые бланки наградного материала на бланки в эл.ви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равка наградного материала по эл.поч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3851280" y="2349360"/>
          <a:ext cx="1441440" cy="1500480"/>
        </p:xfrm>
        <a:graphic>
          <a:graphicData uri="http://schemas.openxmlformats.org/drawingml/2006/table">
            <a:tbl>
              <a:tblPr/>
              <a:tblGrid>
                <a:gridCol w="1441440"/>
              </a:tblGrid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авка текс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единый шабл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5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 д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3" name="Стрелка вправо 15"/>
          <p:cNvSpPr/>
          <p:nvPr/>
        </p:nvSpPr>
        <p:spPr>
          <a:xfrm>
            <a:off x="5435640" y="2924280"/>
            <a:ext cx="28728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324000" y="2349360"/>
          <a:ext cx="1223640" cy="1517760"/>
        </p:xfrm>
        <a:graphic>
          <a:graphicData uri="http://schemas.openxmlformats.org/drawingml/2006/table">
            <a:tbl>
              <a:tblPr/>
              <a:tblGrid>
                <a:gridCol w="1223640"/>
              </a:tblGrid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аз об итогах конкур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ffc000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5" name=""/>
          <p:cNvGraphicFramePr/>
          <p:nvPr/>
        </p:nvGraphicFramePr>
        <p:xfrm>
          <a:off x="7524720" y="2349360"/>
          <a:ext cx="1150920" cy="1511280"/>
        </p:xfrm>
        <a:graphic>
          <a:graphicData uri="http://schemas.openxmlformats.org/drawingml/2006/table">
            <a:tbl>
              <a:tblPr/>
              <a:tblGrid>
                <a:gridCol w="1150920"/>
              </a:tblGrid>
              <a:tr h="34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адной материал получ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ffc000">
                        <a:alpha val="20000"/>
                      </a:srgbClr>
                    </a:solidFill>
                  </a:tcPr>
                </a:tc>
              </a:tr>
              <a:tr h="34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6" name="TextBox 18"/>
          <p:cNvSpPr/>
          <p:nvPr/>
        </p:nvSpPr>
        <p:spPr>
          <a:xfrm>
            <a:off x="324000" y="4005360"/>
            <a:ext cx="6553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П (время протекания процесса) – 6-10 д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 – 8-16 д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6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5867280" y="2349360"/>
          <a:ext cx="1152720" cy="1500480"/>
        </p:xfrm>
        <a:graphic>
          <a:graphicData uri="http://schemas.openxmlformats.org/drawingml/2006/table">
            <a:tbl>
              <a:tblPr/>
              <a:tblGrid>
                <a:gridCol w="1152720"/>
              </a:tblGrid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прав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.поч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5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 д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8" name="Стрелка вправо 20"/>
          <p:cNvSpPr/>
          <p:nvPr/>
        </p:nvSpPr>
        <p:spPr>
          <a:xfrm>
            <a:off x="7093080" y="2924280"/>
            <a:ext cx="28728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ятно 1 21"/>
          <p:cNvSpPr/>
          <p:nvPr/>
        </p:nvSpPr>
        <p:spPr>
          <a:xfrm>
            <a:off x="2340000" y="1773360"/>
            <a:ext cx="576360" cy="50328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ятно 1 22"/>
          <p:cNvSpPr/>
          <p:nvPr/>
        </p:nvSpPr>
        <p:spPr>
          <a:xfrm>
            <a:off x="4284720" y="1773360"/>
            <a:ext cx="576360" cy="50328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ятно 1 23"/>
          <p:cNvSpPr/>
          <p:nvPr/>
        </p:nvSpPr>
        <p:spPr>
          <a:xfrm>
            <a:off x="6156360" y="1773360"/>
            <a:ext cx="576360" cy="50328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24"/>
          <p:cNvSpPr/>
          <p:nvPr/>
        </p:nvSpPr>
        <p:spPr>
          <a:xfrm>
            <a:off x="2484360" y="184464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Franklin Gothic Book (Основной 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25"/>
          <p:cNvSpPr/>
          <p:nvPr/>
        </p:nvSpPr>
        <p:spPr>
          <a:xfrm>
            <a:off x="4427640" y="1844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Franklin Gothic Book (Основной 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26"/>
          <p:cNvSpPr/>
          <p:nvPr/>
        </p:nvSpPr>
        <p:spPr>
          <a:xfrm>
            <a:off x="6300720" y="1844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Franklin Gothic Book (Основной 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ятно 1 24"/>
          <p:cNvSpPr/>
          <p:nvPr/>
        </p:nvSpPr>
        <p:spPr>
          <a:xfrm>
            <a:off x="250920" y="5157720"/>
            <a:ext cx="576000" cy="50328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6868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ИСАНИЕ СИТУАЦИИ «КАК БУДЕТ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Схема 19469" descr=""/>
          <p:cNvPicPr/>
          <p:nvPr/>
        </p:nvPicPr>
        <p:blipFill>
          <a:blip r:embed="rId1"/>
          <a:stretch/>
        </p:blipFill>
        <p:spPr>
          <a:xfrm>
            <a:off x="596880" y="2498760"/>
            <a:ext cx="8016840" cy="4140000"/>
          </a:xfrm>
          <a:prstGeom prst="rect">
            <a:avLst/>
          </a:prstGeom>
          <a:ln w="0">
            <a:noFill/>
          </a:ln>
        </p:spPr>
      </p:pic>
      <p:sp>
        <p:nvSpPr>
          <p:cNvPr id="568" name="Прямоугольник 19470"/>
          <p:cNvSpPr/>
          <p:nvPr/>
        </p:nvSpPr>
        <p:spPr>
          <a:xfrm>
            <a:off x="1547640" y="1136520"/>
            <a:ext cx="6193080" cy="89856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езультате реализации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Стрелка вниз 19471"/>
          <p:cNvSpPr/>
          <p:nvPr/>
        </p:nvSpPr>
        <p:spPr>
          <a:xfrm>
            <a:off x="4356000" y="2035080"/>
            <a:ext cx="576360" cy="60192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рожная карта реализации проек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971640" y="1413000"/>
          <a:ext cx="7561080" cy="2882880"/>
        </p:xfrm>
        <a:graphic>
          <a:graphicData uri="http://schemas.openxmlformats.org/drawingml/2006/table">
            <a:tbl>
              <a:tblPr/>
              <a:tblGrid>
                <a:gridCol w="520560"/>
                <a:gridCol w="4376880"/>
                <a:gridCol w="2663640"/>
              </a:tblGrid>
              <a:tr h="504360">
                <a:tc>
                  <a:txBody>
                    <a:bodyPr lIns="90720" rIns="9072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ок ре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720" rIns="9072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Разработка единого шабл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5.06.2025 – 15.07.2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720" rIns="9072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Вставка текста в единый шабл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16.07.2025 – 30.09.2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720" rIns="9072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Отправка по эл.почте награждаем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30.09.2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720" rIns="9072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5000" bIns="45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Ито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5.06.2025 – 30.09.2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3:06:54Z</dcterms:created>
  <dc:creator>Павел Гончаренко</dc:creator>
  <dc:description/>
  <dc:language>en-US</dc:language>
  <cp:lastModifiedBy>Пользователь Windows</cp:lastModifiedBy>
  <cp:lastPrinted>2025-06-26T09:07:30Z</cp:lastPrinted>
  <dcterms:modified xsi:type="dcterms:W3CDTF">2025-06-27T09:26:31Z</dcterms:modified>
  <cp:revision>1438</cp:revision>
  <dc:subject/>
  <dc:title>Слайд 1</dc:title>
</cp:coreProperties>
</file>