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170-6A44-4057-B4A0-78CC1956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97D-A4ED-40F1-923A-DDFFB62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7B1-4006-40F0-9FDC-C8054ED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01D-1236-4108-8381-FF92315B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559-7EEE-4A33-88A6-E0AC725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439-4332-424E-9491-343C6FD8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06D-100B-4D29-8928-330AC68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64D-4F63-4D91-BAE7-D9CAFE9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B4A-C9D5-4885-9AFA-07199B9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F9A-E5DC-4E5F-BA4E-8A2935F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D3B-F9A3-4700-BF72-1C22FFD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48C-D601-4DFD-A3AF-B479C07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E772-BB68-4000-82FE-97C037F5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ПМ 01.Участие в проектировании зданий и сооружений 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МДК 01.02. Проект производства рабо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рока: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«Строительный генеральный пл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значение опасной зоны к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стройгенплан"/>
          <p:cNvPicPr/>
          <p:nvPr/>
        </p:nvPicPr>
        <p:blipFill>
          <a:blip r:embed="rId1"/>
          <a:stretch/>
        </p:blipFill>
        <p:spPr>
          <a:xfrm>
            <a:off x="1908000" y="1484280"/>
            <a:ext cx="561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становка и перемещение машин вблизи выемок (котлованов, траншей, канав и т. п.) с неукрепленными откосами разрешается  только  за  пределами  призмы  обрушения  гру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щение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щение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щение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щение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89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щение механизм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27280" y="1916280"/>
            <a:ext cx="56894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Виды склад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крытые  площадки  для  хранения  кирпича,  сборных  бетонных и  железобетонных  конструкций,  щебня  и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весы  для  хранения  столярных  изделий,  рулонных  материалов,  асбоцементных  листов  и 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отапливаемые  закрытые  склады  для  хранения  минеральной  ваты,  фанеры,  войлока  и 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апливаемые  закрытые  склады  для  хранения  лаков,  красок,  химикатов  и 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ладирование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ладирование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27280" y="153036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формировать знания методики проектирования строительного генерального пл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ладирование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689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лад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8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мещение приобъектных складов должно производиться с учетом расположения подъездных дорог и подъездов от основных транспортных магистралей к местам приемки и выгрузки материал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объектные склады сборных элементов, укрупненных конструкций, материалов, полуфабрикатов  и  др.  должны  находиться  в  зоне  действия  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ытовые поме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зависимости от конструктивных решений временные здания могут приниматься неинвентарные и инвентарные. Последние могут быть сборно-разборными, контейнерными и передвижными. Все указанные помещения должны располагаться вне зоны действия грузоподъёмных  кранов и устрой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ные обозн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стройгенплан"/>
          <p:cNvPicPr/>
          <p:nvPr/>
        </p:nvPicPr>
        <p:blipFill>
          <a:blip r:embed="rId1"/>
          <a:stretch/>
        </p:blipFill>
        <p:spPr>
          <a:xfrm>
            <a:off x="755640" y="2924280"/>
            <a:ext cx="4762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ы на С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стройгенплан"/>
          <p:cNvPicPr/>
          <p:nvPr/>
        </p:nvPicPr>
        <p:blipFill>
          <a:blip r:embed="rId1"/>
          <a:stretch/>
        </p:blipFill>
        <p:spPr>
          <a:xfrm>
            <a:off x="2224080" y="1600200"/>
            <a:ext cx="469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агается ответить на следующи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тличается общеплощадочный и объектный СГ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м разрабатыв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размещается на объектном СГ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определяется опасная зона работы кра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ми в плане могут быть временные дорог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чего зависит выбор и размещение площадок склад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рациональнее размещать бытовые помещения на строительной площа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ься к выполнению практическ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ить стр. 430-442 (Соколов Г.К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троительным генеральным планом (стройгенплано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план строительной площадки, на котором кроме проектируемых и существующих постоянных зданий и сооружений показано расположение временных зданий, сооружений, механизированных установок и коммуникаций, необходимых для производства строительно-монтажных работ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Виды стройгенпланов:</a:t>
            </a:r>
            <a:br>
              <a:rPr sz="44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бщеплощадоч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бъект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Сост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СГП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троящееся или ремонтируемое зд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граждение площадки и 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положение механиз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оро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ременные скла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товые поме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Принципы проектирования СГП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гласованность его решений с другими разделами ПОС и ПП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инимизация объемов временного строитель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циональность организации транспортных потоков за счет сокращения перегруз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менение инвентарных бытовых зданий и временных коммуник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Исходными данными для разработки строительного генерального плана служа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ешения строительного генерального плана в составе проекта организации      строительства  (ПО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лендарный  план  производства работ или сетевой  граф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ехнологические карты  на  основные  виды  СМ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емы расстановки монтажных кранов при возведении зданий жилищно-гражданского назнач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08800" y="-3151440"/>
            <a:ext cx="6944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24242"/>
                </a:solidFill>
                <a:latin typeface="Arial"/>
                <a:ea typeface="Times New Roman"/>
              </a:rPr>
              <a:t>. Схемы расстановки монтажных кранов при возведении зданий жилищно-гражданск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24242"/>
                </a:solidFill>
                <a:latin typeface="Arial"/>
                <a:ea typeface="Times New Roman"/>
              </a:rPr>
              <a:t>назначе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-2425680"/>
          <a:ext cx="452520" cy="227160"/>
        </p:xfrm>
        <a:graphic>
          <a:graphicData uri="http://schemas.openxmlformats.org/drawingml/2006/table">
            <a:tbl>
              <a:tblPr/>
              <a:tblGrid>
                <a:gridCol w="45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333440" y="-207720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32000" y="-1405080"/>
          <a:ext cx="2970000" cy="303480"/>
        </p:xfrm>
        <a:graphic>
          <a:graphicData uri="http://schemas.openxmlformats.org/drawingml/2006/table">
            <a:tbl>
              <a:tblPr/>
              <a:tblGrid>
                <a:gridCol w="2970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424242"/>
                          </a:solidFill>
                          <a:latin typeface="Arial"/>
                          <a:ea typeface="Times New Roman"/>
                        </a:rPr>
                        <a:t>ГГК.3.270103.09.СТз-08с. ОТиВГ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333440" y="-9802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3440" y="-308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384200"/>
            <a:ext cx="7848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ути передвижения монтажных кранов необходимо располагать, как правило, вдоль зданий, что исключает образование «мертвых зон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4-09T08:38:2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