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E2D-5F52-4CD6-BB79-1512CD97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987-9663-4FB3-8A57-753D206E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5CE1-E464-463B-9A02-3A37A02A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46B-DB9E-423E-B083-7564D96A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1B6-2390-4011-BA84-28D1CD08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320-7DAD-482D-8728-FDFD2ADD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69B-BBC6-41D8-8AF1-F1A48EA4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581-244D-4B46-B844-71942F43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A97-FB0E-4421-8140-0A581580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F68-1DF8-48BC-8E99-70B79CE8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FC7E-5AC5-47C1-82BF-F95D5417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5F8-1AC5-4B40-B0EF-2A61F86E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E9F7-5A40-40F3-A370-A24F2A6300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harme.sainfo.ru/cook2/img/22.gif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ulinary.su/photo/catalog/svinina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45.radikal.ru/i110/1004/a7/f6d633875efa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улинарный разруб туши свинины и баранины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Назначение отдельных частей туши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Грудинка с костью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1204211513_grudinka-na-kosti-nezachishhennaja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Тазобедренная часть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4" descr="1204216377_zadnijj-okorok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Грудин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4" descr="1204213804_grudinka-so-shkurkojj"/>
          <p:cNvPicPr/>
          <p:nvPr/>
        </p:nvPicPr>
        <p:blipFill>
          <a:blip r:embed="rId1"/>
          <a:stretch/>
        </p:blipFill>
        <p:spPr>
          <a:xfrm>
            <a:off x="60948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Баранья  туш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5" descr="5000 | Баранина"/>
          <p:cNvPicPr/>
          <p:nvPr/>
        </p:nvPicPr>
        <p:blipFill>
          <a:blip r:embed="rId1"/>
          <a:stretch/>
        </p:blipFill>
        <p:spPr>
          <a:xfrm>
            <a:off x="990720" y="1523880"/>
            <a:ext cx="761976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5001 | Баранина"/>
          <p:cNvPicPr/>
          <p:nvPr/>
        </p:nvPicPr>
        <p:blipFill>
          <a:blip r:embed="rId2"/>
          <a:stretch/>
        </p:blipFill>
        <p:spPr>
          <a:xfrm>
            <a:off x="990720" y="4114800"/>
            <a:ext cx="76197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азделка бараньей туш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бараньей туши удаляют почки, затем делят поперек на – переднюю и заднюю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передней части отделяют лопатки. После этого  отделяют шейную часть, отделяют корейку от грудин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улинарный разруб баранин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- шейная час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- лопаточная час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 – корей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- грудин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5 – тазобедренная ча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5" descr="Картинка 22 из 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219320"/>
            <a:ext cx="8229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$title"/>
          <p:cNvPicPr/>
          <p:nvPr/>
        </p:nvPicPr>
        <p:blipFill>
          <a:blip r:embed="rId1"/>
          <a:stretch/>
        </p:blipFill>
        <p:spPr>
          <a:xfrm>
            <a:off x="6705720" y="1371600"/>
            <a:ext cx="2286000" cy="5291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Шейная ча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5" descr="5526 | Баранина"/>
          <p:cNvPicPr/>
          <p:nvPr/>
        </p:nvPicPr>
        <p:blipFill>
          <a:blip r:embed="rId2"/>
          <a:stretch/>
        </p:blipFill>
        <p:spPr>
          <a:xfrm>
            <a:off x="533520" y="1371600"/>
            <a:ext cx="67816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Грудин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7" descr="$title"/>
          <p:cNvPicPr/>
          <p:nvPr/>
        </p:nvPicPr>
        <p:blipFill>
          <a:blip r:embed="rId1"/>
          <a:stretch/>
        </p:blipFill>
        <p:spPr>
          <a:xfrm>
            <a:off x="6781680" y="1371600"/>
            <a:ext cx="2133720" cy="4952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5504 | Баранина"/>
          <p:cNvPicPr/>
          <p:nvPr/>
        </p:nvPicPr>
        <p:blipFill>
          <a:blip r:embed="rId2"/>
          <a:stretch/>
        </p:blipFill>
        <p:spPr>
          <a:xfrm>
            <a:off x="304920" y="13716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Тазобедренная часть бараньей туш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5102 | Баранина"/>
          <p:cNvPicPr/>
          <p:nvPr/>
        </p:nvPicPr>
        <p:blipFill>
          <a:blip r:embed="rId1"/>
          <a:stretch/>
        </p:blipFill>
        <p:spPr>
          <a:xfrm>
            <a:off x="380880" y="2057400"/>
            <a:ext cx="6019920" cy="32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$title"/>
          <p:cNvPicPr/>
          <p:nvPr/>
        </p:nvPicPr>
        <p:blipFill>
          <a:blip r:embed="rId2"/>
          <a:stretch/>
        </p:blipFill>
        <p:spPr>
          <a:xfrm>
            <a:off x="6629400" y="1981080"/>
            <a:ext cx="1981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Тазобедренная часть  бараньей полутуш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$title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зделка свиной туши</a:t>
            </a:r>
            <a:br>
              <a:rPr sz="4400"/>
            </a:br>
            <a:r>
              <a:rPr b="0" lang="en-US" sz="1000" spc="-1" strike="noStrike">
                <a:solidFill>
                  <a:srgbClr val="e5ffff"/>
                </a:solidFill>
                <a:latin typeface="Tahoma"/>
              </a:rPr>
              <a:t>https://www.youtube.com/watch?v=ZG19l8voiaM</a:t>
            </a:r>
            <a:r>
              <a:rPr b="0" lang="ru-RU" sz="1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свиной туши в первую очередь удаляют вырезк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ушу или полутуши делят на переднюю и заднюю части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 передней части отделяют лопатки, затем  грудинку, корейку, от корейки отделяют шейную ча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$title"/>
          <p:cNvPicPr/>
          <p:nvPr/>
        </p:nvPicPr>
        <p:blipFill>
          <a:blip r:embed="rId1"/>
          <a:stretch/>
        </p:blipFill>
        <p:spPr>
          <a:xfrm>
            <a:off x="6019920" y="1676520"/>
            <a:ext cx="2666880" cy="4724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опаточная часть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5501 | Баранина"/>
          <p:cNvPicPr/>
          <p:nvPr/>
        </p:nvPicPr>
        <p:blipFill>
          <a:blip r:embed="rId2"/>
          <a:stretch/>
        </p:blipFill>
        <p:spPr>
          <a:xfrm>
            <a:off x="380880" y="1676520"/>
            <a:ext cx="6248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9" descr="$title"/>
          <p:cNvPicPr/>
          <p:nvPr/>
        </p:nvPicPr>
        <p:blipFill>
          <a:blip r:embed="rId1"/>
          <a:stretch/>
        </p:blipFill>
        <p:spPr>
          <a:xfrm>
            <a:off x="6934320" y="1600200"/>
            <a:ext cx="1981080" cy="4495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Корей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7" descr="$title"/>
          <p:cNvPicPr/>
          <p:nvPr/>
        </p:nvPicPr>
        <p:blipFill>
          <a:blip r:embed="rId2"/>
          <a:stretch/>
        </p:blipFill>
        <p:spPr>
          <a:xfrm>
            <a:off x="457200" y="1600200"/>
            <a:ext cx="7238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$title"/>
          <p:cNvPicPr/>
          <p:nvPr/>
        </p:nvPicPr>
        <p:blipFill>
          <a:blip r:embed="rId1"/>
          <a:stretch/>
        </p:blipFill>
        <p:spPr>
          <a:xfrm>
            <a:off x="6019920" y="1671480"/>
            <a:ext cx="2971800" cy="5034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орейка без кост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$title"/>
          <p:cNvPicPr/>
          <p:nvPr/>
        </p:nvPicPr>
        <p:blipFill>
          <a:blip r:embed="rId2"/>
          <a:stretch/>
        </p:blipFill>
        <p:spPr>
          <a:xfrm>
            <a:off x="533520" y="1676520"/>
            <a:ext cx="6248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улинарное использо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1143000"/>
          <a:ext cx="8229600" cy="5475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линарное назначе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Зачищенная часть туш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  баранин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 свинин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жарень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рейка, лопаточная часть(рулетом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удинка фарширова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рейка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азобедренная часть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опаточная 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удин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аршированная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ейная часть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арка и тушен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опаточная, грудин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опаточная, грудинка, шейна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тлетное мяс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Шейная част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рез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Тест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кажите части  свиной туш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Picture 5" descr="Картинка 8 из 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057400"/>
            <a:ext cx="8763120" cy="32004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5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Составление опорного конспек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Составление  схемы последовательности кулинарной обработки свини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2286000" y="2828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Составление опорного конспек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Составление  схемы последовательности кулинарной обработки свини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Составление опорного конспе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Составление  схемы последовательности кулинарной обработки свинин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Схема разруба свиной туш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5" descr="Картинка 4 из 1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066680"/>
            <a:ext cx="83059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Корей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7" descr="1204218152_korejjka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орейка с реберной частью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Picture 4" descr="1204217959_korejjka-bez-shejjnojj-chasti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опаточная часть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4" descr="1204217871_lopatochnaja-chast"/>
          <p:cNvPicPr/>
          <p:nvPr/>
        </p:nvPicPr>
        <p:blipFill>
          <a:blip r:embed="rId1"/>
          <a:stretch/>
        </p:blipFill>
        <p:spPr>
          <a:xfrm>
            <a:off x="228600" y="1447920"/>
            <a:ext cx="8610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Лопаточная част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4" name="Picture 4" descr="1204217735_lopatochnaja-chast-bez-rulki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Вырез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1204217284_filejj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5" descr="1204217500_rulka"/>
          <p:cNvPicPr/>
          <p:nvPr/>
        </p:nvPicPr>
        <p:blipFill>
          <a:blip r:embed="rId2"/>
          <a:stretch/>
        </p:blipFill>
        <p:spPr>
          <a:xfrm>
            <a:off x="4648320" y="1981080"/>
            <a:ext cx="4114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Шейная часть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4" descr="1204217088_shejjnaja-chast"/>
          <p:cNvPicPr/>
          <p:nvPr/>
        </p:nvPicPr>
        <p:blipFill>
          <a:blip r:embed="rId1"/>
          <a:stretch/>
        </p:blipFill>
        <p:spPr>
          <a:xfrm>
            <a:off x="609480" y="114300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1-02-04T13:31:4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