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0B5-7747-4714-AF3C-046C5BEC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61C-F5A5-4595-B976-DC62132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7BD-270B-4718-90F6-087DA406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3B6-4A65-4517-884D-A9EDEBB4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36E-8A10-4CDB-9CD7-E417B3AB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F3F-4D99-4ADF-B301-9D82AD6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C80-24A2-4FD7-9AE5-EEBC494F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169-0475-4C00-A962-20D58804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EEC-1038-444E-9112-65339CB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105-40A7-4D7B-B031-1B845DA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62F-6CCA-4748-A9F6-40C3E0E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90D-BF49-49A6-88CF-F0A3425F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66F-1691-47AF-B024-612BAEE3D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80880"/>
            <a:ext cx="82296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048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ВЕЛИКАЯ</a:t>
            </a:r>
            <a:endParaRPr b="1" lang="en-US" sz="1800" spc="1" strike="noStrike">
              <a:ln w="6048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048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ОТЕЧЕСТВЕННАЯ</a:t>
            </a:r>
            <a:endParaRPr b="1" lang="en-US" sz="1800" spc="1" strike="noStrike">
              <a:ln w="6048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048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ВОЙНА</a:t>
            </a:r>
            <a:endParaRPr b="1" lang="en-US" sz="1800" spc="1" strike="noStrike">
              <a:ln w="6048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4005360"/>
            <a:ext cx="376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22 июня 1941г. -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76920" y="40384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9 мая 1945г.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52578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000000"/>
                  </a:solidFill>
                  <a:miter/>
                </a:ln>
                <a:noFill/>
                <a:latin typeface="Arial"/>
              </a:rPr>
              <a:t>1418 дней и ночей!</a:t>
            </a:r>
            <a:endParaRPr b="1" lang="en-US" sz="1800" spc="1" strike="noStrike">
              <a:ln w="47520">
                <a:solidFill>
                  <a:srgbClr val="000000"/>
                </a:solidFill>
                <a:miter/>
              </a:ln>
              <a:noFill/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3352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2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ля К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297828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908160" cy="499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519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ня Кол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430440" cy="517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343400" y="3352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гражден орденом Слав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епени, орденом Отечественной войны и медалями: «За отвагу», «За освобождение  Варшавы», «За взятие Берлина» и «За победу над Германие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на Кукове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316" t="15070" r="2582" b="6852"/>
          <a:stretch/>
        </p:blipFill>
        <p:spPr>
          <a:xfrm>
            <a:off x="1763640" y="990720"/>
            <a:ext cx="5213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лентина Зен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289" t="0" r="0" b="0"/>
          <a:stretch/>
        </p:blipFill>
        <p:spPr>
          <a:xfrm>
            <a:off x="380880" y="1676520"/>
            <a:ext cx="3257640" cy="390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1786" t="12857" r="3573" b="1429"/>
          <a:stretch/>
        </p:blipFill>
        <p:spPr>
          <a:xfrm>
            <a:off x="3881520" y="1143000"/>
            <a:ext cx="5048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Юта Бондаров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9337" r="0" b="0"/>
          <a:stretch/>
        </p:blipFill>
        <p:spPr>
          <a:xfrm>
            <a:off x="1820880" y="990720"/>
            <a:ext cx="4978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ля Комл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4475" r="1529" b="3945"/>
          <a:stretch/>
        </p:blipFill>
        <p:spPr>
          <a:xfrm>
            <a:off x="1990800" y="990720"/>
            <a:ext cx="500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стя Кравч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655" t="9337" r="0" b="2669"/>
          <a:stretch/>
        </p:blipFill>
        <p:spPr>
          <a:xfrm>
            <a:off x="1806480" y="990720"/>
            <a:ext cx="5078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ра Михе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005" t="10759" r="1495" b="4538"/>
          <a:stretch/>
        </p:blipFill>
        <p:spPr>
          <a:xfrm>
            <a:off x="1828800" y="914400"/>
            <a:ext cx="5079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ся Короб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776" t="12502" r="2299" b="0"/>
          <a:stretch/>
        </p:blipFill>
        <p:spPr>
          <a:xfrm>
            <a:off x="1862280" y="990720"/>
            <a:ext cx="489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ша Бороду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650" t="10613" r="2579" b="0"/>
          <a:stretch/>
        </p:blipFill>
        <p:spPr>
          <a:xfrm>
            <a:off x="1981080" y="1066680"/>
            <a:ext cx="49453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Дети – герои 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55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54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тя Хом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92" t="13036" r="3127" b="1171"/>
          <a:stretch/>
        </p:blipFill>
        <p:spPr>
          <a:xfrm>
            <a:off x="1905120" y="1066680"/>
            <a:ext cx="4876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одя Казнач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590" t="13267" r="2783" b="5803"/>
          <a:stretch/>
        </p:blipFill>
        <p:spPr>
          <a:xfrm>
            <a:off x="1903320" y="914400"/>
            <a:ext cx="5153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дя Богда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3571" t="12622" r="1856" b="3240"/>
          <a:stretch/>
        </p:blipFill>
        <p:spPr>
          <a:xfrm>
            <a:off x="2057400" y="1066680"/>
            <a:ext cx="4981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6825" t="13440" r="4410" b="6528"/>
          <a:stretch/>
        </p:blipFill>
        <p:spPr>
          <a:xfrm>
            <a:off x="1708200" y="990720"/>
            <a:ext cx="5105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кадий Кама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787480" cy="37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3660" t="14521" r="1185" b="0"/>
          <a:stretch/>
        </p:blipFill>
        <p:spPr>
          <a:xfrm>
            <a:off x="4025880" y="1219320"/>
            <a:ext cx="4778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на Порт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519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Герои минувших немеркнущих л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ы их не забыли, девчонок, мальчиш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Чья жизнь молодая за нас отд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ы в сердце своём, как на знамени, пиш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ростые и гордые их имен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556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Пускай сердца, волнуясь, замирают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Когда в дорогу горны позову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Герои никогда не умирают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Герои в нашей памяти живут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556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50056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Дети – герои 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670560" cy="5079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353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Arial"/>
              </a:rPr>
              <a:t>Дети – герои 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1121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Дети – герои 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280" y="1676520"/>
            <a:ext cx="2843280" cy="3962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8765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Дети – герои 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6924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1219320"/>
            <a:ext cx="7129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щадя себя в огне войны,</a:t>
            </a:r>
            <a:endParaRPr b="1" i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жалея сил во имя Родины,</a:t>
            </a:r>
            <a:endParaRPr b="1" i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ти героической страны</a:t>
            </a:r>
            <a:endParaRPr b="1" i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ыли настоящими героями.</a:t>
            </a:r>
            <a:endParaRPr b="1" i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519200" cy="3124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342900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ажден орденами Ленина, Красного Знамени, медалью "За отвагу" и званием Героя Советского Союза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посмерт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ат Ка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509" r="0" b="0"/>
          <a:stretch/>
        </p:blipFill>
        <p:spPr>
          <a:xfrm>
            <a:off x="3581280" y="1143000"/>
            <a:ext cx="5168880" cy="497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519200" cy="312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2940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участия в боевых операциях юный партизан награжден медалью за боевые заслуги , «За отвагу»,  орденом  Отечественной войны 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 мая 1965  года Марату К. посмертно присвоено звание Героя Советского Союза. В городе Минске памятник юному гер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shad&amp;Marina</cp:lastModifiedBy>
  <dcterms:modified xsi:type="dcterms:W3CDTF">2009-11-27T18:47:1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