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65CF-BCEF-4DD2-87CE-3F074520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C57E-A652-4653-B4DC-DFE236E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9D4A-CE60-4182-B74F-5CE1B1A2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7195-DEDF-4EE3-AD01-067264EA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83C-EC17-464D-AA61-014A150B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9EBB-DA4C-420C-B4DA-5D893B6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C6E-AD44-4291-A4F7-2152C3A4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C7CE-0A67-4EF6-8E05-55AAEB2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359B-D1C6-470F-A183-E3F11B1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8A9-48E0-4346-86B0-A326BBEF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AFF1-3E01-4A00-BD2B-9A2C1A6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DFD2-7D32-4E23-8F46-D155A7F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AA3-A3B4-47D6-ACE7-4F63B6F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2C99-2CB1-40B9-8441-A68FCFB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E55E-65AA-42DD-A747-22B7F87E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EBD2-34E6-40B6-B8F7-E7EBE92C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7805-F80E-4154-869D-A3B5CE3B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F63C-1F7C-45A1-BF62-29D6BB0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66DC-53D9-476C-A1E3-507A177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598D-AD3A-410B-BE64-56ADF88B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F6FD-948D-43A2-9D5B-6C12D3AA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273F-996F-465D-AA31-9C022E7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766C-F10D-4A5F-95AC-2F4A9B1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429A-4ADC-497B-89F8-C2BECED4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66EE-3BA0-4E37-9834-1CB9996FA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559-A430-40F3-873A-4E11B8CE3C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258920" y="2113560"/>
            <a:ext cx="7007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Поклонимся великим тем годам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4000" y="1268280"/>
            <a:ext cx="7616520" cy="1419480"/>
          </a:xfrm>
          <a:prstGeom prst="horizontalScroll">
            <a:avLst>
              <a:gd name="adj" fmla="val 12500"/>
            </a:avLst>
          </a:prstGeom>
          <a:solidFill>
            <a:srgbClr val="ffefef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1. В группе должен бы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ственный</a:t>
            </a: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24000" y="3789360"/>
            <a:ext cx="8064360" cy="817560"/>
          </a:xfrm>
          <a:prstGeom prst="horizontalScroll">
            <a:avLst>
              <a:gd name="adj" fmla="val 12500"/>
            </a:avLst>
          </a:prstGeom>
          <a:solidFill>
            <a:srgbClr val="ffefef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3. Один говорит, другие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24000" y="5418000"/>
            <a:ext cx="7032600" cy="1440000"/>
          </a:xfrm>
          <a:prstGeom prst="horizontalScroll">
            <a:avLst>
              <a:gd name="adj" fmla="val 12500"/>
            </a:avLst>
          </a:prstGeom>
          <a:solidFill>
            <a:srgbClr val="ffefef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5. Свое несогласие высказывай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ежливо</a:t>
            </a: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24000" y="4653000"/>
            <a:ext cx="6769080" cy="815760"/>
          </a:xfrm>
          <a:prstGeom prst="horizontalScroll">
            <a:avLst>
              <a:gd name="adj" fmla="val 12500"/>
            </a:avLst>
          </a:prstGeom>
          <a:solidFill>
            <a:srgbClr val="ffefef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4. Если не понял,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еспроси</a:t>
            </a: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24000" y="2492280"/>
            <a:ext cx="6841800" cy="1374840"/>
          </a:xfrm>
          <a:prstGeom prst="horizontalScroll">
            <a:avLst>
              <a:gd name="adj" fmla="val 12500"/>
            </a:avLst>
          </a:prstGeom>
          <a:solidFill>
            <a:srgbClr val="ffefef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2. Работать должен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ждый</a:t>
            </a: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 на общий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езультат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900000" y="189000"/>
            <a:ext cx="7616880" cy="863640"/>
          </a:xfrm>
          <a:prstGeom prst="horizontalScroll">
            <a:avLst>
              <a:gd name="adj" fmla="val 12500"/>
            </a:avLst>
          </a:prstGeom>
          <a:solidFill>
            <a:srgbClr val="ffefef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7960"/>
                </a:solidFill>
                <a:latin typeface="Times New Roman"/>
              </a:rPr>
              <a:t>Правила работы в групп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2113560"/>
            <a:ext cx="7007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Поклонимся великим тем годам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280" y="1303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аны  г. Нефтеюганс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Столица Югры празднует День Победы! ЮГРАPRO"/>
          <p:cNvPicPr/>
          <p:nvPr/>
        </p:nvPicPr>
        <p:blipFill>
          <a:blip r:embed="rId1"/>
          <a:stretch/>
        </p:blipFill>
        <p:spPr>
          <a:xfrm>
            <a:off x="4560840" y="907920"/>
            <a:ext cx="4583160" cy="304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Официальный сайт органов местного самоуправления города Нефт…"/>
          <p:cNvPicPr/>
          <p:nvPr/>
        </p:nvPicPr>
        <p:blipFill>
          <a:blip r:embed="rId2"/>
          <a:stretch/>
        </p:blipFill>
        <p:spPr>
          <a:xfrm>
            <a:off x="0" y="907920"/>
            <a:ext cx="4449600" cy="300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Официальный сайт органов местного самоуправления города Нефтеюганска"/>
          <p:cNvPicPr/>
          <p:nvPr/>
        </p:nvPicPr>
        <p:blipFill>
          <a:blip r:embed="rId3"/>
          <a:stretch/>
        </p:blipFill>
        <p:spPr>
          <a:xfrm>
            <a:off x="2771640" y="38098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79280" y="127800"/>
            <a:ext cx="813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вгуста 2014г. участник Великой Отечественной войны, председатель городского Совета ветеранов войны, труда и Вооруженных сил, почетный гражданин Нефтеюган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 Васильевич Кузнец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тил 90-летний юби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Версия для печати Югра. Нефтеюганск - В Нефтеюганске избирательный участок 249 теперь носит имя Почетного гражданина города, пре"/>
          <p:cNvPicPr/>
          <p:nvPr/>
        </p:nvPicPr>
        <p:blipFill>
          <a:blip r:embed="rId1"/>
          <a:stretch/>
        </p:blipFill>
        <p:spPr>
          <a:xfrm>
            <a:off x="6227640" y="1628640"/>
            <a:ext cx="2916360" cy="380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images.aif.ru/004/329/5b9bce553044aefe780f69483fd80442.JPG"/>
          <p:cNvPicPr/>
          <p:nvPr/>
        </p:nvPicPr>
        <p:blipFill>
          <a:blip r:embed="rId2"/>
          <a:stretch/>
        </p:blipFill>
        <p:spPr>
          <a:xfrm>
            <a:off x="324000" y="3041640"/>
            <a:ext cx="56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Было мирное время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дети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играли, росли и не было у них забот.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2" name="Picture 7" descr="C:\Documents and Settings\Рыжов\Рабочий стол\ВРЕМЕННЫЕ ФОТО\Рисунок1.jpg"/>
          <p:cNvPicPr/>
          <p:nvPr/>
        </p:nvPicPr>
        <p:blipFill>
          <a:blip r:embed="rId1"/>
          <a:stretch/>
        </p:blipFill>
        <p:spPr>
          <a:xfrm>
            <a:off x="2681280" y="2143080"/>
            <a:ext cx="3676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Папа был рядом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4" name="Picture 7" descr="C:\Documents and Settings\Рыжов\Рабочий стол\ВРЕМЕННЫЕ ФОТО\Рисунок2.jpg"/>
          <p:cNvPicPr/>
          <p:nvPr/>
        </p:nvPicPr>
        <p:blipFill>
          <a:blip r:embed="rId1"/>
          <a:stretch/>
        </p:blipFill>
        <p:spPr>
          <a:xfrm>
            <a:off x="1779480" y="1860480"/>
            <a:ext cx="543564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Мама была рядом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6" name="Picture 7" descr="C:\Documents and Settings\Рыжов\Рабочий стол\ВРЕМЕННЫЕ ФОТО\Рисунок3.jpg"/>
          <p:cNvPicPr/>
          <p:nvPr/>
        </p:nvPicPr>
        <p:blipFill>
          <a:blip r:embed="rId1"/>
          <a:stretch/>
        </p:blipFill>
        <p:spPr>
          <a:xfrm>
            <a:off x="1643040" y="1587600"/>
            <a:ext cx="5734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Дети играли на улицах.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8" name="Picture 9" descr="C:\Documents and Settings\Рыжов\Рабочий стол\ВРЕМЕННЫЕ ФОТО\Рисунок4.jpg"/>
          <p:cNvPicPr/>
          <p:nvPr/>
        </p:nvPicPr>
        <p:blipFill>
          <a:blip r:embed="rId1"/>
          <a:stretch/>
        </p:blipFill>
        <p:spPr>
          <a:xfrm>
            <a:off x="2163600" y="2265480"/>
            <a:ext cx="48373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У них было веселое детство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0" name="Picture 7" descr="C:\Documents and Settings\Рыжов\Рабочий стол\ВРЕМЕННЫЕ ФОТО\Рисунок5.jpg"/>
          <p:cNvPicPr/>
          <p:nvPr/>
        </p:nvPicPr>
        <p:blipFill>
          <a:blip r:embed="rId1"/>
          <a:stretch/>
        </p:blipFill>
        <p:spPr>
          <a:xfrm>
            <a:off x="1143000" y="1800360"/>
            <a:ext cx="688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И не знали они, что их ждет…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2" name="Picture 9" descr="C:\Documents and Settings\Рыжов\Рабочий стол\ВРЕМЕННЫЕ ФОТО\Рисунок6.jpg"/>
          <p:cNvPicPr/>
          <p:nvPr/>
        </p:nvPicPr>
        <p:blipFill>
          <a:blip r:embed="rId1"/>
          <a:stretch/>
        </p:blipFill>
        <p:spPr>
          <a:xfrm>
            <a:off x="1571760" y="1560600"/>
            <a:ext cx="61340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01406"/>
                </a:solidFill>
                <a:latin typeface="Garamond"/>
              </a:rPr>
              <a:t>                    </a:t>
            </a:r>
            <a:r>
              <a:rPr b="1" lang="ru-RU" sz="6600" spc="-1" strike="noStrike">
                <a:solidFill>
                  <a:srgbClr val="d01406"/>
                </a:solidFill>
                <a:latin typeface="Garamond"/>
              </a:rPr>
              <a:t>Война !</a:t>
            </a:r>
            <a:endParaRPr b="1" lang="en-US" sz="66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22 июн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1941 год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10" descr="C:\Documents and Settings\Рыжов\Рабочий стол\ВРЕМЕННЫЕ ФОТО\Рисунок7.jpg"/>
          <p:cNvPicPr/>
          <p:nvPr/>
        </p:nvPicPr>
        <p:blipFill>
          <a:blip r:embed="rId1"/>
          <a:stretch/>
        </p:blipFill>
        <p:spPr>
          <a:xfrm>
            <a:off x="642960" y="1071720"/>
            <a:ext cx="30891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258920" y="2113560"/>
            <a:ext cx="7007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Поклонимся великим тем годам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35:01Z</dcterms:created>
  <dc:creator>Сергей Павлович:-)</dc:creator>
  <dc:description/>
  <dc:language>en-US</dc:language>
  <cp:lastModifiedBy>KerMar</cp:lastModifiedBy>
  <dcterms:modified xsi:type="dcterms:W3CDTF">2015-03-09T16:08:44Z</dcterms:modified>
  <cp:revision>78</cp:revision>
  <dc:subject/>
  <dc:title>Слайд 1</dc:title>
</cp:coreProperties>
</file>