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6.gif" ContentType="image/gif"/>
  <Override PartName="/ppt/media/image2.jpeg" ContentType="image/jpeg"/>
  <Override PartName="/ppt/media/image3.png" ContentType="image/png"/>
  <Override PartName="/ppt/media/image14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30D-A419-4180-9752-0924DB4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C36-ACFB-4E8D-B077-DB87413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833-87B5-437B-9D30-7E19B46C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81D-5766-407A-BAC6-EDCEB31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DBD-3D7E-4A35-B5FE-BAA3D98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6A9-C8A6-42C1-9AD3-5B990E4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D4C-B9E1-4462-AAED-C3FB249B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742-A378-43BE-AC0F-29E9F46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159-B78A-4E25-B9B4-092D7D91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1FC-D7BD-439C-A423-368F6B2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13D-BD0C-4983-A4B3-31690B7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F88-3E13-4911-BB6D-9BDB49C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10C2-7567-4DA4-8753-0D7CC612A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orum.materinstvo.ru/index.php?showtopic=692618&amp;st=330" TargetMode="External"/><Relationship Id="rId3" Type="http://schemas.openxmlformats.org/officeDocument/2006/relationships/hyperlink" Target="http://www.selezneva-lichnost.ru/metodicheskaya-kopilka/dlya-urokov-okruzhaiuschego-mira-i-prirodovedeniya.html" TargetMode="External"/><Relationship Id="rId4" Type="http://schemas.openxmlformats.org/officeDocument/2006/relationships/hyperlink" Target="http://tana.ucoz.ru/load/115-8-2" TargetMode="External"/><Relationship Id="rId5" Type="http://schemas.openxmlformats.org/officeDocument/2006/relationships/hyperlink" Target="http://www.freelancejob.ru/users/shaber/portfolio/34069/" TargetMode="External"/><Relationship Id="rId6" Type="http://schemas.openxmlformats.org/officeDocument/2006/relationships/hyperlink" Target="http://www.maori.org.nz/papa_panui/forum_topic.asp?TOPIC_ID=3348&amp;FORUM_ID=25&amp;CAT_ID=6&amp;Topic_Title=Urupa&amp;Forum_Title=Newbie+Questions" TargetMode="External"/><Relationship Id="rId7" Type="http://schemas.openxmlformats.org/officeDocument/2006/relationships/hyperlink" Target="http://www.100000freecliparts.com/clipart/Landscape/mountain/index.html" TargetMode="Externa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iftblog.su/den-svyatogo-patrika-v-irlandii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92000" y="199872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 схемы горы и холма в учебнике на стр. 77 и сравни их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чём  сход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ы и хол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054240" cy="4032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5373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а и холм имеют одинаковые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714560" cy="377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3887640" cy="19749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1"/>
          <p:cNvGrpSpPr/>
          <p:nvPr/>
        </p:nvGrpSpPr>
        <p:grpSpPr>
          <a:xfrm>
            <a:off x="3850920" y="3645000"/>
            <a:ext cx="792360" cy="863640"/>
            <a:chOff x="3850920" y="3645000"/>
            <a:chExt cx="792360" cy="863640"/>
          </a:xfrm>
        </p:grpSpPr>
        <p:sp>
          <p:nvSpPr>
            <p:cNvPr id="84" name="Line 9"/>
            <p:cNvSpPr/>
            <p:nvPr/>
          </p:nvSpPr>
          <p:spPr>
            <a:xfrm flipH="1">
              <a:off x="3850920" y="3645000"/>
              <a:ext cx="36036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4211640" y="3645000"/>
              <a:ext cx="43164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2"/>
          <p:cNvSpPr/>
          <p:nvPr/>
        </p:nvSpPr>
        <p:spPr>
          <a:xfrm>
            <a:off x="3259080" y="3141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одош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893520" y="5229360"/>
            <a:ext cx="68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дош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подножие) – это мес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де начинается гора или хол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2626920" y="2708280"/>
            <a:ext cx="3529440" cy="792000"/>
            <a:chOff x="2626920" y="2708280"/>
            <a:chExt cx="3529440" cy="792000"/>
          </a:xfrm>
        </p:grpSpPr>
        <p:sp>
          <p:nvSpPr>
            <p:cNvPr id="89" name="Line 15"/>
            <p:cNvSpPr/>
            <p:nvPr/>
          </p:nvSpPr>
          <p:spPr>
            <a:xfrm flipH="1">
              <a:off x="2626920" y="2708280"/>
              <a:ext cx="1584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6"/>
            <p:cNvSpPr/>
            <p:nvPr/>
          </p:nvSpPr>
          <p:spPr>
            <a:xfrm>
              <a:off x="4211640" y="2708280"/>
              <a:ext cx="1944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8"/>
          <p:cNvSpPr/>
          <p:nvPr/>
        </p:nvSpPr>
        <p:spPr>
          <a:xfrm>
            <a:off x="3618000" y="2060640"/>
            <a:ext cx="13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402920" y="1052280"/>
            <a:ext cx="6121800" cy="1800360"/>
            <a:chOff x="1402920" y="1052280"/>
            <a:chExt cx="6121800" cy="1800360"/>
          </a:xfrm>
        </p:grpSpPr>
        <p:sp>
          <p:nvSpPr>
            <p:cNvPr id="93" name="Line 19"/>
            <p:cNvSpPr/>
            <p:nvPr/>
          </p:nvSpPr>
          <p:spPr>
            <a:xfrm flipH="1">
              <a:off x="1402920" y="1700280"/>
              <a:ext cx="2808360" cy="1152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0"/>
            <p:cNvSpPr/>
            <p:nvPr/>
          </p:nvSpPr>
          <p:spPr>
            <a:xfrm flipV="1">
              <a:off x="4211640" y="1052280"/>
              <a:ext cx="331308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2"/>
          <p:cNvSpPr/>
          <p:nvPr/>
        </p:nvSpPr>
        <p:spPr>
          <a:xfrm>
            <a:off x="3270960" y="90792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ер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962640" y="5229360"/>
            <a:ext cx="672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ршин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амая высокая ча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ма или г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728280" y="4653000"/>
            <a:ext cx="762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лон – это та часть горы или хол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ая располагается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ошвой и верши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лоны бывают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круты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оло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Comic Sans MS"/>
              </a:rPr>
              <a:t>Чем отличаются холм и г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горах есть выходы скальных пород, на которых ничего не растёт, а холмы всегда имеют почву и покрыты расти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360072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4283280" cy="3432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03640" y="436572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ысота до 2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740840" y="4365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ысота более 2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Различие гор по выс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та гор бывает разной. Одни из них возвышаются на несколько сотен метров, другие – на несколько кило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3186360" cy="42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240000" cy="431964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0"/>
          <p:cNvGrpSpPr/>
          <p:nvPr/>
        </p:nvGrpSpPr>
        <p:grpSpPr>
          <a:xfrm>
            <a:off x="1547640" y="1268280"/>
            <a:ext cx="6264360" cy="5345280"/>
            <a:chOff x="1547640" y="1268280"/>
            <a:chExt cx="6264360" cy="5345280"/>
          </a:xfrm>
        </p:grpSpPr>
        <p:pic>
          <p:nvPicPr>
            <p:cNvPr id="109" name="Picture 6" descr=""/>
            <p:cNvPicPr/>
            <p:nvPr/>
          </p:nvPicPr>
          <p:blipFill>
            <a:blip r:embed="rId4"/>
            <a:stretch/>
          </p:blipFill>
          <p:spPr>
            <a:xfrm>
              <a:off x="1619280" y="1268280"/>
              <a:ext cx="6192720" cy="53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Line 7"/>
            <p:cNvSpPr/>
            <p:nvPr/>
          </p:nvSpPr>
          <p:spPr>
            <a:xfrm flipH="1">
              <a:off x="5148360" y="2133720"/>
              <a:ext cx="1224000" cy="93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 flipV="1">
              <a:off x="1547640" y="3499920"/>
              <a:ext cx="2376720" cy="158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2340000" y="5013360"/>
              <a:ext cx="1368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1"/>
          <p:cNvSpPr/>
          <p:nvPr/>
        </p:nvSpPr>
        <p:spPr>
          <a:xfrm>
            <a:off x="5684400" y="1197000"/>
            <a:ext cx="24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ысо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более 2 000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66640" y="5734080"/>
            <a:ext cx="188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из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до 1 000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74240" y="3141720"/>
            <a:ext cx="19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ред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т 1 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 2 000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92000" y="162864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ем вслух рассказ Н.Сладкова «Красота гор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тр. 7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вас поразило и удивило в этом расск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054240" cy="4032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1187280" y="1628640"/>
            <a:ext cx="6697800" cy="792360"/>
            <a:chOff x="1187280" y="1628640"/>
            <a:chExt cx="6697800" cy="792360"/>
          </a:xfrm>
        </p:grpSpPr>
        <p:sp>
          <p:nvSpPr>
            <p:cNvPr id="121" name="AutoShape 9"/>
            <p:cNvSpPr/>
            <p:nvPr/>
          </p:nvSpPr>
          <p:spPr>
            <a:xfrm>
              <a:off x="1187280" y="1628640"/>
              <a:ext cx="6697800" cy="79236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1566360" y="1701720"/>
              <a:ext cx="592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Формы земной поверхнос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1"/>
          <p:cNvSpPr/>
          <p:nvPr/>
        </p:nvSpPr>
        <p:spPr>
          <a:xfrm>
            <a:off x="1403280" y="3429000"/>
            <a:ext cx="2089080" cy="720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5508720" y="3429000"/>
            <a:ext cx="2160360" cy="720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6588000" y="5084640"/>
            <a:ext cx="2087640" cy="72072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3564000" y="5084640"/>
            <a:ext cx="266544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766160" y="35002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578200" y="35002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вн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675960" y="51577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ми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702840" y="515772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2339640" y="2421000"/>
            <a:ext cx="208764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4427640" y="2421000"/>
            <a:ext cx="21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6659640" y="4149720"/>
            <a:ext cx="93672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 flipH="1">
            <a:off x="4787640" y="4149720"/>
            <a:ext cx="187164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orum.materinstvo.ru/index.php?showtopic=692618&amp;st=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elezneva-lichnost.ru/metodicheskaya-kopilka/dlya-urokov-okruzhaiuschego-mira-i-prirodovedeniy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ana.ucoz.ru/load/115-8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reelancejob.ru/users/shaber/portfolio/3406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aori.org.nz/papa_panui/forum_topic.asp?TOPIC_ID=3348&amp;FORUM_ID=25&amp;CAT_ID=6&amp;Topic_Title=Urupa&amp;Forum_Title=Newbie+Ques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100000freecliparts.com/clipart/Landscape/mountain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iftblog.su/den-svyatogo-patrika-v-irlan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6494876.ru/index.php?cPath=131_150&amp;language=ru&amp;page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olki.mybb.ru/viewtopic.php?id=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photosight.ru/photos/23858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edbooknvrsk.narod.ru/PHOTOFACT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vvv.ru/forum_gallery/?mode=4&amp;lpid1=7&amp;lpid2=1&amp;aid=28301&amp;pid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onnik.sawin.com.ua/index.php?p=articles&amp;area=1&amp;catid=2&amp;page=19&amp;limit=25&amp;print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200720" cy="136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сит бабка снежную шап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менные бока закутаны в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725920" cy="33498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900000" y="3357720"/>
            <a:ext cx="3062520" cy="3125520"/>
            <a:chOff x="900000" y="3357720"/>
            <a:chExt cx="3062520" cy="3125520"/>
          </a:xfrm>
        </p:grpSpPr>
        <p:pic>
          <p:nvPicPr>
            <p:cNvPr id="47" name="Picture 5" descr=""/>
            <p:cNvPicPr/>
            <p:nvPr/>
          </p:nvPicPr>
          <p:blipFill>
            <a:blip r:embed="rId3"/>
            <a:stretch/>
          </p:blipFill>
          <p:spPr>
            <a:xfrm>
              <a:off x="900000" y="3357720"/>
              <a:ext cx="3062520" cy="31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Oval 6"/>
            <p:cNvSpPr/>
            <p:nvPr/>
          </p:nvSpPr>
          <p:spPr>
            <a:xfrm>
              <a:off x="971640" y="3500280"/>
              <a:ext cx="2881080" cy="288144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8"/>
          <p:cNvSpPr/>
          <p:nvPr/>
        </p:nvSpPr>
        <p:spPr>
          <a:xfrm>
            <a:off x="3982680" y="364500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пробуй объяснить, 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го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565440" cy="475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3564000" cy="4751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92520" y="5114880"/>
            <a:ext cx="89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Горы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это очень неровные участк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ерхности, которые сильно возвышаю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я над окружающей мест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4723920"/>
            <a:ext cx="85075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иночную гору встретишь редко, чаще всего горы расположены рядам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ными хреб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319280" cy="324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4427640" y="836640"/>
            <a:ext cx="439236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41152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на земле есть и ровные или почти ровные участки. Эт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авн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6767640" cy="48402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1246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внины бывают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лоск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холмисты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Объясни, почему равнины получили такое на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464000" cy="3233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424980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151920" y="4797360"/>
            <a:ext cx="85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ская равнина име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вную поверх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холмистой равнине есть возвы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5120" y="548460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вышения на равнине – эт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холмы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920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0526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, кроме того, на равнинах имеются углубления с крутыми склонам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овр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624720" cy="4537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холм и гора возвышаются над земной поверхностью, можно ли сделать вывод, что это одно и тож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48720" cy="4557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44:19Z</dcterms:created>
  <dc:creator>мама</dc:creator>
  <dc:description/>
  <dc:language>en-US</dc:language>
  <cp:lastModifiedBy>Пользователь</cp:lastModifiedBy>
  <dcterms:modified xsi:type="dcterms:W3CDTF">2020-11-12T19:52:08Z</dcterms:modified>
  <cp:revision>8</cp:revision>
  <dc:subject/>
  <dc:title>Слайд 1</dc:title>
</cp:coreProperties>
</file>