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1.png" ContentType="image/png"/>
  <Override PartName="/ppt/media/image16.gif" ContentType="image/gif"/>
  <Override PartName="/ppt/media/image24.jpeg" ContentType="image/jpeg"/>
  <Override PartName="/ppt/media/image15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CCE-7B9D-4745-8579-66730E07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67E-9917-40C3-8900-DEFD4FB3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6DC-8BBD-4FF9-9E4F-F64E6018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4A9-AF56-4248-AA7C-22226344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ED27B-7113-4A35-AC27-CFDCD59E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58C74-BFDD-4209-8625-72F1035F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4BD98-7E44-4E55-BFB0-26D03067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653D2-7E17-4B62-B515-498B83CC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F1FB6-8083-4DF6-822B-1936155E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8E8EB-FC4F-47C1-B941-70FE8E47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4F05D-47B8-4C9F-982B-76BC242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5A1-DFAE-4123-A73E-B915F3CD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51F98-FBC1-48C5-BF7C-5619D0A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BDCCD-C516-444E-9CCE-53DCA2E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550D2-5E53-4F81-A0D6-8F18D0A3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C3D96-27AD-455E-8D07-CBBAA05B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B16D7-154E-443F-8AE5-22338A1B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E1DD-2B0D-4525-AE29-92B47B4A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1CEA-0A43-48AE-9B56-18F6769F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A4E2-83C3-450C-852E-7DA088E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914D-88AC-4098-8DFD-6490417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044A-1F1D-46BB-86BA-1E9FFEEF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A83-6841-4A92-B25A-DC18AF4B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4896-C460-45FB-9AB3-7901F37E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DA1F-131D-411B-8E0F-1F9C7F2E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983B-2A8D-4916-BF3C-786EFF91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E9A4D-F407-492C-9C3E-B409B2E6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C39D-3509-4CA5-AA09-D4D30C96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2EE2-F18D-4A83-94A1-06D7BF47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CBB7B-8C8D-47DE-8653-E2BF7A51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3D11F-5468-4AA4-AC1F-F4AFF7E9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562B37-5CAB-4A3E-B6E6-B7251F02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63EC2-1735-41F6-A83A-D7623484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C87-FBFF-4002-8A6C-41E1CCEB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DAF6A-3DF9-46E0-8C7D-39885EF0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03A5C-9145-4F2A-8CC1-2E4DC818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D2BBE-F727-4A1B-83E4-A18ACDEE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4D85E-9EFE-4909-BE82-4EF8BB4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1E06D-92ED-4E91-9590-A535AA7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8AE82-4B11-40E2-BC2C-5EC81020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CACF2-2007-4517-9294-6E7CD3E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47D29-0A5B-4522-9624-2860E67B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06DBB-96D6-4132-8F54-33C686A4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503-C263-4DD5-8411-79087141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F3D-A4B3-4836-B00D-ADDA1233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140-3351-4017-8AD6-728CF56E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68D-0700-4C52-BD56-3EB757A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D99-CC2D-4AD6-BF83-FEFC891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9899E0-17A5-4E97-AD80-9B30A035E86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D18775-48E0-4632-BEBD-EAD1B3DEE60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0C2829-2EE3-4DAE-8D82-C3DB1297751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7CB54B-B4D2-4935-B0D2-18EAAE55DA77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C:\Users\Администратор\AppData\Local\Microsoft\Windows\Temporary Internet Files\Content.IE5\0C70DJO4\cracked_oil_paint_frame_by_eyeinidas-d3k742v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1" descr=""/>
          <p:cNvPicPr/>
          <p:nvPr/>
        </p:nvPicPr>
        <p:blipFill>
          <a:blip r:embed="rId2"/>
          <a:stretch/>
        </p:blipFill>
        <p:spPr>
          <a:xfrm>
            <a:off x="682560" y="1822320"/>
            <a:ext cx="7785000" cy="174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Администратор\AppData\Local\Microsoft\Windows\Temporary Internet Files\Content.IE5\XA40KM92\happy-children[1].jpg"/>
          <p:cNvPicPr/>
          <p:nvPr/>
        </p:nvPicPr>
        <p:blipFill>
          <a:blip r:embed="rId3"/>
          <a:stretch/>
        </p:blipFill>
        <p:spPr>
          <a:xfrm>
            <a:off x="1335240" y="3575160"/>
            <a:ext cx="377820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309760" y="5224320"/>
            <a:ext cx="4292640" cy="11527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008760" cy="450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2707920"/>
            <a:ext cx="82296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«А я знаю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За лежанкой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Прячет мать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с вареньем банку»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Заголовок 2" descr=""/>
          <p:cNvPicPr/>
          <p:nvPr/>
        </p:nvPicPr>
        <p:blipFill>
          <a:blip r:embed="rId1"/>
          <a:stretch/>
        </p:blipFill>
        <p:spPr>
          <a:xfrm>
            <a:off x="450720" y="153036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Администратор\AppData\Local\Microsoft\Windows\Temporary Internet Files\Content.IE5\WBNAXXI3\glasses[1].jpg"/>
          <p:cNvPicPr/>
          <p:nvPr/>
        </p:nvPicPr>
        <p:blipFill>
          <a:blip r:embed="rId2"/>
          <a:stretch/>
        </p:blipFill>
        <p:spPr>
          <a:xfrm>
            <a:off x="539640" y="844560"/>
            <a:ext cx="1573200" cy="100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627280" y="765000"/>
            <a:ext cx="60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енем воображаемые 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3230640" y="5541840"/>
            <a:ext cx="2487600" cy="7732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" descr=""/>
          <p:cNvPicPr/>
          <p:nvPr/>
        </p:nvPicPr>
        <p:blipFill>
          <a:blip r:embed="rId2"/>
          <a:stretch/>
        </p:blipFill>
        <p:spPr>
          <a:xfrm>
            <a:off x="3147840" y="836640"/>
            <a:ext cx="290520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116000" y="1125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395280" y="1628640"/>
            <a:ext cx="14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672000" y="1709640"/>
            <a:ext cx="14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709640" y="480060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б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653080" y="436572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</a:rPr>
              <a:t>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1" descr=""/>
          <p:cNvPicPr/>
          <p:nvPr/>
        </p:nvPicPr>
        <p:blipFill>
          <a:blip r:embed="rId1"/>
          <a:stretch/>
        </p:blipFill>
        <p:spPr>
          <a:xfrm>
            <a:off x="6881760" y="1835280"/>
            <a:ext cx="1519200" cy="1133280"/>
          </a:xfrm>
          <a:prstGeom prst="rect">
            <a:avLst/>
          </a:prstGeom>
          <a:ln w="0">
            <a:noFill/>
          </a:ln>
        </p:spPr>
      </p:pic>
      <p:cxnSp>
        <p:nvCxnSpPr>
          <p:cNvPr id="210" name="Прямая со стрелкой 3"/>
          <p:cNvCxnSpPr/>
          <p:nvPr/>
        </p:nvCxnSpPr>
        <p:spPr>
          <a:xfrm>
            <a:off x="1547640" y="2941200"/>
            <a:ext cx="721440" cy="1640520"/>
          </a:xfrm>
          <a:prstGeom prst="straightConnector1">
            <a:avLst/>
          </a:prstGeom>
          <a:ln w="57240">
            <a:solidFill>
              <a:srgbClr val="7153a1"/>
            </a:solidFill>
            <a:miter/>
            <a:tailEnd len="med" type="arrow" w="med"/>
          </a:ln>
        </p:spPr>
      </p:cxnSp>
      <p:cxnSp>
        <p:nvCxnSpPr>
          <p:cNvPr id="211" name="Прямая со стрелкой 5"/>
          <p:cNvCxnSpPr/>
          <p:nvPr/>
        </p:nvCxnSpPr>
        <p:spPr>
          <a:xfrm flipV="1">
            <a:off x="2771280" y="3063600"/>
            <a:ext cx="901080" cy="177552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2" name="Прямая со стрелкой 7"/>
          <p:cNvCxnSpPr/>
          <p:nvPr/>
        </p:nvCxnSpPr>
        <p:spPr>
          <a:xfrm>
            <a:off x="4571640" y="3022200"/>
            <a:ext cx="1152720" cy="1631160"/>
          </a:xfrm>
          <a:prstGeom prst="straightConnector1">
            <a:avLst/>
          </a:prstGeom>
          <a:ln w="57240">
            <a:solidFill>
              <a:srgbClr val="7153a1"/>
            </a:solidFill>
            <a:miter/>
            <a:tailEnd len="med" type="arrow" w="med"/>
          </a:ln>
        </p:spPr>
      </p:cxnSp>
      <p:cxnSp>
        <p:nvCxnSpPr>
          <p:cNvPr id="213" name="Прямая со стрелкой 9"/>
          <p:cNvCxnSpPr/>
          <p:nvPr/>
        </p:nvCxnSpPr>
        <p:spPr>
          <a:xfrm flipV="1">
            <a:off x="394920" y="3021840"/>
            <a:ext cx="577080" cy="163116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4" name="Прямая со стрелкой 11"/>
          <p:cNvCxnSpPr/>
          <p:nvPr/>
        </p:nvCxnSpPr>
        <p:spPr>
          <a:xfrm flipV="1">
            <a:off x="6443640" y="2851920"/>
            <a:ext cx="838800" cy="180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15" name="TextBox 13"/>
          <p:cNvSpPr/>
          <p:nvPr/>
        </p:nvSpPr>
        <p:spPr>
          <a:xfrm>
            <a:off x="971640" y="533520"/>
            <a:ext cx="708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Споём правильн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Прямая со стрелкой 4"/>
          <p:cNvCxnSpPr/>
          <p:nvPr/>
        </p:nvCxnSpPr>
        <p:spPr>
          <a:xfrm flipV="1">
            <a:off x="684360" y="3212640"/>
            <a:ext cx="575280" cy="16264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17" name="Прямая со стрелкой 8"/>
          <p:cNvCxnSpPr/>
          <p:nvPr/>
        </p:nvCxnSpPr>
        <p:spPr>
          <a:xfrm>
            <a:off x="1403280" y="3357720"/>
            <a:ext cx="505440" cy="12960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18" name="Прямая со стрелкой 12"/>
          <p:cNvCxnSpPr/>
          <p:nvPr/>
        </p:nvCxnSpPr>
        <p:spPr>
          <a:xfrm flipV="1">
            <a:off x="3131640" y="3428640"/>
            <a:ext cx="793080" cy="15134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19" name="TextBox 17"/>
          <p:cNvSpPr/>
          <p:nvPr/>
        </p:nvSpPr>
        <p:spPr>
          <a:xfrm>
            <a:off x="2916360" y="59500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1 раз-синяя стрелка по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2 раз-жёл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5919 L 0.00017 -0.27376 E">
                                      <p:cBhvr>
                                        <p:cTn id="6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0.05919 L 5 -6 -0.27376">
                                      <p:cBhvr>
                                        <p:cTn id="6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"/>
          <p:cNvPicPr/>
          <p:nvPr/>
        </p:nvPicPr>
        <p:blipFill>
          <a:blip r:embed="rId1"/>
          <a:stretch/>
        </p:blipFill>
        <p:spPr>
          <a:xfrm>
            <a:off x="4946760" y="2590920"/>
            <a:ext cx="3355920" cy="3294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2"/>
          <a:stretch/>
        </p:blipFill>
        <p:spPr>
          <a:xfrm>
            <a:off x="1042920" y="2708280"/>
            <a:ext cx="3240000" cy="31766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3"/>
          <a:stretch/>
        </p:blipFill>
        <p:spPr>
          <a:xfrm>
            <a:off x="523800" y="1127160"/>
            <a:ext cx="8096400" cy="11588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1547640" y="588492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л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5651640" y="600228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ама   К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C:\Users\Администратор\AppData\Local\Microsoft\Windows\Temporary Internet Files\Content.IE5\XA40KM92\9663965220_58c5a8a97e_z[1].jpg"/>
          <p:cNvPicPr/>
          <p:nvPr/>
        </p:nvPicPr>
        <p:blipFill>
          <a:blip r:embed="rId1"/>
          <a:stretch/>
        </p:blipFill>
        <p:spPr>
          <a:xfrm>
            <a:off x="2158920" y="887400"/>
            <a:ext cx="4464000" cy="508320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1" descr=""/>
          <p:cNvPicPr/>
          <p:nvPr/>
        </p:nvPicPr>
        <p:blipFill>
          <a:blip r:embed="rId2"/>
          <a:stretch/>
        </p:blipFill>
        <p:spPr>
          <a:xfrm>
            <a:off x="463680" y="5510160"/>
            <a:ext cx="8242200" cy="115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2698920" y="1521000"/>
            <a:ext cx="3384360" cy="38160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"/>
          <p:cNvSpPr/>
          <p:nvPr/>
        </p:nvSpPr>
        <p:spPr>
          <a:xfrm>
            <a:off x="2268360" y="30312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ОЗ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590400" y="1874880"/>
            <a:ext cx="7974000" cy="331956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c.permculture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ttp://1klip.my1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ochi-24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maski-karnava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laycas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google.ru/webhp?sourceid=chrome-instant&amp;ion=1&amp;espv=2&amp;ie=UTF-8#newwindow=1&amp;q=%D0%BE%D0%BF%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xmusic.me/q/lsVMoN-Di6Pzl-qE3ZO7Q6vSg8W226jYpeany0eI4JLw6fqY3-D1u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ttp://www.prosv.ru/ebooks/kritskaya_muzika_1-4k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2" descr=""/>
          <p:cNvPicPr/>
          <p:nvPr/>
        </p:nvPicPr>
        <p:blipFill>
          <a:blip r:embed="rId1"/>
          <a:stretch/>
        </p:blipFill>
        <p:spPr>
          <a:xfrm>
            <a:off x="401760" y="189000"/>
            <a:ext cx="8285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298440" y="762120"/>
            <a:ext cx="85899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0720" y="396720"/>
            <a:ext cx="8242560" cy="1230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Users\Администратор\AppData\Local\Microsoft\Windows\Temporary Internet Files\Content.IE5\2SXRY3YU\theater[1].jpg"/>
          <p:cNvPicPr/>
          <p:nvPr/>
        </p:nvPicPr>
        <p:blipFill>
          <a:blip r:embed="rId2"/>
          <a:stretch/>
        </p:blipFill>
        <p:spPr>
          <a:xfrm>
            <a:off x="1835280" y="1916280"/>
            <a:ext cx="5752800" cy="4314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"/>
          <p:cNvPicPr/>
          <p:nvPr/>
        </p:nvPicPr>
        <p:blipFill>
          <a:blip r:embed="rId3"/>
          <a:stretch/>
        </p:blipFill>
        <p:spPr>
          <a:xfrm>
            <a:off x="1835280" y="907920"/>
            <a:ext cx="6051600" cy="5524560"/>
          </a:xfrm>
          <a:prstGeom prst="rect">
            <a:avLst/>
          </a:prstGeom>
          <a:ln w="0">
            <a:noFill/>
          </a:ln>
        </p:spPr>
      </p:pic>
      <p:pic>
        <p:nvPicPr>
          <p:cNvPr id="177" name="хор из оперы Волк и семеро козлят.mp3" descr=""/>
          <p:cNvPicPr/>
          <p:nvPr/>
        </p:nvPicPr>
        <p:blipFill>
          <a:blip r:embed="rId4"/>
          <a:stretch/>
        </p:blipFill>
        <p:spPr>
          <a:xfrm>
            <a:off x="942840" y="8668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107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1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229600" cy="6669000"/>
          </a:xfrm>
          <a:prstGeom prst="rect">
            <a:avLst/>
          </a:prstGeom>
          <a:ln w="0">
            <a:noFill/>
          </a:ln>
        </p:spPr>
      </p:pic>
      <p:pic>
        <p:nvPicPr>
          <p:cNvPr id="179" name="хор из оперы Волк и семеро козлят.mp3" descr=""/>
          <p:cNvPicPr/>
          <p:nvPr/>
        </p:nvPicPr>
        <p:blipFill>
          <a:blip r:embed="rId2"/>
          <a:stretch/>
        </p:blipFill>
        <p:spPr>
          <a:xfrm>
            <a:off x="7165800" y="549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C:\Users\Администратор\AppData\Local\Microsoft\Windows\Temporary Internet Files\Content.IE5\T5NMDU30\Singing_Clip_Art[1].png"/>
          <p:cNvPicPr/>
          <p:nvPr/>
        </p:nvPicPr>
        <p:blipFill>
          <a:blip r:embed="rId3"/>
          <a:stretch/>
        </p:blipFill>
        <p:spPr>
          <a:xfrm>
            <a:off x="6504120" y="4005360"/>
            <a:ext cx="22827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010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950760" y="146160"/>
            <a:ext cx="7742520" cy="1231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" descr=""/>
          <p:cNvPicPr/>
          <p:nvPr/>
        </p:nvPicPr>
        <p:blipFill>
          <a:blip r:embed="rId2"/>
          <a:stretch/>
        </p:blipFill>
        <p:spPr>
          <a:xfrm>
            <a:off x="736560" y="1630440"/>
            <a:ext cx="7670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9" descr="C:\Users\Администратор\AppData\Local\Microsoft\Windows\Temporary Internet Files\Content.IE5\WTKMWFFF\opera-eliksir-20121[1].jpg"/>
          <p:cNvPicPr/>
          <p:nvPr/>
        </p:nvPicPr>
        <p:blipFill>
          <a:blip r:embed="rId1"/>
          <a:stretch/>
        </p:blipFill>
        <p:spPr>
          <a:xfrm>
            <a:off x="611280" y="404640"/>
            <a:ext cx="2355840" cy="1692360"/>
          </a:xfrm>
          <a:prstGeom prst="rect">
            <a:avLst/>
          </a:prstGeom>
          <a:ln w="0">
            <a:noFill/>
          </a:ln>
        </p:spPr>
      </p:pic>
      <p:pic>
        <p:nvPicPr>
          <p:cNvPr id="184" name="Заголовок 1" descr=""/>
          <p:cNvPicPr/>
          <p:nvPr/>
        </p:nvPicPr>
        <p:blipFill>
          <a:blip r:embed="rId2"/>
          <a:stretch/>
        </p:blipFill>
        <p:spPr>
          <a:xfrm>
            <a:off x="133200" y="2206800"/>
            <a:ext cx="8425080" cy="402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Администратор\AppData\Local\Microsoft\Windows\Temporary Internet Files\Content.IE5\T5NMDU30\Singing_Clip_Art[1].png"/>
          <p:cNvPicPr/>
          <p:nvPr/>
        </p:nvPicPr>
        <p:blipFill>
          <a:blip r:embed="rId3"/>
          <a:stretch/>
        </p:blipFill>
        <p:spPr>
          <a:xfrm>
            <a:off x="6732720" y="4768920"/>
            <a:ext cx="2044440" cy="1679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Администратор\AppData\Local\Microsoft\Windows\Temporary Internet Files\Content.IE5\XA40KM92\Singing-Smiley-singing-9159211-90-120[1].gif"/>
          <p:cNvPicPr/>
          <p:nvPr/>
        </p:nvPicPr>
        <p:blipFill>
          <a:blip r:embed="rId4"/>
          <a:stretch/>
        </p:blipFill>
        <p:spPr>
          <a:xfrm flipH="1">
            <a:off x="7308360" y="770040"/>
            <a:ext cx="1150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493560" y="1362240"/>
            <a:ext cx="4249800" cy="41320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4964040" y="213372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 этой опе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ю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з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ма 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3" descr=""/>
          <p:cNvPicPr/>
          <p:nvPr/>
        </p:nvPicPr>
        <p:blipFill>
          <a:blip r:embed="rId1"/>
          <a:stretch/>
        </p:blipFill>
        <p:spPr>
          <a:xfrm>
            <a:off x="3176640" y="2664000"/>
            <a:ext cx="2790720" cy="31701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6" descr=""/>
          <p:cNvPicPr/>
          <p:nvPr/>
        </p:nvPicPr>
        <p:blipFill>
          <a:blip r:embed="rId2"/>
          <a:stretch/>
        </p:blipFill>
        <p:spPr>
          <a:xfrm>
            <a:off x="6804000" y="3573360"/>
            <a:ext cx="1728720" cy="25909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7" descr=""/>
          <p:cNvPicPr/>
          <p:nvPr/>
        </p:nvPicPr>
        <p:blipFill>
          <a:blip r:embed="rId3"/>
          <a:stretch/>
        </p:blipFill>
        <p:spPr>
          <a:xfrm>
            <a:off x="650880" y="344520"/>
            <a:ext cx="2066760" cy="30956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"/>
          <p:cNvSpPr/>
          <p:nvPr/>
        </p:nvSpPr>
        <p:spPr>
          <a:xfrm>
            <a:off x="3203640" y="16398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cf059"/>
                </a:solidFill>
                <a:latin typeface="Arial"/>
              </a:rPr>
              <a:t>Как зовут козлят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55600" y="1066680"/>
            <a:ext cx="863280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" descr=""/>
          <p:cNvPicPr/>
          <p:nvPr/>
        </p:nvPicPr>
        <p:blipFill>
          <a:blip r:embed="rId2"/>
          <a:stretch/>
        </p:blipFill>
        <p:spPr>
          <a:xfrm>
            <a:off x="3135240" y="3932280"/>
            <a:ext cx="2873520" cy="2090520"/>
          </a:xfrm>
          <a:prstGeom prst="rect">
            <a:avLst/>
          </a:prstGeom>
          <a:ln w="0">
            <a:noFill/>
          </a:ln>
        </p:spPr>
      </p:pic>
      <p:pic>
        <p:nvPicPr>
          <p:cNvPr id="195" name="Tema_Boltushki_i_Vseznajki_2_kl_-_iz_opery_Volk_i_semero_kozlyat_(xMusic.me).mp3" descr=""/>
          <p:cNvPicPr/>
          <p:nvPr/>
        </p:nvPicPr>
        <p:blipFill>
          <a:blip r:embed="rId3"/>
          <a:stretch/>
        </p:blipFill>
        <p:spPr>
          <a:xfrm>
            <a:off x="4356000" y="2797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528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56:42Z</dcterms:created>
  <dc:creator>Даниил</dc:creator>
  <dc:description/>
  <dc:language>en-US</dc:language>
  <cp:lastModifiedBy>Admin</cp:lastModifiedBy>
  <dcterms:modified xsi:type="dcterms:W3CDTF">2020-02-16T08:10:54Z</dcterms:modified>
  <cp:revision>35</cp:revision>
  <dc:subject/>
  <dc:title>Опера- сказка</dc:title>
</cp:coreProperties>
</file>