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18E-1BE1-439E-AEE5-E740F3CB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642-C9AE-4C76-B1C2-567B0683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AB1-D504-4DD3-BDE8-6CE93A61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1B5-9CDD-4E26-A5CF-909823EC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DBFF0-D898-4920-A14D-1F6A8FA9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E4DB4-4ECB-4A7E-AD65-A571E326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CE590-70EC-4513-BF54-1B779435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093E4-D6C4-4E7D-A2BD-1824D43A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1B89F-EB22-46ED-B874-FFC913A6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CE8C1-E666-491D-959D-71084F42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D215F-3BBB-4174-BB82-14630517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B76-384F-45D4-BDBF-994460B3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5F242-9413-4EAA-A333-6C096D80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88AF8-A91B-4597-AA01-E3D5309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A0CC5-ED74-48BD-AEDA-3F073FDA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F186-5F74-4D19-BC85-6236E1C2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D155D-4AE1-40D8-8FD5-26486F6B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FDE-47B7-4AB1-911F-1A35CC53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D52-6B7C-4325-9344-59BAD53F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7CB-1758-4D20-8403-6940BDFD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289-127E-45B6-97AD-ECD4D225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C76-D845-43C6-A7B1-59E5B5F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D5A-2AA0-41CF-9A1A-3D6C69C8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183-1549-418D-9275-D8C1DB7F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2132-32B6-4D10-9B66-9CF1BC3655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6EAA-6D86-4C3B-99DA-EEC2507B77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79246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ОУ «Лингвистическая гимназия» г.Ульянов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ЕКТНО –ИССЛЕДОВАТЕЛЬ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6720" y="388584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полн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йцева Варва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Г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ьяновск,20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828800"/>
            <a:ext cx="815328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да - водица..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67080" y="60958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«Гуси – лебед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7464" t="15554" r="10419" b="2225"/>
          <a:stretch/>
        </p:blipFill>
        <p:spPr>
          <a:xfrm>
            <a:off x="0" y="0"/>
            <a:ext cx="48704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0665" t="8278" r="10671" b="9960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57913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.П.Ершов «Конёк – Горбун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049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Иван –царевич и Серый Вол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20832" t="0" r="83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0" b="52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56669" t="27780" r="4169" b="5554"/>
          <a:stretch/>
        </p:blipFill>
        <p:spPr>
          <a:xfrm>
            <a:off x="4548240" y="990720"/>
            <a:ext cx="4595760" cy="586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 rot="19713000">
            <a:off x="-39240" y="1688760"/>
            <a:ext cx="7445160" cy="20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регите воду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ИСОК ИСПОЛЬЗУЕМЫХ ИСТОЧНИК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учно – познавательная энциклопедия Древо познания. М.: МС Ист Лимитед. — 24 с. — ISBN 1684-582X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ешаков А.А. Мир вокруг нас. М.: Просвещение,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ная хрестоматия по чтению для начальной школы. Москва, ОЛМА Медиа Групп, 20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– ресур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й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omy.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й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r-skazok.ne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ыяснить почему необходимо беречь водные ресур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Задачи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ести интервью с целью выяснения значимости воды в жизни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йти информацию об отношении к воде в прош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делать сравнительный анализ сказок, в которых говорится о свойствах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готовить продукт, призывающий беречь водные ресур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формить материал для отч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Гипотеза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Если небрежно относиться к воде, то можно лишиться её богат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7321" r="2756" b="690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298" t="0" r="2682" b="3334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6453" t="25709" r="13404" b="106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1608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3880" y="6095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.С.Пушкин «Сказка о царе Салтан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.С. Пушкин «Сказка о рыбаке и рыбк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52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«Сестрица Алёнушка и братец Ивануш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4T15:33:13Z</dcterms:created>
  <dc:creator>Crysis</dc:creator>
  <dc:description/>
  <dc:language>en-US</dc:language>
  <cp:lastModifiedBy>Crysis</cp:lastModifiedBy>
  <dcterms:modified xsi:type="dcterms:W3CDTF">2017-11-10T05:40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