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8.png" ContentType="image/png"/>
  <Override PartName="/ppt/media/image14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5.jpeg" ContentType="image/jpeg"/>
  <Override PartName="/ppt/media/image24.png" ContentType="image/png"/>
  <Override PartName="/ppt/media/image22.png" ContentType="image/png"/>
  <Override PartName="/ppt/media/image1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9.jpeg" ContentType="image/jpeg"/>
  <Override PartName="/ppt/media/image26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3757-549B-4A60-BA8B-10BB9B2A5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9820-C5CC-4E5C-B4D2-7A7B2FE4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3393-44E7-44DA-B786-97C65B545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7476-E459-41AC-B70E-888558234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FC24-BE37-4D56-802A-244A3C635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CB46D-3E95-43FE-8940-DA59EFA7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4257-3A0B-402F-A356-55904D44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DDFC1-6895-4009-8FDD-FEFBCAAB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7384-7EB4-4A04-90BA-00F96CA5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1C52F-3D56-4109-93B3-79767209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C49A-37DA-45BD-A4BA-ABC88299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E2F5-379A-4247-BC7B-02D63AAA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E1774-9C8D-429A-83AD-584F63AB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F8E4-E8A1-4E69-B607-607BABBD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D249-7B64-413E-BE32-0BDD846C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87B4-CBBF-40F6-A25A-6752FD65A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3235-1413-408B-9716-26641986B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9AB7E-89A8-4449-B78C-249F1A971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FC67A-70D0-4A25-8232-29AF6A9A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B7DD9-743F-48AB-B523-26E8C06A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D45E5-A033-4B3F-8CB6-96DC3126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0DF12-D9C6-4669-9D1A-0EF6B1AF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2038-427B-4B19-9401-8D5F929C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2EF56-FE2D-48AF-870C-3845CAFB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492C7-FA14-43B0-87BE-B1346F0C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46A22-E744-4914-8D9A-13CF1C67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2A50B-A890-440F-9864-A9FEF64C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F9685-C0B5-4384-A61E-66455867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703F7-3DAC-4EEA-A6F8-8C7ADA5B7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3CD34-F73F-4372-9714-AAC506D0A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04924-0BB8-4EA7-A43F-D20CDC5FA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6E44C-EF26-4B3F-9DE2-51F1F27F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173DF-5480-473E-9A8D-40E076F2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2B40-EFE6-44A4-A83D-CCAA00CE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77449-63AE-4B47-96A0-F862F6F4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612BE-5B2F-4D1F-AB4D-410044CC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023ED-8840-4A0C-995E-B31C98A9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BD283-D722-49F5-B889-168CB9C3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CCC3B-CFA0-46D2-9136-BF5C516A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9C77E-888F-4C19-919E-770048FE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C1A98-3566-463D-9E60-B75DB7B3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E320A-10E1-4718-82BA-321486950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87ADE-71A8-4705-A242-D67CC79F3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071D-8A08-4DCD-8EAB-0424A97C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5937-C4F8-4986-95E1-3C3D9BDE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A234-33FD-401B-A428-1AEC1ADA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954C-61E5-4BC4-A5A5-A573B853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860B-0F2F-44DF-B7FD-C6CA4314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E521-FA83-4274-9D7A-7A747F7B09D5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C364-9FAD-4565-B818-A88C7320218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6AFC-F419-435F-827D-5DA79207258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19EB-C444-49E0-9F14-6F6D467BEA63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77;&#1085;&#1100;&#1075;&#1080;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8920" y="4724280"/>
            <a:ext cx="8713800" cy="177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90c226"/>
                </a:solidFill>
                <a:latin typeface="Trebuchet MS"/>
              </a:rPr>
              <a:t>«Кошелёк </a:t>
            </a:r>
            <a:br>
              <a:rPr sz="5400"/>
            </a:br>
            <a:r>
              <a:rPr b="0" lang="ru-RU" sz="5400" spc="-1" strike="noStrike">
                <a:solidFill>
                  <a:srgbClr val="90c226"/>
                </a:solidFill>
                <a:latin typeface="Trebuchet MS"/>
              </a:rPr>
              <a:t>моей семьи»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3" name="Picture 2" descr="C:\Users\456\Desktop\ГРАМОТЫ\piggy-bank.jpg"/>
          <p:cNvPicPr/>
          <p:nvPr/>
        </p:nvPicPr>
        <p:blipFill>
          <a:blip r:embed="rId1"/>
          <a:stretch/>
        </p:blipFill>
        <p:spPr>
          <a:xfrm>
            <a:off x="1908000" y="600120"/>
            <a:ext cx="453564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Organization Chart 8"/>
          <p:cNvGrpSpPr/>
          <p:nvPr/>
        </p:nvGrpSpPr>
        <p:grpSpPr>
          <a:xfrm>
            <a:off x="395280" y="549360"/>
            <a:ext cx="8255520" cy="6001920"/>
            <a:chOff x="395280" y="549360"/>
            <a:chExt cx="8255520" cy="6001920"/>
          </a:xfrm>
        </p:grpSpPr>
        <p:cxnSp>
          <p:nvCxnSpPr>
            <p:cNvPr id="236" name="_s1028"/>
            <p:cNvCxnSpPr>
              <a:stCxn id="237" idx="0"/>
              <a:endCxn id="238" idx="2"/>
            </p:cNvCxnSpPr>
            <p:nvPr/>
          </p:nvCxnSpPr>
          <p:spPr>
            <a:xfrm flipV="1" rot="16200000">
              <a:off x="5034240" y="2438640"/>
              <a:ext cx="1200960" cy="2222640"/>
            </a:xfrm>
            <a:prstGeom prst="bentConnector3">
              <a:avLst>
                <a:gd name="adj1" fmla="val 116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9" name="_s1029"/>
            <p:cNvCxnSpPr>
              <a:stCxn id="240" idx="0"/>
              <a:endCxn id="238" idx="2"/>
            </p:cNvCxnSpPr>
            <p:nvPr/>
          </p:nvCxnSpPr>
          <p:spPr>
            <a:xfrm flipH="1" flipV="1" rot="5400000">
              <a:off x="2811240" y="2438280"/>
              <a:ext cx="1200960" cy="2223720"/>
            </a:xfrm>
            <a:prstGeom prst="bentConnector3">
              <a:avLst>
                <a:gd name="adj1" fmla="val 116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38" name="_s1030"/>
            <p:cNvSpPr/>
            <p:nvPr/>
          </p:nvSpPr>
          <p:spPr>
            <a:xfrm>
              <a:off x="2618280" y="549360"/>
              <a:ext cx="3810240" cy="2400840"/>
            </a:xfrm>
            <a:prstGeom prst="roundRect">
              <a:avLst>
                <a:gd name="adj" fmla="val 16667"/>
              </a:avLst>
            </a:prstGeom>
            <a:solidFill>
              <a:srgbClr val="90c22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ahoma"/>
                </a:rPr>
                <a:t>Основные статьи </a:t>
              </a:r>
              <a:endParaRPr b="0" lang="en-US" sz="33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ahoma"/>
                </a:rPr>
                <a:t>расходов </a:t>
              </a:r>
              <a:endParaRPr b="0" lang="en-US" sz="33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ahoma"/>
                </a:rPr>
                <a:t>семейного </a:t>
              </a:r>
              <a:endParaRPr b="0" lang="en-US" sz="33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ahoma"/>
                </a:rPr>
                <a:t>бюджета</a:t>
              </a:r>
              <a:endParaRPr b="0" lang="en-US" sz="3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_s1031"/>
            <p:cNvSpPr/>
            <p:nvPr/>
          </p:nvSpPr>
          <p:spPr>
            <a:xfrm>
              <a:off x="395280" y="4150440"/>
              <a:ext cx="3810240" cy="2400840"/>
            </a:xfrm>
            <a:prstGeom prst="roundRect">
              <a:avLst>
                <a:gd name="adj" fmla="val 16667"/>
              </a:avLst>
            </a:prstGeom>
            <a:solidFill>
              <a:srgbClr val="90c22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ahoma"/>
                </a:rPr>
                <a:t>ОБЯЗАТЕЛЬНЫЕ</a:t>
              </a:r>
              <a:endParaRPr b="0" lang="en-US" sz="3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_s1032"/>
            <p:cNvSpPr/>
            <p:nvPr/>
          </p:nvSpPr>
          <p:spPr>
            <a:xfrm>
              <a:off x="4840560" y="4150440"/>
              <a:ext cx="3810240" cy="2400840"/>
            </a:xfrm>
            <a:prstGeom prst="roundRect">
              <a:avLst>
                <a:gd name="adj" fmla="val 16667"/>
              </a:avLst>
            </a:prstGeom>
            <a:solidFill>
              <a:srgbClr val="90c22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ahoma"/>
                </a:rPr>
                <a:t>ТЕКУЩИЕ</a:t>
              </a:r>
              <a:endParaRPr b="0" lang="en-US" sz="33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19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90c226"/>
                </a:solidFill>
                <a:latin typeface="Trebuchet MS"/>
              </a:rPr>
              <a:t>Обязательные статьи расходов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итани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держание жилищ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редиты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3" name="Picture 5" descr=""/>
          <p:cNvPicPr/>
          <p:nvPr/>
        </p:nvPicPr>
        <p:blipFill>
          <a:blip r:embed="rId1"/>
          <a:stretch/>
        </p:blipFill>
        <p:spPr>
          <a:xfrm>
            <a:off x="6084720" y="4292640"/>
            <a:ext cx="2570400" cy="1884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44" name="Picture 7" descr=""/>
          <p:cNvPicPr/>
          <p:nvPr/>
        </p:nvPicPr>
        <p:blipFill>
          <a:blip r:embed="rId2"/>
          <a:stretch/>
        </p:blipFill>
        <p:spPr>
          <a:xfrm>
            <a:off x="3422520" y="4292640"/>
            <a:ext cx="1941480" cy="2565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45" name="Picture 8" descr=""/>
          <p:cNvPicPr/>
          <p:nvPr/>
        </p:nvPicPr>
        <p:blipFill>
          <a:blip r:embed="rId3"/>
          <a:stretch/>
        </p:blipFill>
        <p:spPr>
          <a:xfrm>
            <a:off x="468360" y="4581360"/>
            <a:ext cx="2376360" cy="1849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46" name="Picture 10" descr=""/>
          <p:cNvPicPr/>
          <p:nvPr/>
        </p:nvPicPr>
        <p:blipFill>
          <a:blip r:embed="rId4"/>
          <a:stretch/>
        </p:blipFill>
        <p:spPr>
          <a:xfrm>
            <a:off x="5724360" y="1268280"/>
            <a:ext cx="3240360" cy="2109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619280" y="380520"/>
            <a:ext cx="7067520" cy="7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rebuchet MS"/>
              </a:rPr>
              <a:t>Содержание жилища.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Коммунальные и другие ежемесячные платежи населения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плата коммунальных услуг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плата электроэнергии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плата за холодную воду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плата за горячую воду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плата за отопление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плата за канализацию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плата за пользование газом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плата за вывоз мусора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плата за радиоточку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плата за пользование коллективной антенной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другие платежи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6012000" y="2997360"/>
            <a:ext cx="2735280" cy="1903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50" name="Picture 5" descr=""/>
          <p:cNvPicPr/>
          <p:nvPr/>
        </p:nvPicPr>
        <p:blipFill>
          <a:blip r:embed="rId2"/>
          <a:stretch/>
        </p:blipFill>
        <p:spPr>
          <a:xfrm>
            <a:off x="7164360" y="5589720"/>
            <a:ext cx="1513080" cy="1077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51" name="Picture 6" descr=""/>
          <p:cNvPicPr/>
          <p:nvPr/>
        </p:nvPicPr>
        <p:blipFill>
          <a:blip r:embed="rId3"/>
          <a:stretch/>
        </p:blipFill>
        <p:spPr>
          <a:xfrm>
            <a:off x="5292720" y="1700280"/>
            <a:ext cx="1655640" cy="1027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Текущие расходы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6836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дежда и обув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емон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Хозяйственные товары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едметы личной гигиены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ранспортные расходы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4" name="Picture 5" descr=""/>
          <p:cNvPicPr/>
          <p:nvPr/>
        </p:nvPicPr>
        <p:blipFill>
          <a:blip r:embed="rId1"/>
          <a:stretch/>
        </p:blipFill>
        <p:spPr>
          <a:xfrm>
            <a:off x="6516720" y="1484280"/>
            <a:ext cx="2087640" cy="1974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55" name="Picture 6" descr="i_057"/>
          <p:cNvPicPr/>
          <p:nvPr/>
        </p:nvPicPr>
        <p:blipFill>
          <a:blip r:embed="rId2"/>
          <a:stretch/>
        </p:blipFill>
        <p:spPr>
          <a:xfrm>
            <a:off x="5796000" y="5157720"/>
            <a:ext cx="3095640" cy="15350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01600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9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2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19280" y="380520"/>
            <a:ext cx="7067520" cy="7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rebuchet MS"/>
              </a:rPr>
              <a:t>Крупные покупки</a:t>
            </a: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иобретение мебели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иобретение автомобиля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иобретение жилья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иобретение других предметов длительного пользования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9" name="Picture 4" descr=""/>
          <p:cNvPicPr/>
          <p:nvPr/>
        </p:nvPicPr>
        <p:blipFill>
          <a:blip r:embed="rId1"/>
          <a:stretch/>
        </p:blipFill>
        <p:spPr>
          <a:xfrm>
            <a:off x="468360" y="4076640"/>
            <a:ext cx="2585880" cy="19400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"/>
          <p:cNvPicPr/>
          <p:nvPr/>
        </p:nvPicPr>
        <p:blipFill>
          <a:blip r:embed="rId2"/>
          <a:stretch/>
        </p:blipFill>
        <p:spPr>
          <a:xfrm>
            <a:off x="6516720" y="1197000"/>
            <a:ext cx="1871640" cy="13604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"/>
          <p:cNvPicPr/>
          <p:nvPr/>
        </p:nvPicPr>
        <p:blipFill>
          <a:blip r:embed="rId3"/>
          <a:stretch/>
        </p:blipFill>
        <p:spPr>
          <a:xfrm>
            <a:off x="3348000" y="4076640"/>
            <a:ext cx="2521080" cy="18925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7" descr=""/>
          <p:cNvPicPr/>
          <p:nvPr/>
        </p:nvPicPr>
        <p:blipFill>
          <a:blip r:embed="rId4"/>
          <a:stretch/>
        </p:blipFill>
        <p:spPr>
          <a:xfrm>
            <a:off x="6227640" y="4005360"/>
            <a:ext cx="257040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Проверяем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611280" y="981000"/>
          <a:ext cx="6697440" cy="4962600"/>
        </p:xfrm>
        <a:graphic>
          <a:graphicData uri="http://schemas.openxmlformats.org/drawingml/2006/table">
            <a:tbl>
              <a:tblPr/>
              <a:tblGrid>
                <a:gridCol w="2016000"/>
                <a:gridCol w="2016000"/>
                <a:gridCol w="2665440"/>
              </a:tblGrid>
              <a:tr h="428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пла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н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пенд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об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личного хозяй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олнительные выпл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язатель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ущ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аль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теж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/энерг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н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та за детск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з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те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нзи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уг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ьные обед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товая связ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вач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редвиденные расход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Проверяем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611280" y="981000"/>
          <a:ext cx="6697440" cy="4962600"/>
        </p:xfrm>
        <a:graphic>
          <a:graphicData uri="http://schemas.openxmlformats.org/drawingml/2006/table">
            <a:tbl>
              <a:tblPr/>
              <a:tblGrid>
                <a:gridCol w="2016000"/>
                <a:gridCol w="2016000"/>
                <a:gridCol w="2665440"/>
              </a:tblGrid>
              <a:tr h="428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пла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н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пенд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об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личного хозяй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олнительные выпл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язатель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ущ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аль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тежи 4800 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/энергия 350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 3000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ы 5600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нет 770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та за детск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д 1400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зд 800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тека 1000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нзин 1780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уг 1000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ьные обеды 800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товая связь 500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вачка 260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редвиденные расходы 2500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"/>
          <p:cNvGraphicFramePr/>
          <p:nvPr/>
        </p:nvGraphicFramePr>
        <p:xfrm>
          <a:off x="1042920" y="1413000"/>
          <a:ext cx="6121440" cy="1430280"/>
        </p:xfrm>
        <a:graphic>
          <a:graphicData uri="http://schemas.openxmlformats.org/drawingml/2006/table">
            <a:tbl>
              <a:tblPr/>
              <a:tblGrid>
                <a:gridCol w="3060720"/>
                <a:gridCol w="3060720"/>
              </a:tblGrid>
              <a:tr h="64044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бязательны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Текущ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39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.920 руб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.640 руб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</a:tbl>
          </a:graphicData>
        </a:graphic>
      </p:graphicFrame>
      <p:sp>
        <p:nvSpPr>
          <p:cNvPr id="268" name="TextBox 5"/>
          <p:cNvSpPr/>
          <p:nvPr/>
        </p:nvSpPr>
        <p:spPr>
          <a:xfrm>
            <a:off x="1029600" y="3213000"/>
            <a:ext cx="48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того: расходы составляют 24.560 рубле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Соберите пословицы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9480" y="2160720"/>
            <a:ext cx="30909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1 семь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09480" y="2736360"/>
            <a:ext cx="309096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пейка к копейке, проживёт и семейк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867120" y="2160720"/>
            <a:ext cx="30909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2 семь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3" name="Рисунок 6" descr=""/>
          <p:cNvPicPr/>
          <p:nvPr/>
        </p:nvPicPr>
        <p:blipFill>
          <a:blip r:embed="rId1"/>
          <a:stretch/>
        </p:blipFill>
        <p:spPr>
          <a:xfrm>
            <a:off x="468360" y="3284640"/>
            <a:ext cx="3622680" cy="271152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7" descr=""/>
          <p:cNvPicPr/>
          <p:nvPr/>
        </p:nvPicPr>
        <p:blipFill>
          <a:blip r:embed="rId2"/>
          <a:stretch/>
        </p:blipFill>
        <p:spPr>
          <a:xfrm>
            <a:off x="4091040" y="4005360"/>
            <a:ext cx="3384360" cy="1871640"/>
          </a:xfrm>
          <a:prstGeom prst="rect">
            <a:avLst/>
          </a:prstGeom>
          <a:ln w="0">
            <a:noFill/>
          </a:ln>
        </p:spPr>
      </p:pic>
      <p:sp>
        <p:nvSpPr>
          <p:cNvPr id="275" name="Прямоугольник 1"/>
          <p:cNvSpPr/>
          <p:nvPr/>
        </p:nvSpPr>
        <p:spPr>
          <a:xfrm>
            <a:off x="3590640" y="2781360"/>
            <a:ext cx="27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енежки счёт любя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4" descr=""/>
          <p:cNvPicPr/>
          <p:nvPr/>
        </p:nvPicPr>
        <p:blipFill>
          <a:blip r:embed="rId1"/>
          <a:stretch/>
        </p:blipFill>
        <p:spPr>
          <a:xfrm>
            <a:off x="2124000" y="2276640"/>
            <a:ext cx="4321080" cy="430848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928000" cy="20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c42f1a"/>
                </a:solidFill>
                <a:latin typeface="Times New Roman"/>
                <a:ea typeface="Times New Roman"/>
              </a:rPr>
              <a:t>Ребята! </a:t>
            </a:r>
            <a:br>
              <a:rPr sz="3600"/>
            </a:br>
            <a:r>
              <a:rPr b="1" i="1" lang="ru-RU" sz="3600" spc="-1" strike="noStrike">
                <a:solidFill>
                  <a:srgbClr val="c42f1a"/>
                </a:solidFill>
                <a:latin typeface="Times New Roman"/>
                <a:ea typeface="Times New Roman"/>
              </a:rPr>
              <a:t>Учитесь вести </a:t>
            </a:r>
            <a:br>
              <a:rPr sz="3600"/>
            </a:br>
            <a:r>
              <a:rPr b="1" i="1" lang="ru-RU" sz="3600" spc="-1" strike="noStrike">
                <a:solidFill>
                  <a:srgbClr val="c42f1a"/>
                </a:solidFill>
                <a:latin typeface="Times New Roman"/>
                <a:ea typeface="Times New Roman"/>
              </a:rPr>
              <a:t>домашнее хозяйство экономно </a:t>
            </a:r>
            <a:br>
              <a:rPr sz="3600"/>
            </a:br>
            <a:r>
              <a:rPr b="1" i="1" lang="ru-RU" sz="3600" spc="-1" strike="noStrike">
                <a:solidFill>
                  <a:srgbClr val="c42f1a"/>
                </a:solidFill>
                <a:latin typeface="Times New Roman"/>
                <a:ea typeface="Times New Roman"/>
              </a:rPr>
              <a:t>и жить по средствам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Проверяем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2160720"/>
            <a:ext cx="30909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79280" y="1268280"/>
          <a:ext cx="5184720" cy="5185080"/>
        </p:xfrm>
        <a:graphic>
          <a:graphicData uri="http://schemas.openxmlformats.org/drawingml/2006/table">
            <a:tbl>
              <a:tblPr/>
              <a:tblGrid>
                <a:gridCol w="257400"/>
                <a:gridCol w="320400"/>
                <a:gridCol w="258840"/>
                <a:gridCol w="258840"/>
                <a:gridCol w="336600"/>
                <a:gridCol w="336600"/>
                <a:gridCol w="263520"/>
                <a:gridCol w="242640"/>
                <a:gridCol w="265320"/>
                <a:gridCol w="264960"/>
                <a:gridCol w="241560"/>
                <a:gridCol w="257040"/>
                <a:gridCol w="485640"/>
                <a:gridCol w="368280"/>
                <a:gridCol w="370080"/>
                <a:gridCol w="657000"/>
              </a:tblGrid>
              <a:tr h="863640">
                <a:tc gridSpan="5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7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 gridSpan="6"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5440">
                <a:tc gridSpan="4"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48432a"/>
                          </a:solidFill>
                          <a:latin typeface="Trebuchet MS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 gridSpan="2"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 gridSpan="2"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863280">
                <a:tc rowSpan="2"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48432a"/>
                          </a:solidFill>
                          <a:latin typeface="Trebuchet MS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 gridSpan="2"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 gridSpan="3"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48432a"/>
                          </a:solidFill>
                          <a:latin typeface="Trebuchet MS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 gridSpan="2"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544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7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48432a"/>
                          </a:solidFill>
                          <a:latin typeface="Trebuchet MS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 gridSpan="7"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3640">
                <a:tc gridSpan="4"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48432a"/>
                          </a:solidFill>
                          <a:latin typeface="Trebuchet MS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 gridSpan="2"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 gridSpan="2"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7" name="Rectangle 1"/>
          <p:cNvSpPr/>
          <p:nvPr/>
        </p:nvSpPr>
        <p:spPr>
          <a:xfrm>
            <a:off x="-206280" y="-473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-541440" y="0"/>
            <a:ext cx="9685440" cy="71532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-541440" y="5529240"/>
            <a:ext cx="9685440" cy="16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42f1a"/>
                </a:solidFill>
                <a:latin typeface="Trebuchet MS"/>
              </a:rPr>
              <a:t>Семья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– это то, что мы делим на всех,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Всем понемножку: и слезы, и смех,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Взлет и падение, радость, печаль,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Дружбу и ссоры, молчанья печать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БЮДЖЕТ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1" name="Рисунок 2" descr=""/>
          <p:cNvPicPr/>
          <p:nvPr/>
        </p:nvPicPr>
        <p:blipFill>
          <a:blip r:embed="rId1"/>
          <a:stretch/>
        </p:blipFill>
        <p:spPr>
          <a:xfrm>
            <a:off x="773280" y="1197000"/>
            <a:ext cx="759744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3" name="Содержимое 3" descr="https://ds02.infourok.ru/uploads/ex/02d1/00084030-5c49cfbe/img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3" descr="http://900igr.net/up/datas/182398/018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19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Основные источники доходов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0066"/>
                </a:solidFill>
                <a:latin typeface="Trebuchet MS"/>
              </a:rPr>
              <a:t>Заработная плата-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это денежное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вознаграждение, которое получает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работник за свой труд, за выполненную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работу. Она зависит от количества и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качества труда, затраченного работником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0066"/>
                </a:solidFill>
                <a:latin typeface="Trebuchet MS"/>
              </a:rPr>
              <a:t>Пенсия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- ежемесячное </a:t>
            </a:r>
            <a:r>
              <a:rPr b="0" lang="ru-RU" sz="2200" spc="-1" strike="noStrike" u="sng">
                <a:solidFill>
                  <a:srgbClr val="99ca3c"/>
                </a:solidFill>
                <a:uFillTx/>
                <a:latin typeface="Trebuchet MS"/>
                <a:hlinkClick r:id="rId1"/>
              </a:rPr>
              <a:t>денежное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пособие, которое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платят лицам, достигшим пенсионного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возраста (пенсии по старости), или имеют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инвалидность, а также бывают пенсии по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случаю потери кормильца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2"/>
          <a:stretch/>
        </p:blipFill>
        <p:spPr>
          <a:xfrm>
            <a:off x="6516720" y="1628640"/>
            <a:ext cx="2305080" cy="2114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28" name="Picture 5" descr=""/>
          <p:cNvPicPr/>
          <p:nvPr/>
        </p:nvPicPr>
        <p:blipFill>
          <a:blip r:embed="rId3"/>
          <a:stretch/>
        </p:blipFill>
        <p:spPr>
          <a:xfrm>
            <a:off x="6443640" y="4581360"/>
            <a:ext cx="2400480" cy="1803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19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Источники доходов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836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Доходы от собственности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(сдача в аренду квартиры,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дачи, земельного участка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Процентные выплаты по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денежным вкладам в банке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Доходы с личного подсобного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хозяйства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Государственные дотации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Стипендия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Пособие на ребенка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5867280" y="1484280"/>
            <a:ext cx="2305080" cy="1589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32" name="Picture 5" descr=""/>
          <p:cNvPicPr/>
          <p:nvPr/>
        </p:nvPicPr>
        <p:blipFill>
          <a:blip r:embed="rId2"/>
          <a:stretch/>
        </p:blipFill>
        <p:spPr>
          <a:xfrm>
            <a:off x="5867280" y="3213000"/>
            <a:ext cx="2303640" cy="1535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33" name="Picture 6" descr=""/>
          <p:cNvPicPr/>
          <p:nvPr/>
        </p:nvPicPr>
        <p:blipFill>
          <a:blip r:embed="rId3"/>
          <a:stretch/>
        </p:blipFill>
        <p:spPr>
          <a:xfrm>
            <a:off x="5867280" y="4869000"/>
            <a:ext cx="2303640" cy="1641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1042920" y="549360"/>
          <a:ext cx="6050160" cy="4867200"/>
        </p:xfrm>
        <a:graphic>
          <a:graphicData uri="http://schemas.openxmlformats.org/drawingml/2006/table">
            <a:tbl>
              <a:tblPr/>
              <a:tblGrid>
                <a:gridCol w="3024360"/>
                <a:gridCol w="1392120"/>
                <a:gridCol w="1633680"/>
              </a:tblGrid>
              <a:tr h="4525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181818"/>
                          </a:solidFill>
                          <a:latin typeface="Trebuchet MS"/>
                        </a:rPr>
                        <a:t>Бюдж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d57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d57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d57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Зарпл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d5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d5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d578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ен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d5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d5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d578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типенд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d5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d5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d578"/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соб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d5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d5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d578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оходы от личного хозяй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d5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d5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d578"/>
                    </a:solidFill>
                  </a:tcPr>
                </a:tc>
              </a:tr>
              <a:tr h="13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ополнительные выпл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d5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d5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d57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13:29:05Z</dcterms:created>
  <dc:creator>Андрей</dc:creator>
  <dc:description/>
  <dc:language>en-US</dc:language>
  <cp:lastModifiedBy>Пользователь Windows</cp:lastModifiedBy>
  <dcterms:modified xsi:type="dcterms:W3CDTF">2019-08-22T04:06:21Z</dcterms:modified>
  <cp:revision>84</cp:revision>
  <dc:subject/>
  <dc:title>Взаимоотношения в семье</dc:title>
</cp:coreProperties>
</file>