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A8E-5F25-4FC5-9892-B5DCC993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52C-CACD-4B09-BF77-63F44BD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F2-7F22-4EC6-AA0D-02FC0937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3B8-8B61-41FB-83B2-361074A9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5C44-C785-4140-BDC2-A9ED3C57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C779-1F70-4AD5-A918-F1ACC0DA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1FE0-2AAB-4790-A5DB-E4EB9ACA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3611-CD5D-4D76-8700-675F42B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1F3D-E7C0-40CA-B6DC-776F4DF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FB31-D129-427C-81FB-6139922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F3E6-5E35-45E5-ABEE-6DB3031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C10-DE07-4D65-AD66-773D0C89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94BD-B3A7-4AD0-9744-B84897C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08B-8DD9-4BB4-A3CE-1BF071B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2AC7-EC8B-47AD-80E9-41BBE1B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04E-D4C7-4710-A5EB-98BECE86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59B5-760A-4533-9690-E07F6038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FDAB-CC52-4413-80C4-0E6D5897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6F0C-F3E2-40A7-A121-C31E4452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D9DA-B99B-404A-A253-EABE280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CDE6-451E-434C-A6C5-4DA4BBF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ABE2-97CC-41D1-9F2D-99D226F3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AA0-D159-4D32-8153-2206B03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0D4D-AE56-4730-9AD1-071811F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34B3-5BBD-49B5-B042-4613D92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56CB-4E78-4454-AE8C-E7D6090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36EA-4A0E-4BA0-84A0-5DD5FF1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58DE-FFC9-48C6-AA5E-A56FCD0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44A8-C12D-412A-855C-F370D6FC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F132-871F-43E8-ACB4-CF0F1DB5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7730-DE1C-4144-BD00-08110C59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4213-1550-4B5D-9334-3FE4C2E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C70C-2C61-44FC-85F0-9851A7D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BE8-469C-40EE-BEFC-5752B01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9754-9034-41EE-8457-98E9B59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D897-8CEC-4D61-B252-78C8903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71A4-7EF1-4530-AB7C-F19DF86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4290-DBEE-4E11-80D4-F93CA6D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BA57-BDE5-4313-8E96-9BBBC74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27E1-B5B7-4F1C-8999-2AC5FA3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1A4A-7CC1-45AA-8229-1CA5CEF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E608-36F7-4D72-A5C5-9F9CD939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40EA-299A-40D8-802A-33B25639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FCF-46B3-4EBD-8C15-A01D46D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478-1BAE-4AA9-9608-02C6C4F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9AD-AEC3-4260-8393-42B249B2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F11-13E1-4ACD-984E-BA03A2F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479-9068-4A1D-87D3-8D74B14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FA6-AAB0-46D8-84DA-0128FF103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4106161-thumb.png"/>
          <p:cNvPicPr/>
          <p:nvPr/>
        </p:nvPicPr>
        <p:blipFill>
          <a:blip r:embed="rId5"/>
          <a:stretch/>
        </p:blipFill>
        <p:spPr>
          <a:xfrm>
            <a:off x="7572240" y="4175280"/>
            <a:ext cx="1262160" cy="968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th (1).jpg"/>
          <p:cNvPicPr/>
          <p:nvPr/>
        </p:nvPicPr>
        <p:blipFill>
          <a:blip r:embed="rId6"/>
          <a:stretch/>
        </p:blipFill>
        <p:spPr>
          <a:xfrm>
            <a:off x="0" y="3929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tradicii.jpg"/>
          <p:cNvPicPr/>
          <p:nvPr/>
        </p:nvPicPr>
        <p:blipFill>
          <a:blip r:embed="rId7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F06-A12C-4592-9718-7F1F78458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logo_Spec-obrazov.JPG"/>
          <p:cNvPicPr/>
          <p:nvPr/>
        </p:nvPicPr>
        <p:blipFill>
          <a:blip r:embed="rId5"/>
          <a:stretch/>
        </p:blipFill>
        <p:spPr>
          <a:xfrm>
            <a:off x="142920" y="4000680"/>
            <a:ext cx="1120680" cy="100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A074-10F5-4C2C-9E4E-978530A6C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56b5ba9a8e784.jpg"/>
          <p:cNvPicPr/>
          <p:nvPr/>
        </p:nvPicPr>
        <p:blipFill>
          <a:blip r:embed="rId5"/>
          <a:stretch/>
        </p:blipFill>
        <p:spPr>
          <a:xfrm>
            <a:off x="6929280" y="4429080"/>
            <a:ext cx="1901880" cy="620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974-2074-4075-9EEC-A3CFB7943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56384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2110"/>
                </a:solidFill>
                <a:latin typeface="Monotype Corsiva"/>
              </a:rPr>
              <a:t>Игровая технология </a:t>
            </a:r>
            <a:br>
              <a:rPr sz="4400"/>
            </a:br>
            <a:r>
              <a:rPr b="1" lang="ru-RU" sz="4400" spc="-1" strike="noStrike">
                <a:solidFill>
                  <a:srgbClr val="862110"/>
                </a:solidFill>
                <a:latin typeface="Monotype Corsiva"/>
              </a:rPr>
              <a:t>в образовательном процессе для детей с ОВЗ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788000" y="3292560"/>
            <a:ext cx="4032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160b"/>
                </a:solidFill>
                <a:latin typeface="Times New Roman"/>
              </a:rPr>
              <a:t>Маннанова Дамира Аминовна, </a:t>
            </a:r>
            <a:endParaRPr b="1" lang="en-US" sz="15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160b"/>
                </a:solidFill>
                <a:latin typeface="Times New Roman"/>
              </a:rPr>
              <a:t>учитель начальных классов</a:t>
            </a:r>
            <a:endParaRPr b="1" lang="en-US" sz="15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160b"/>
                </a:solidFill>
                <a:latin typeface="Times New Roman"/>
              </a:rPr>
              <a:t>«СТШ»</a:t>
            </a:r>
            <a:endParaRPr b="1" lang="en-US" sz="15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160b"/>
                </a:solidFill>
                <a:latin typeface="Times New Roman"/>
              </a:rPr>
              <a:t>г. Сургут, 2019 </a:t>
            </a:r>
            <a:endParaRPr b="1" lang="en-US" sz="15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19640" y="411120"/>
            <a:ext cx="32400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ВИДЫ ИГР:</a:t>
            </a: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58920" y="1275840"/>
            <a:ext cx="37782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и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южетно-ролевы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атрализованны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ижны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тивны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ьчиковые игры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льно-печатные игры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6948360" y="339840"/>
            <a:ext cx="1814760" cy="1901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492120" y="1306440"/>
            <a:ext cx="24177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59280" y="483840"/>
            <a:ext cx="35287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НАШИ  ИГРЫ</a:t>
            </a: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1203120"/>
            <a:ext cx="4353120" cy="27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учеек»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спорченный телефон»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оре волнуется раз…»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ляксы»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ешок страха»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адки. Скороговорки.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8360" y="1144440"/>
            <a:ext cx="6264360" cy="3772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42920" y="771480"/>
            <a:ext cx="4753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ЗА ВНИМАНИЕ</a:t>
            </a: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268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СПИСОК ЛИТЕРАТУРЫ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9080" y="1058760"/>
            <a:ext cx="7954920" cy="43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нченко И. С. Игра в теории, обучении, воспитании и коррекционной работе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/ И. С. Гринченко. — М., 2010. 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Дружиловская О. В. Научно-историческое наследие Г. Я. Трошина и его значение для современной специальной психологии и педагогики / Культурно- историческая психология./ 2011. № 3. 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Жукова З. П. Развитие интеллектуальных способностей младших школьников в ходе игры / З. П. Жукова / Начальная школа. — 2011. — № 5. 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ьюмен С. Игры и занятия с особым ребенком. Руководство для родителей / Пер. с англ. Н. Л. Холмогоровой. — 3-е, стереотипное. — М.: Теревинф, 2009. 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Ларечина Е. Пальчиковые игры для малышей. – СПб.: Речь, 2011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Толстоносова Р. В. Значение игровой деятельности для детей с ограниченными      возможностями здоровья.    / Инновационные педагогические технологии: материалы IV Междунар. науч. конф./(г. Казань, май 2016 г.)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28880" y="285480"/>
            <a:ext cx="6858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62110"/>
                </a:solidFill>
                <a:latin typeface="Monotype Corsiva"/>
              </a:rPr>
              <a:t>Источники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5640" y="1923840"/>
            <a:ext cx="7272360" cy="24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Times New Roman"/>
              </a:rPr>
              <a:t>https://image.jimcdn.com/app/cms/image/transf/dimension=320x1024:format=png/path/s75cdb9d568ef538d/image/i6f23b5b05fc07d16/version/1452168068/image.png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Times New Roman"/>
              </a:rPr>
              <a:t>http://smartur.ru/bin/images/kniga-vyazanaya-odejda-dlya-107373-small.jpg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Times New Roman"/>
              </a:rPr>
              <a:t>http://www.mammy-pappy.ru/images/stories/articles/prazdnik_znanij.gif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Times New Roman"/>
              </a:rPr>
              <a:t>http://sssr-stv.ru/attachments/Image/pedagogika.gif?template=generic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12031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«</a:t>
            </a:r>
            <a:r>
              <a:rPr b="1" lang="ru-RU" sz="2100" spc="-1" strike="noStrike">
                <a:solidFill>
                  <a:srgbClr val="0d0d0d"/>
                </a:solidFill>
                <a:latin typeface="Times New Roman"/>
              </a:rPr>
              <a:t>Без игры </a:t>
            </a: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не может быть полноценного умственного развития. 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d0d0d"/>
                </a:solidFill>
                <a:latin typeface="Times New Roman"/>
              </a:rPr>
              <a:t>Игра</a:t>
            </a: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 — это огромное светлое окно, через которое 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в духовный мир ребенка вливается живительный поток 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представлений, понятий окружающего мира. 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d0d0d"/>
                </a:solidFill>
                <a:latin typeface="Times New Roman"/>
              </a:rPr>
              <a:t>Игра</a:t>
            </a:r>
            <a:r>
              <a:rPr b="1" lang="ru-RU" sz="2100" spc="-1" strike="noStrike">
                <a:solidFill>
                  <a:srgbClr val="404040"/>
                </a:solidFill>
                <a:latin typeface="Times New Roman"/>
              </a:rPr>
              <a:t> — это искра, зажигающая огонёк пытливости и любознательности»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В.А. Сухомлинский.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842760"/>
            <a:ext cx="77724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ЦЕЛЬ </a:t>
            </a:r>
            <a:br>
              <a:rPr sz="4000"/>
            </a:b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ИГРОВОЙ ТЕХНОЛОГИИ </a:t>
            </a: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360" y="2179440"/>
            <a:ext cx="64087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—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d0d0d"/>
                </a:solidFill>
                <a:latin typeface="Times New Roman"/>
              </a:rPr>
              <a:t>дать ребёнку возможность «прожить» в игре волнующие его ситуации при полном внимании и сопереживании взрослого, при этом не менять ребёнка и не переделывать его, не учить его каким- то специальным поведенческим навыкам. </a:t>
            </a:r>
            <a:endParaRPr b="1" lang="en-US" sz="21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555480"/>
            <a:ext cx="77724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РОЛЬ ИГРЫ 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347840"/>
            <a:ext cx="7882200" cy="15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ажным требованием современности является снижение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психических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физических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перегрузок учеников. 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900000" y="3003480"/>
            <a:ext cx="36576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920" y="339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АДАПТАЦИОННЫЙ  ПЕРИОД </a:t>
            </a: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13148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Основная задача в адаптационный период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— формирование эмоционального контакта, доверия детей к учителю, умения видеть в нём доброго, всегда готового прийти на помощь человека. 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Игровые моменты в адаптационный период помогают: </a:t>
            </a:r>
            <a:endParaRPr b="1" lang="en-US" sz="2000" spc="-1" strike="noStrike">
              <a:solidFill>
                <a:srgbClr val="5a160b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преодолеть стрессовые состояния у детей в период адаптации к школе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снизить импульсивность, излишнюю двигательную активность, тревогу, агрессию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развить навыки взаимодействия детей друг с другом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развить внимание, восприятие, речь, воображение, мелкую моторику, координацию движения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4838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ТРЕБОВАНИЯ  К  ИГРАМ: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32000" y="1492200"/>
            <a:ext cx="7416720" cy="30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одействовать сплочению коллектива.</a:t>
            </a: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Иметь познавательное значение.</a:t>
            </a: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Активизировать общественную деятельность учащихся.</a:t>
            </a: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Обеспечивать мыслительную активность участников игры.</a:t>
            </a: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оздавать условия для детского творчества.</a:t>
            </a: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4838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ТРЕБОВАНИЯ  К  ИГРАМ: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6000" y="1563480"/>
            <a:ext cx="7272360" cy="284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вление ходом игры;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ётко поставленная цель игры;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бно-познавательная направленность;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; 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ический результат. </a:t>
            </a: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483840"/>
            <a:ext cx="69120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ТРЕБОВАНИЯ  К  ИГРАМ: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539640" y="1203480"/>
            <a:ext cx="843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игры возрасту ребенка или его актуальному уровню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труктуры деф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игрового материала с постепенным услож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содержания игры с системой знаний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коррекционной цели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инципа смены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ярких, озвученных игрушек и пособ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41112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2110"/>
                </a:solidFill>
                <a:latin typeface="Monotype Corsiva"/>
              </a:rPr>
              <a:t>ФУНКЦИИ  ИГРЫ:</a:t>
            </a:r>
            <a:br>
              <a:rPr sz="4000"/>
            </a:br>
            <a:endParaRPr b="1" lang="en-US" sz="40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275840"/>
            <a:ext cx="7772400" cy="386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Обучающ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– закрепление знаний, формирование умений и навыков, в том числе общеучебных, развитие памяти, внимания, мышления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2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Развлекательн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– создание благоприятной атмосферы на переменах и уроках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3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Развивающ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- развитие ребёнка, коррекция того, что в ней заложено и проявлено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4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Воспитательн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- выявление индивидуальных особенностей детей,  устранение нежелательных проявлений в характере своих воспитанников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5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Коммуникативная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– объединение коллектива учащихся, установление эмоциональных контактов; свободное сотрудничество школьников с учителем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6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Релаксационн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– снятие напряжения, вызванного нагрузкой на нервную систему при обучении;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7. </a:t>
            </a:r>
            <a:r>
              <a:rPr b="1" lang="ru-RU" sz="1600" spc="-1" strike="noStrike" u="sng">
                <a:solidFill>
                  <a:srgbClr val="9a3d01"/>
                </a:solidFill>
                <a:uFillTx/>
                <a:latin typeface="Times New Roman"/>
              </a:rPr>
              <a:t>Психотехническая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</a:rPr>
              <a:t> – формирование навыков подготовки своего физиологического состояния для более эффективной деятельности.</a:t>
            </a: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a16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08:02:58Z</dcterms:created>
  <dc:creator>Lenovo</dc:creator>
  <dc:description/>
  <dc:language>en-US</dc:language>
  <cp:lastModifiedBy>Damira</cp:lastModifiedBy>
  <dcterms:modified xsi:type="dcterms:W3CDTF">2019-05-05T10:03:53Z</dcterms:modified>
  <cp:revision>27</cp:revision>
  <dc:subject/>
  <dc:title>Слайд 1</dc:title>
</cp:coreProperties>
</file>