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8A0-7049-416E-9781-FD8B9EA3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C81-57ED-4599-A292-ADA8C3BE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567-52DB-4F01-BA56-8288CFD1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964-E193-4BF0-89C2-4AD36A7D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508B-7503-484F-90C7-CEFCD0DA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4FC4-881A-457F-958F-CE756E99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533C-91F8-4B5B-A2C7-ED59C935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8C3D-4E94-4298-82ED-FA155A89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4858-E840-47F6-9DFB-F26B61B9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6A68-A261-4BDD-8DAA-2DC2D85E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FAC5-66BA-4940-AB00-03EBEAA1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D58-5E25-4C00-9BA3-B25365E0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AF70-5FA9-4B7F-8869-C73E4555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DBFA-13AF-48E9-A6F0-A125E031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CC37-3EB6-4C86-B269-B5AABA40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7DDF-546A-42EA-B24D-FB02710B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11CE-2DAF-4C56-A319-FC98E185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5E8E-388A-4292-A4C3-673F46EB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64F-58CB-462B-AE1E-090EDFC8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394-AAFA-407A-BEEA-B956891F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45E-E537-4AD7-9207-C9A5227A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1C7-2F71-44ED-A4A3-FDDD3D1F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D9E-732A-418A-B26B-0ED1C8D5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F34-C43B-41B5-AB2D-6A183657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A668-4083-4BE7-B606-B3ABFA14A0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53A1-2F47-4B61-9C57-AA09B79F69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"/>
          <p:cNvSpPr/>
          <p:nvPr/>
        </p:nvSpPr>
        <p:spPr>
          <a:xfrm>
            <a:off x="623880" y="166680"/>
            <a:ext cx="839484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тюшская кадетская школа-интерна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нерал-майора Хапаева Владимира Аверкиевич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 на тем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ПАЕВ ВЛАДИМИР АВЕРКИЕ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дин Юрий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3503520" y="565200"/>
            <a:ext cx="517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57 года суперсекретный отряд КГБ в рамках программы по использованию атомной энергии в мирных целях стал заниматься и космосом. В том числе безопасностью первого отряда космонав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се в отряде - Юра Гагарин, Гера Титов, Валя Терешкова, Андриян Николаев, Жора Береговой и другие - были для меня, как родные, - говорит В.Хапаев. - Очень тесно общался с ребятами и, естественно, знал о них все - к этому обязывала моя работа. Тогда я уже руководил нашим секретным подразделен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должны были обеспечить полнейшую безопасность космонавтов, оградить их от недоразумений, волне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2014god.com/wp-content/uploads/2015/06/3B1s9.jpg"/>
          <p:cNvPicPr/>
          <p:nvPr/>
        </p:nvPicPr>
        <p:blipFill>
          <a:blip r:embed="rId1"/>
          <a:stretch/>
        </p:blipFill>
        <p:spPr>
          <a:xfrm>
            <a:off x="395280" y="388800"/>
            <a:ext cx="2720880" cy="2444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mtdata.ru/u16/photoF361/20242709801-0/original.jpg"/>
          <p:cNvPicPr/>
          <p:nvPr/>
        </p:nvPicPr>
        <p:blipFill>
          <a:blip r:embed="rId2"/>
          <a:stretch/>
        </p:blipFill>
        <p:spPr>
          <a:xfrm>
            <a:off x="622440" y="3568680"/>
            <a:ext cx="24937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1919160" y="412920"/>
            <a:ext cx="692784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-майор Хапаев и Чернобы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том, какую дозу облучения получил Владимир Хапаев почти за полвека возле ядерного оружия, остается только догадываться. По его собственным воспоминаниям, первая солидная порция досталась ему в 1957 году, во время работы оперативной группы по расследованию чрезвычайного происшествия на секретном предприятии "Маяк" в Челябинске-40. Там взорвалась "банка" - хранилище отходов атомного производ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ая норма радиации для человека - 0,5 бэр (биологический эквивалент рентгена) в год. В военное время критическая суммарная мощность доходит до 25 бэр. Хапаев В.А. в Чернобыле получил 80 бэ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звращения домой (разумеется, никто дома и не предполагал, где был глава семьи) Хапаев В.А. уехал в Карловы Вары. Конечно, самовольно: по всем медицинским канонам ему "светили" клиника и долгая реабилитация. Но уж по возвращении с отдыха больницы избежать не удалось. Прошел обследование. 13 чекистам, в том числе и нашему генералу, была предложена операция по пересадке костного моз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отказался. Быть может, поэтому до сих пор жив, - признается о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cdn01.ru/files/users/images/29/be/29bef564d5698a905aa8e6ad176f91c6.jpg"/>
          <p:cNvPicPr/>
          <p:nvPr/>
        </p:nvPicPr>
        <p:blipFill>
          <a:blip r:embed="rId1"/>
          <a:stretch/>
        </p:blipFill>
        <p:spPr>
          <a:xfrm>
            <a:off x="152280" y="830160"/>
            <a:ext cx="1766880" cy="1681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www.chernobyltv.net/images/video/001.jpg"/>
          <p:cNvPicPr/>
          <p:nvPr/>
        </p:nvPicPr>
        <p:blipFill>
          <a:blip r:embed="rId2"/>
          <a:stretch/>
        </p:blipFill>
        <p:spPr>
          <a:xfrm>
            <a:off x="219240" y="3527280"/>
            <a:ext cx="16999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2438280" y="311040"/>
            <a:ext cx="5873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ь о здоровье Владимир Аверкиевич не любил. Единственное, о чем генерал обмолвился: если до Чернобыля он весил 106 килограммов, то после - быстро похудел на 4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ел из жизни Владимир Аверкиевич Хапаев 24 ноября 2009 года. Похоронен в г. Казани на Арском кладбищ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tetushi.tatarstan.ru/file/Image/IMG-20171107-WA0005.jpg"/>
          <p:cNvPicPr/>
          <p:nvPr/>
        </p:nvPicPr>
        <p:blipFill>
          <a:blip r:embed="rId1"/>
          <a:stretch/>
        </p:blipFill>
        <p:spPr>
          <a:xfrm>
            <a:off x="3056040" y="2854440"/>
            <a:ext cx="5256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2300400" y="295200"/>
            <a:ext cx="646884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над проектом и его реализ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рганизационный этап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темой проекта, его целью и задач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составление плана работы над проектом, выделение целей и задач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подбор научно-популярной и художественной литератур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подбор фотографий  на тем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работа с методической литератур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создание условий для реализации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Этап реализа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сего собранного материала постарался отобрать наиболее важную, ценную информ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ше началась самая трудная работа.   Располагал материал по заранее составленному плану, подбирал фотографии к приложени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 эта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л всю работу. Отредактировал текст.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1703520" y="1111320"/>
            <a:ext cx="667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предназна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данной исследовательской  работы  могут быть использованы при организации воспитательной деятельности с подрастающим поколением, для теоретических и практических занятий по ис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1717560" y="695160"/>
            <a:ext cx="64566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ость проек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е чувства гордости за земля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едставить творческо-поисковый продукт индивидуаль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ответственности педагогов за формирование у воспитанников патриотических чувств, гражданской пози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едагога обобщать, систематизировать, презентовать накопленный опыт по реализации проектов, акций патриотической направлен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2286000" y="750960"/>
            <a:ext cx="620712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и хочется  сказать, что благодаря Владимиру Аверкиевичу, наш мир стал, намного безопаснее. Я благодарен ему за его самоотверженный труд во благо нашего Отечества.  Хочется, чтобы таких людей было больше на нашей земл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итаю, что судьба России будет в  руках молодого поколения. Мы должны знать историю нашей страны, ее особенности и понимать, черты национального русского характера. Наша задача - не превращаться в равнодушных, бесчувственных людей. Делать правильные ориентиры в жизни помогают простые люди, мои земля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>
            <a:off x="3270240" y="1415880"/>
            <a:ext cx="4572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точ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А. Чекмарев. Есть на Волге городок… Издательство «По городам и весям». Казань, 20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atfrontu.ru/person/hapaev-vladimir-averkievi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vetkon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t-online.ru/p-rubr-obsh-3719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etushi.tatarstan.ru/ekskursiya-v-muzee-kadetskoy-slavi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tetushi.tatarstan.ru/file/DSC06163(1).jpg"/>
          <p:cNvPicPr/>
          <p:nvPr/>
        </p:nvPicPr>
        <p:blipFill>
          <a:blip r:embed="rId1"/>
          <a:stretch/>
        </p:blipFill>
        <p:spPr>
          <a:xfrm>
            <a:off x="1363680" y="425520"/>
            <a:ext cx="6991200" cy="50194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2590920" y="5749920"/>
            <a:ext cx="57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в ГБОУ «Тетюшская кадетская школа-интернат имени генерал-майора Хапаева В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720720" y="331920"/>
            <a:ext cx="805032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прошло детство, там и начинается Род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узьма Чор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живу в маленьком, тихом и красивом  городке  Тетюши, который находится на берегу реки Волге. Работаю в Тетюшской кадетской школе-интернат. Наша школа в настоящее время носит  имя генерал-майора В.А. Хапаева. Это наш земляк, который гордился тем, что он тетюшанин. Человек, который трудился во благо нашей Роди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 исследовательской работы является актуаль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настоящее время, так как подростковый возраст является особым для становления личности. Поэтому наш долг - знать историю малой родины, знать и помнить о своих земляках, их делах. Я выбрал именно эту тему для исследования, потому что  имя этого великого человека носит наша школа. Но далеко не каждый знает о трудном жизненном пути генерал-майора Хапаева В.А., всю свою жизнь посвятившего защите Отече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тема исследовательской работы является источником нравственно–патриотического воспитания для молодого поколения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3"/>
          <p:cNvSpPr/>
          <p:nvPr/>
        </p:nvSpPr>
        <p:spPr>
          <a:xfrm>
            <a:off x="1171440" y="179280"/>
            <a:ext cx="779148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  работы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исследовать   деятельность земляка, чье имя носит кадетская школа-интерна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анализировать различные виды источников информации по теме исследован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становить события   судьбы геро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казать мужество и самоотверженность земля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расширению знаний воспитанников о герое родного кра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творческие и исследовательские способности   в процесс изучения  судьбы земляк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интерес,  любовь к малой родине, чувство уважения к людям, живущим ряд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иография земляка, прославившего свою малую Роди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мет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нерал-майор Владимир Аверкиевич Хапае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ы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бота с краеведческой литературой, интернет-источниками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начимост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ладимир Аверкиевич Хапаев  не относился к людям, выставляющим напоказ свои заслуги. Пусть  эта работа  станет доброй памятью об этом уважаемом человеке,  прожившим долгую, трудную, но интересную жизн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060640" y="406440"/>
            <a:ext cx="685152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е он, наш земля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-майор Владимир Аверкиевич Хапаев - участник Великой Отечественной войны, почетный сотрудник госбезопасности, который руководил обеспечением безопасности ракетно-ядерного щита Советского Союза. На его счету сотни разоблаченных агентов иностранных разведслужб, десятки осуществленных контрразведывательных операций и предотвращенных диверсий. Его и по сей день называют «рыцарем отечественной контрразведки». Только в 1993 году он был рассекречен и получил возможность называться своим настоящим имен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дружил с Юрием Гагариным и Германом Титовым, с Сергеем Королевым и Игорем Курчатовым. За время службы и командировок, связанных с трагедией на Чернобыльской АЭС, он получил такую дозу радиации, какую медики признают несовместимой с жизнью. В.А. Хапаев, объяснял свою выносливость просто: «Я – волжанин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77920" y="246240"/>
            <a:ext cx="1782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1300320" y="625320"/>
            <a:ext cx="7624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меня было нормальное деревенское детство, - вспоминает Владимир Аверкиевич. - Родился в Тетюшах и, как любой уважающий себя тетюшский подросток, просто обязан был уметь грести на лодке, рыбачить, переплыть Волгу, держаться на лошади (без седла, разумеется - откуда у мальчишек седла?). Кумирами довоенных тетюшских мальчишек были... биндюжники - грузчики, работавшие на пристани: такие мышцы переливались под загорелой кожей - куда там всяким нынешним шварценеггерам. Зимой - коньки, лыжи. Конечно, были и походы в соседские сады за вишней и яблоками, хотя в собственном саду их было просто завались. Это не ради еды - ради того, чтобы продемонстрировать смелость. Вот уж кого-кого, а трусов среди довоенных тетюшских мальчишек не было...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же будучи взрослым, работая в системе КГБ, я специально проверял по архивам и лишний раз убедился: среди моих земляков, тетюшан, не было ни одного дезертира или предателя. Не родит их наша земля. И что бы ни случилось, я обязан помнить: я волжанин, тетюшанин...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тверженный труд Валери Аверкиевича отмечен 5 орденами, в том числе Красной Звезды, Трудового Красного Знамени, 26 медалями. Генерал-майор Хапаев В.А. - участник Великой Отечественной войны, ветеран военной службы. Почетный сотрудник госбезопасности. Я горжусь нашим земляком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1378080" y="403200"/>
            <a:ext cx="743112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й пу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Аверкиевич Хапаев родился 6 ноября 1925 года в городе Тетюш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0-м Хапаев уже жил и учился в Казани. Детство кончилось с войной - в 17 лет ушел добровольцем на фронт. Это было в январе 1943 года, в том же году вступил в партию. Сначала попал в Ленинград. Из Ленинграда его отправили в Томск. В сентябре 1944 года попал в 86-ю зенитно-артиллерийскую дивизию Юго-Западного фронта ПВО страны, войну закончил в Румы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Аверкиевич демобилизовался, вернулся в Казань. Поступил в педагогический институт на физфак. Хотел в университет, но не взяли без аттестата - ушел на войну после девятого класса. Учась в пединституте, сдавал экзамены за десятилетку, чтобы получить аттестат. Окончил вуз с отличием, поступил в аспиранту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нтябре 1952 года Владимир Хапаев оказался в органах госбезопасности и переехал на постоянное место жительства в Москву. Его направили в самое секретное подразделение из всех, которые когда-либо существовали в ВЧК и КГБ - в первый специальный отдел, обеспечивавший государственную безопасность ракетно-ядерного щита Советского Сою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Объект 3" descr="http://www.vetkon.ru/images/stories/veterany/hapaev.jpg"/>
          <p:cNvPicPr/>
          <p:nvPr/>
        </p:nvPicPr>
        <p:blipFill>
          <a:blip r:embed="rId1"/>
          <a:stretch/>
        </p:blipFill>
        <p:spPr>
          <a:xfrm>
            <a:off x="1944720" y="1004760"/>
            <a:ext cx="6335640" cy="4443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3606840" y="56800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апаев В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3"/>
          <p:cNvSpPr/>
          <p:nvPr/>
        </p:nvSpPr>
        <p:spPr>
          <a:xfrm>
            <a:off x="2627280" y="264960"/>
            <a:ext cx="6091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-майор Хапае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дробностях «атомных» перипет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Великой Отечественной войны, когда велись переговоры между главами трех стран - СССР, США и Англии, американцы постарались довести до Сталина сведения о наличии у них атомной бомбы (даже разработали целый сценарий, чтобы поэффектнее получилось). Видимо, рассчитывали насладиться страхом в глазах советского правителя. Однако Генералиссимус воспринял шокирующую информацию совершенно спокойно. На самом же деле... Сталин дал указание Курчатову незамедлительно ускорить работы по созданию атомной бомбы. В августе 1945 года спешно создается специальный комитет при Совете Народных Комиссаров (возглавил его Лаврентий Берия). Под его началом работали: непосредственно по разработке ядерного оружия - 1-е главное управление (руководитель - Борис Ванников); по добыче урана и другого сырья - 2-е главное управление (Петр Антропов); по разработке носителей - 3-е главное управление (Вячеслав Рябиков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Объект 3" descr="http://www.vetkon.ru/images/stories/vospominaniya/bomba.png"/>
          <p:cNvPicPr/>
          <p:nvPr/>
        </p:nvPicPr>
        <p:blipFill>
          <a:blip r:embed="rId1"/>
          <a:stretch/>
        </p:blipFill>
        <p:spPr>
          <a:xfrm>
            <a:off x="403200" y="1512720"/>
            <a:ext cx="22240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1584360" y="222120"/>
            <a:ext cx="73929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, поставленная правительством, была не из легких: создать оружие не только в кратчайшие сроки, но и при строжайшей конспирации, так как американцы уже почувствовали, что и мы не топчемся на месте. Чтобы сохранить работы в тайне, в 1946 году был образован специальный 1-й секретный отдел КГБ СССР, впоследствии занимавшийся и обеспечением безопасности ядерного щита страны. Режим строжайшей секретности привел к тому, что когда 29 августа 1949 года под Семипалатинском в 7 часов утра по местному времени произошел подрыв первого советского атомного заряда, американцы ахнули - они были уверены, будто мы придем к этому лет на 5-6 поз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ервых испытаний началась массовая заброска Америкой в Союз агентуры, перед которой была поставлена задача: выявить на территории СССР объекты, занимающиеся ракетно-ядерным вооружением. Привлекались в основном перебежчики и дезертиры - бывшие граждане нашей страны, которых советские контрразведчики называли "узколобыми": подготовлены они были слабо и действовали примитивно - сказалась спешка. Задания, получаемые агентами иностранных разведслужб, поначалу сводились к следующему: например, приехать в Свердловск, с правой стороны дороги, ведущей до Нижнего Тагила, набрать земли, травы и прочего. Пробы отослать по назначению, а уж там по уровню радиации определят, есть ли близ данной территории интересующий кое-кого объект или нет. Таких "разведчиков" отлавливали отряд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21:49:00Z</dcterms:created>
  <dc:creator>Инна</dc:creator>
  <dc:description/>
  <dc:language>en-US</dc:language>
  <cp:lastModifiedBy>Юдин</cp:lastModifiedBy>
  <dcterms:modified xsi:type="dcterms:W3CDTF">2019-01-26T18:29:47Z</dcterms:modified>
  <cp:revision>16</cp:revision>
  <dc:subject/>
  <dc:title>Название презентации</dc:title>
</cp:coreProperties>
</file>