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8AF-D48B-47A6-BFA0-9D9A5C67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C74-9864-4E7B-B271-D9867BBC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D18-17C2-45AA-9217-D893EFB7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92B-94B4-40C6-BF5B-F82890A7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3E0-C3BF-4D39-95B0-66FE20AE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956D-4854-4525-A571-67F53B6F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B10-54FD-4AF8-A4A3-002CDD5F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D0FA-96AF-4252-B128-051DF9F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A0C4-D94C-4ECF-9C69-09884D3A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C74-6B86-468F-AC07-3D80345F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DD0C-ED63-4E8A-A3A3-6365E26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D90-C1E0-47F3-B65F-99465BF7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D2C-F372-4818-AE11-8A293E7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AD07-36D6-49DB-A4D4-D367050F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AEEA-D6AD-4774-A330-7298BCFD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8B3A-E277-49E7-B442-5B7C168E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AA1-29F9-450F-A4FF-2E55BB93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3DA-0DE2-4881-934B-62094561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274-F2FE-4B11-AF68-A70600E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84A-5EAC-465C-9521-D6760F0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9AA-E423-499E-B16D-E5C3CF34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6E4-5583-48C4-A50B-E897652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1BE-0DA4-44DD-8ABC-FDD751C0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987-3216-4B91-BB98-B732032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0FC5-512D-483C-9D8E-7BF5B33118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98E6-0033-4891-9747-682E6D6526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623880" y="166680"/>
            <a:ext cx="839484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тюшская кадетская школа-интерна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нерал-майора Хапаева Владимира Аверкиевич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на тем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ПАЕВ ВЛАДИМИР АВЕРКИ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 Юрий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3503520" y="565200"/>
            <a:ext cx="517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57 года суперсекретный отряд КГБ в рамках программы по использованию атомной энергии в мирных целях стал заниматься и космосом. В том числе безопасностью первого отряда космонав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е в отряде - Юра Гагарин, Гера Титов, Валя Терешкова, Андриян Николаев, Жора Береговой и другие - были для меня, как родные, - говорит В.Хапаев. - Очень тесно общался с ребятами и, естественно, знал о них все - к этому обязывала моя работа. Тогда я уже руководил нашим секретным подразделе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должны были обеспечить полнейшую безопасность космонавтов, оградить их от недоразумений, волн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2014god.com/wp-content/uploads/2015/06/3B1s9.jpg"/>
          <p:cNvPicPr/>
          <p:nvPr/>
        </p:nvPicPr>
        <p:blipFill>
          <a:blip r:embed="rId1"/>
          <a:stretch/>
        </p:blipFill>
        <p:spPr>
          <a:xfrm>
            <a:off x="395280" y="388800"/>
            <a:ext cx="2720880" cy="244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mtdata.ru/u16/photoF361/20242709801-0/original.jpg"/>
          <p:cNvPicPr/>
          <p:nvPr/>
        </p:nvPicPr>
        <p:blipFill>
          <a:blip r:embed="rId2"/>
          <a:stretch/>
        </p:blipFill>
        <p:spPr>
          <a:xfrm>
            <a:off x="622440" y="3568680"/>
            <a:ext cx="24937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1919160" y="412920"/>
            <a:ext cx="692784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майор Хапаев и Чернобы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ом, какую дозу облучения получил Владимир Хапаев почти за полвека возле ядерного оружия, остается только догадываться. По его собственным воспоминаниям, первая солидная порция досталась ему в 1957 году, во время работы оперативной группы по расследованию чрезвычайного происшествия на секретном предприятии "Маяк" в Челябинске-40. Там взорвалась "банка" - хранилище отходов атомного про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ая норма радиации для человека - 0,5 бэр (биологический эквивалент рентгена) в год. В военное время критическая суммарная мощность доходит до 25 бэр. Хапаев В.А. в Чернобыле получил 80 бэ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вращения домой (разумеется, никто дома и не предполагал, где был глава семьи) Хапаев В.А. уехал в Карловы Вары. Конечно, самовольно: по всем медицинским канонам ему "светили" клиника и долгая реабилитация. Но уж по возвращении с отдыха больницы избежать не удалось. Прошел обследование. 13 чекистам, в том числе и нашему генералу, была предложена операция по пересадке костного моз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отказался. Быть может, поэтому до сих пор жив, - признается 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cdn01.ru/files/users/images/29/be/29bef564d5698a905aa8e6ad176f91c6.jpg"/>
          <p:cNvPicPr/>
          <p:nvPr/>
        </p:nvPicPr>
        <p:blipFill>
          <a:blip r:embed="rId1"/>
          <a:stretch/>
        </p:blipFill>
        <p:spPr>
          <a:xfrm>
            <a:off x="152280" y="830160"/>
            <a:ext cx="1766880" cy="168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chernobyltv.net/images/video/001.jpg"/>
          <p:cNvPicPr/>
          <p:nvPr/>
        </p:nvPicPr>
        <p:blipFill>
          <a:blip r:embed="rId2"/>
          <a:stretch/>
        </p:blipFill>
        <p:spPr>
          <a:xfrm>
            <a:off x="219240" y="3527280"/>
            <a:ext cx="16999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2438280" y="311040"/>
            <a:ext cx="5873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о здоровье Владимир Аверкиевич не любил. Единственное, о чем генерал обмолвился: если до Чернобыля он весил 106 килограммов, то после - быстро похудел на 4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ел из жизни Владимир Аверкиевич Хапаев 24 ноября 2009 года. Похоронен в г. Казани на Арском кладбищ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tetushi.tatarstan.ru/file/Image/IMG-20171107-WA0005.jpg"/>
          <p:cNvPicPr/>
          <p:nvPr/>
        </p:nvPicPr>
        <p:blipFill>
          <a:blip r:embed="rId1"/>
          <a:stretch/>
        </p:blipFill>
        <p:spPr>
          <a:xfrm>
            <a:off x="3056040" y="2854440"/>
            <a:ext cx="5256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300400" y="295200"/>
            <a:ext cx="64688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проектом и его реал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изационный этап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темой проекта, его целью и задач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составление плана работы над проектом, выделение целей и зада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подбор научно-популярной и художественной литератур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подбор фотографий  на тем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работа с методической литератур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создание условий для реализации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тап реализ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го собранного материала постарался отобрать наиболее важную, ценн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 началась самая трудная работа.   Располагал материал по заранее составленному плану, подбирал фотографии к приложен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 всю работу. Отредактировал текст.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1703520" y="1111320"/>
            <a:ext cx="667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редназна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данной исследовательской  работы  могут быть использованы при организации воспитательной деятельности с подрастающим поколением, для теоретических и практических занятий по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1717560" y="695160"/>
            <a:ext cx="6456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ость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чувства гордости за земля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едставить творческо-поисковый продукт индивидуаль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ответственности педагогов за формирование у воспитанников патриотических чувств, гражданской пози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едагога обобщать, систематизировать, презентовать накопленный опыт по реализации проектов, акций патриотической направле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2286000" y="750960"/>
            <a:ext cx="620712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хочется  сказать, что благодаря Владимиру Аверкиевичу, наш мир стал, намного безопаснее. Я благодарен ему за его самоотверженный труд во благо нашего Отечества.  Хочется, чтобы таких людей было больше на нашей земл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судьба России будет в  руках молодого поколения. Мы должны знать историю нашей страны, ее особенности и понимать, черты национального русского характера. Наша задача - не превращаться в равнодушных, бесчувственных людей. Делать правильные ориентиры в жизни помогают простые люди, мои земля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3270240" y="1415880"/>
            <a:ext cx="4572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точ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А. Чекмарев. Есть на Волге городок… Издательство «По городам и весям». Казань, 20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atfrontu.ru/person/hapaev-vladimir-averkiev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tkon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t-online.ru/p-rubr-obsh-3719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etushi.tatarstan.ru/ekskursiya-v-muzee-kadetskoy-slavi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tetushi.tatarstan.ru/file/DSC06163(1).jpg"/>
          <p:cNvPicPr/>
          <p:nvPr/>
        </p:nvPicPr>
        <p:blipFill>
          <a:blip r:embed="rId1"/>
          <a:stretch/>
        </p:blipFill>
        <p:spPr>
          <a:xfrm>
            <a:off x="1363680" y="425520"/>
            <a:ext cx="6991200" cy="5019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2590920" y="5749920"/>
            <a:ext cx="57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 ГБОУ «Тетюшская кадетская школа-интернат имени генерал-майора Хапаева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720720" y="331920"/>
            <a:ext cx="805032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прошло детство, там и начинается Род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зьма Чор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живу в маленьком, тихом и красивом  городке  Тетюши, который находится на берегу реки Волге. Работаю в Тетюшской кадетской школе-интернат. Наша школа в настоящее время носит  имя генерал-майора В.А. Хапаева. Это наш земляк, который гордился тем, что он тетюшанин. Человек, который трудился во благо нашей Род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исследовательской работы является актуа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стоящее время, так как подростковый возраст является особым для становления личности. Поэтому наш долг - знать историю малой родины, знать и помнить о своих земляках, их делах. Я выбрал именно эту тему для исследования, потому что  имя этого великого человека носит наша школа. Но далеко не каждый знает о трудном жизненном пути генерал-майора Хапаева В.А., всю свою жизнь посвятившего защите Отеч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тема исследовательской работы является источником нравственно–патриотического воспитания для молодого поколения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1171440" y="179280"/>
            <a:ext cx="77914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  работы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исследовать   деятельность земляка, чье имя носит кадетская школа-интерна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нализировать различные виды источников информации по теме исследова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становить события   судьбы геро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казать мужество и самоотверженность земля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сширению знаний воспитанников о герое родного кра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творческие и исследовательские способности   в процесс изучения  судьбы земляк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интерес,  любовь к малой родине, чувство уважения к людям, живущим ря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иография земляка, прославившего свою малую Род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-майор Владимир Аверкиевич Хапа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бота с краеведческой литературой, интернет-источниками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чимост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ладимир Аверкиевич Хапаев  не относился к людям, выставляющим напоказ свои заслуги. Пусть  эта работа  станет доброй памятью об этом уважаемом человеке,  прожившим долгую, трудную, но интересную жиз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060640" y="406440"/>
            <a:ext cx="68515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он, наш земля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майор Владимир Аверкиевич Хапаев - участник Великой Отечественной войны, почетный сотрудник госбезопасности, который руководил обеспечением безопасности ракетно-ядерного щита Советского Союза. На его счету сотни разоблаченных агентов иностранных разведслужб, десятки осуществленных контрразведывательных операций и предотвращенных диверсий. Его и по сей день называют «рыцарем отечественной контрразведки». Только в 1993 году он был рассекречен и получил возможность называться своим настоящим име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ружил с Юрием Гагариным и Германом Титовым, с Сергеем Королевым и Игорем Курчатовым. За время службы и командировок, связанных с трагедией на Чернобыльской АЭС, он получил такую дозу радиации, какую медики признают несовместимой с жизнью. В.А. Хапаев, объяснял свою выносливость просто: «Я – волжанин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920" y="246240"/>
            <a:ext cx="1782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300320" y="625320"/>
            <a:ext cx="7624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меня было нормальное деревенское детство, - вспоминает Владимир Аверкиевич. - Родился в Тетюшах и, как любой уважающий себя тетюшский подросток, просто обязан был уметь грести на лодке, рыбачить, переплыть Волгу, держаться на лошади (без седла, разумеется - откуда у мальчишек седла?). Кумирами довоенных тетюшских мальчишек были... биндюжники - грузчики, работавшие на пристани: такие мышцы переливались под загорелой кожей - куда там всяким нынешним шварценеггерам. Зимой - коньки, лыжи. Конечно, были и походы в соседские сады за вишней и яблоками, хотя в собственном саду их было просто завались. Это не ради еды - ради того, чтобы продемонстрировать смелость. Вот уж кого-кого, а трусов среди довоенных тетюшских мальчишек не было..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же будучи взрослым, работая в системе КГБ, я специально проверял по архивам и лишний раз убедился: среди моих земляков, тетюшан, не было ни одного дезертира или предателя. Не родит их наша земля. И что бы ни случилось, я обязан помнить: я волжанин, тетюшанин..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тверженный труд Валери Аверкиевича отмечен 5 орденами, в том числе Красной Звезды, Трудового Красного Знамени, 26 медалями. Генерал-майор Хапаев В.А. - участник Великой Отечественной войны, ветеран военной службы. Почетный сотрудник госбезопасности. Я горжусь нашим земляком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1378080" y="403200"/>
            <a:ext cx="743112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Аверкиевич Хапаев родился 6 ноября 1925 года в городе Тетюш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м Хапаев уже жил и учился в Казани. Детство кончилось с войной - в 17 лет ушел добровольцем на фронт. Это было в январе 1943 года, в том же году вступил в партию. Сначала попал в Ленинград. Из Ленинграда его отправили в Томск. В сентябре 1944 года попал в 86-ю зенитно-артиллерийскую дивизию Юго-Западного фронта ПВО страны, войну закончил в Румы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Аверкиевич демобилизовался, вернулся в Казань. Поступил в педагогический институт на физфак. Хотел в университет, но не взяли без аттестата - ушел на войну после девятого класса. Учась в пединституте, сдавал экзамены за десятилетку, чтобы получить аттестат. Окончил вуз с отличием, поступил в аспиранту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нтябре 1952 года Владимир Хапаев оказался в органах госбезопасности и переехал на постоянное место жительства в Москву. Его направили в самое секретное подразделение из всех, которые когда-либо существовали в ВЧК и КГБ - в первый специальный отдел, обеспечивавший государственную безопасность ракетно-ядерного щита Советского Сою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Объект 3" descr="http://www.vetkon.ru/images/stories/veterany/hapaev.jpg"/>
          <p:cNvPicPr/>
          <p:nvPr/>
        </p:nvPicPr>
        <p:blipFill>
          <a:blip r:embed="rId1"/>
          <a:stretch/>
        </p:blipFill>
        <p:spPr>
          <a:xfrm>
            <a:off x="1944720" y="1004760"/>
            <a:ext cx="6335640" cy="4443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606840" y="56800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паев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2627280" y="264960"/>
            <a:ext cx="6091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майор Хапае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робностях «атомных» перипе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еликой Отечественной войны, когда велись переговоры между главами трех стран - СССР, США и Англии, американцы постарались довести до Сталина сведения о наличии у них атомной бомбы (даже разработали целый сценарий, чтобы поэффектнее получилось). Видимо, рассчитывали насладиться страхом в глазах советского правителя. Однако Генералиссимус воспринял шокирующую информацию совершенно спокойно. На самом же деле... Сталин дал указание Курчатову незамедлительно ускорить работы по созданию атомной бомбы. В августе 1945 года спешно создается специальный комитет при Совете Народных Комиссаров (возглавил его Лаврентий Берия). Под его началом работали: непосредственно по разработке ядерного оружия - 1-е главное управление (руководитель - Борис Ванников); по добыче урана и другого сырья - 2-е главное управление (Петр Антропов); по разработке носителей - 3-е главное управление (Вячеслав Рябик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Объект 3" descr="http://www.vetkon.ru/images/stories/vospominaniya/bomba.png"/>
          <p:cNvPicPr/>
          <p:nvPr/>
        </p:nvPicPr>
        <p:blipFill>
          <a:blip r:embed="rId1"/>
          <a:stretch/>
        </p:blipFill>
        <p:spPr>
          <a:xfrm>
            <a:off x="403200" y="1512720"/>
            <a:ext cx="2224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1584360" y="222120"/>
            <a:ext cx="73929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, поставленная правительством, была не из легких: создать оружие не только в кратчайшие сроки, но и при строжайшей конспирации, так как американцы уже почувствовали, что и мы не топчемся на месте. Чтобы сохранить работы в тайне, в 1946 году был образован специальный 1-й секретный отдел КГБ СССР, впоследствии занимавшийся и обеспечением безопасности ядерного щита страны. Режим строжайшей секретности привел к тому, что когда 29 августа 1949 года под Семипалатинском в 7 часов утра по местному времени произошел подрыв первого советского атомного заряда, американцы ахнули - они были уверены, будто мы придем к этому лет на 5-6 поз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ервых испытаний началась массовая заброска Америкой в Союз агентуры, перед которой была поставлена задача: выявить на территории СССР объекты, занимающиеся ракетно-ядерным вооружением. Привлекались в основном перебежчики и дезертиры - бывшие граждане нашей страны, которых советские контрразведчики называли "узколобыми": подготовлены они были слабо и действовали примитивно - сказалась спешка. Задания, получаемые агентами иностранных разведслужб, поначалу сводились к следующему: например, приехать в Свердловск, с правой стороны дороги, ведущей до Нижнего Тагила, набрать земли, травы и прочего. Пробы отослать по назначению, а уж там по уровню радиации определят, есть ли близ данной территории интересующий кое-кого объект или нет. Таких "разведчиков" отлавливали отряд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21:49:00Z</dcterms:created>
  <dc:creator>Инна</dc:creator>
  <dc:description/>
  <dc:language>en-US</dc:language>
  <cp:lastModifiedBy>Юдин</cp:lastModifiedBy>
  <dcterms:modified xsi:type="dcterms:W3CDTF">2019-01-26T18:29:47Z</dcterms:modified>
  <cp:revision>16</cp:revision>
  <dc:subject/>
  <dc:title>Название презентации</dc:title>
</cp:coreProperties>
</file>