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8D7-8DB4-4735-BCE5-57C01ABD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6AF-7A75-458F-94E6-049C0DD1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B05-C79E-4DAD-B74C-16A771AE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6EE-4C5E-4D41-A47A-64BF1B40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49E6-6479-4EAA-92CC-711FF162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CC57-DD87-4525-A829-A8B86E7E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B4D7-DAC8-4475-A07E-B43E5D06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0396-C391-4B68-8AE4-4D359815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CCD7-FF4F-43C7-8B86-5DD596CF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BB99-5300-4558-A3B3-6F7C46EC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BC85-FA44-44DC-B73E-F9BDB88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35B-00A7-4AB4-B6B9-26509BF6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244A-4D3F-4940-9C96-6F60EEA8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9089-AD58-417C-9A91-817415D0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BF9F-1979-4D76-8C39-45EBC9B8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934E-033C-47C7-BC05-8141943A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4C63-3216-46FB-A74B-71E962D4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315-1849-459E-8BE9-B22DE67A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457-42D0-472D-9EFA-DAD49E5D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FB3-5942-43B1-A42D-0B35F4CD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D18-F76E-4AE6-8D1E-F6F869CB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378-488B-467D-B08E-BD8B409D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98C-44B2-4D27-8CFC-284D335C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362-66FA-4A9D-9F72-69754BA4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71EF-87E8-439C-AD2E-965BFFEEC2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FD17-3FF6-45FE-A767-B8590808F0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700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bat"/>
              </a:rPr>
              <a:t>Т</a:t>
            </a:r>
            <a:r>
              <a:rPr b="1" i="1" lang="ru-RU" sz="4800" spc="-1" strike="noStrike">
                <a:solidFill>
                  <a:srgbClr val="ff9900"/>
                </a:solidFill>
                <a:latin typeface="Arbat"/>
              </a:rPr>
              <a:t>е</a:t>
            </a:r>
            <a:r>
              <a:rPr b="1" i="1" lang="ru-RU" sz="4800" spc="-1" strike="noStrike">
                <a:solidFill>
                  <a:srgbClr val="ffcc00"/>
                </a:solidFill>
                <a:latin typeface="Arbat"/>
              </a:rPr>
              <a:t>м</a:t>
            </a:r>
            <a:r>
              <a:rPr b="1" i="1" lang="ru-RU" sz="4800" spc="-1" strike="noStrike">
                <a:solidFill>
                  <a:srgbClr val="99ff66"/>
                </a:solidFill>
                <a:latin typeface="Arbat"/>
              </a:rPr>
              <a:t>а</a:t>
            </a:r>
            <a:r>
              <a:rPr b="1" i="1" lang="ru-RU" sz="4800" spc="-1" strike="noStrike">
                <a:solidFill>
                  <a:srgbClr val="ffffb7"/>
                </a:solidFill>
                <a:latin typeface="Arbat"/>
              </a:rPr>
              <a:t> </a:t>
            </a:r>
            <a:r>
              <a:rPr b="1" i="1" lang="ru-RU" sz="4800" spc="-1" strike="noStrike">
                <a:solidFill>
                  <a:srgbClr val="0099ff"/>
                </a:solidFill>
                <a:latin typeface="Arbat"/>
              </a:rPr>
              <a:t>п</a:t>
            </a:r>
            <a:r>
              <a:rPr b="1" i="1" lang="ru-RU" sz="4800" spc="-1" strike="noStrike">
                <a:solidFill>
                  <a:srgbClr val="0000ff"/>
                </a:solidFill>
                <a:latin typeface="Arbat"/>
              </a:rPr>
              <a:t>р</a:t>
            </a:r>
            <a:r>
              <a:rPr b="1" i="1" lang="ru-RU" sz="4800" spc="-1" strike="noStrike">
                <a:solidFill>
                  <a:srgbClr val="9900cc"/>
                </a:solidFill>
                <a:latin typeface="Arbat"/>
              </a:rPr>
              <a:t>о</a:t>
            </a:r>
            <a:r>
              <a:rPr b="1" i="1" lang="ru-RU" sz="4800" spc="-1" strike="noStrike">
                <a:solidFill>
                  <a:srgbClr val="ff0000"/>
                </a:solidFill>
                <a:latin typeface="Arbat"/>
              </a:rPr>
              <a:t>е</a:t>
            </a:r>
            <a:r>
              <a:rPr b="1" i="1" lang="ru-RU" sz="4800" spc="-1" strike="noStrike">
                <a:solidFill>
                  <a:srgbClr val="ff9900"/>
                </a:solidFill>
                <a:latin typeface="Arbat"/>
              </a:rPr>
              <a:t>к</a:t>
            </a:r>
            <a:r>
              <a:rPr b="1" i="1" lang="ru-RU" sz="4800" spc="-1" strike="noStrike">
                <a:solidFill>
                  <a:srgbClr val="ffcc00"/>
                </a:solidFill>
                <a:latin typeface="Arbat"/>
              </a:rPr>
              <a:t>т</a:t>
            </a:r>
            <a:r>
              <a:rPr b="1" i="1" lang="ru-RU" sz="4800" spc="-1" strike="noStrike">
                <a:solidFill>
                  <a:srgbClr val="00ff00"/>
                </a:solidFill>
                <a:latin typeface="Arbat"/>
              </a:rPr>
              <a:t>а</a:t>
            </a:r>
            <a:br>
              <a:rPr sz="4800"/>
            </a:br>
            <a:r>
              <a:rPr b="1" i="1" lang="ru-RU" sz="4800" spc="-1" strike="noStrike">
                <a:solidFill>
                  <a:srgbClr val="00ff00"/>
                </a:solidFill>
                <a:latin typeface="Arbat"/>
              </a:rPr>
              <a:t>и предмет разработ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1773000"/>
            <a:ext cx="7993080" cy="1942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Uk_Arbat"/>
              </a:rPr>
              <a:t>Внедрение в образовательный процесс технологии деятельностного подхода как фактора, повышающего качество математического образования детей дошкольного возра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55640" y="3789360"/>
            <a:ext cx="8137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Авторы проекта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Воспитатель: Бережная Виктория Владимировна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00000" y="450864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bat"/>
              </a:rPr>
              <a:t> 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оавторы: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стребова Д.В. воспитатель,   ,  Козлова Н.В. учитель-логопед,   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bat"/>
              </a:rPr>
              <a:t>Программа выполнения работ по проекту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63480" y="416880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24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116000" y="7650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430560" y="1628640"/>
            <a:ext cx="7465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рок реализации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-  2018- 2019 уч.г.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Этапы реализации: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– подготовительный –  2018-2019 уч.г.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– апробация (внедренческий) –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9туч. г.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– заключительный (аналитический)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9 уч. г.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Структура программы: 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роприятия; 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решения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63480" y="416880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24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1116000" y="7650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grpSp>
        <p:nvGrpSpPr>
          <p:cNvPr id="244" name="Diagram 13"/>
          <p:cNvGrpSpPr/>
          <p:nvPr/>
        </p:nvGrpSpPr>
        <p:grpSpPr>
          <a:xfrm>
            <a:off x="1307880" y="978480"/>
            <a:ext cx="8069760" cy="5743440"/>
            <a:chOff x="1307880" y="978480"/>
            <a:chExt cx="8069760" cy="5743440"/>
          </a:xfrm>
        </p:grpSpPr>
        <p:sp>
          <p:nvSpPr>
            <p:cNvPr id="245" name="_s1028"/>
            <p:cNvSpPr/>
            <p:nvPr/>
          </p:nvSpPr>
          <p:spPr>
            <a:xfrm flipV="1">
              <a:off x="4669560" y="978120"/>
              <a:ext cx="1346040" cy="957600"/>
            </a:xfrm>
            <a:custGeom>
              <a:avLst/>
              <a:gdLst>
                <a:gd name="textAreaLeft" fmla="*/ 482760 w 1346040"/>
                <a:gd name="textAreaRight" fmla="*/ 863280 w 1346040"/>
                <a:gd name="textAreaTop" fmla="*/ 343440 h 957600"/>
                <a:gd name="textAreaBottom" fmla="*/ 614160 h 9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00"/>
            </a:solidFill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246" name="_s1029"/>
            <p:cNvSpPr/>
            <p:nvPr/>
          </p:nvSpPr>
          <p:spPr>
            <a:xfrm flipV="1">
              <a:off x="3997080" y="1935360"/>
              <a:ext cx="2691360" cy="955800"/>
            </a:xfrm>
            <a:custGeom>
              <a:avLst/>
              <a:gdLst>
                <a:gd name="textAreaLeft" fmla="*/ 591840 w 2691360"/>
                <a:gd name="textAreaRight" fmla="*/ 2099520 w 2691360"/>
                <a:gd name="textAreaTop" fmla="*/ 210240 h 955800"/>
                <a:gd name="textAreaBottom" fmla="*/ 745560 h 9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cc"/>
            </a:solidFill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247" name="_s1030"/>
            <p:cNvSpPr/>
            <p:nvPr/>
          </p:nvSpPr>
          <p:spPr>
            <a:xfrm flipV="1">
              <a:off x="3326400" y="2891160"/>
              <a:ext cx="4032720" cy="957960"/>
            </a:xfrm>
            <a:custGeom>
              <a:avLst/>
              <a:gdLst>
                <a:gd name="textAreaLeft" fmla="*/ 699840 w 4032720"/>
                <a:gd name="textAreaRight" fmla="*/ 3332880 w 4032720"/>
                <a:gd name="textAreaTop" fmla="*/ 166320 h 957960"/>
                <a:gd name="textAreaBottom" fmla="*/ 791640 h 95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6600"/>
            </a:solidFill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248" name="_s1031"/>
            <p:cNvSpPr/>
            <p:nvPr/>
          </p:nvSpPr>
          <p:spPr>
            <a:xfrm flipV="1">
              <a:off x="2653560" y="3850200"/>
              <a:ext cx="5378400" cy="957600"/>
            </a:xfrm>
            <a:custGeom>
              <a:avLst/>
              <a:gdLst>
                <a:gd name="textAreaLeft" fmla="*/ 809280 w 5378400"/>
                <a:gd name="textAreaRight" fmla="*/ 4569120 w 5378400"/>
                <a:gd name="textAreaTop" fmla="*/ 144000 h 957600"/>
                <a:gd name="textAreaBottom" fmla="*/ 813600 h 9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cc00"/>
            </a:solidFill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249" name="_s1032"/>
            <p:cNvSpPr/>
            <p:nvPr/>
          </p:nvSpPr>
          <p:spPr>
            <a:xfrm flipV="1">
              <a:off x="1980720" y="4807080"/>
              <a:ext cx="6724080" cy="957960"/>
            </a:xfrm>
            <a:custGeom>
              <a:avLst/>
              <a:gdLst>
                <a:gd name="textAreaLeft" fmla="*/ 918360 w 6724080"/>
                <a:gd name="textAreaRight" fmla="*/ 5805720 w 6724080"/>
                <a:gd name="textAreaTop" fmla="*/ 130680 h 957960"/>
                <a:gd name="textAreaBottom" fmla="*/ 827280 h 95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cc66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250" name="_s1033"/>
            <p:cNvSpPr/>
            <p:nvPr/>
          </p:nvSpPr>
          <p:spPr>
            <a:xfrm flipV="1">
              <a:off x="1307880" y="5765400"/>
              <a:ext cx="8069760" cy="955800"/>
            </a:xfrm>
            <a:custGeom>
              <a:avLst/>
              <a:gdLst>
                <a:gd name="textAreaLeft" fmla="*/ 1027440 w 8069760"/>
                <a:gd name="textAreaRight" fmla="*/ 7042320 w 8069760"/>
                <a:gd name="textAreaTop" fmla="*/ 121680 h 955800"/>
                <a:gd name="textAreaBottom" fmla="*/ 834120 h 9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ff99"/>
            </a:solidFill>
            <a:ln w="27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100" spc="-1" strike="noStrike">
                <a:solidFill>
                  <a:srgbClr val="ff0000"/>
                </a:solidFill>
                <a:latin typeface="Arba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100" spc="-1" strike="noStrike">
                <a:solidFill>
                  <a:srgbClr val="ff0000"/>
                </a:solidFill>
                <a:latin typeface="Arba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0000"/>
                </a:solidFill>
                <a:latin typeface="Arba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100" spc="-1" strike="noStrike">
                <a:solidFill>
                  <a:srgbClr val="ff0000"/>
                </a:solidFill>
                <a:latin typeface="Arba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100" spc="-1" strike="noStrike">
                <a:solidFill>
                  <a:srgbClr val="ff0000"/>
                </a:solidFill>
                <a:latin typeface="Arbat"/>
              </a:endParaRPr>
            </a:p>
          </p:txBody>
        </p:sp>
      </p:grpSp>
      <p:sp>
        <p:nvSpPr>
          <p:cNvPr id="251" name="Rectangle 19"/>
          <p:cNvSpPr/>
          <p:nvPr/>
        </p:nvSpPr>
        <p:spPr>
          <a:xfrm>
            <a:off x="395280" y="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bat"/>
              </a:rPr>
              <a:t>1 этап - подготовительный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bat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bat"/>
              </a:rPr>
              <a:t>2018 -19 учебный год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52" name="Text Box 390"/>
          <p:cNvSpPr/>
          <p:nvPr/>
        </p:nvSpPr>
        <p:spPr>
          <a:xfrm>
            <a:off x="2286000" y="5734080"/>
            <a:ext cx="667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: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, противоречий, опыта работы, влияния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на повышение работоспособности детей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53" name="Text Box 391"/>
          <p:cNvSpPr/>
          <p:nvPr/>
        </p:nvSpPr>
        <p:spPr>
          <a:xfrm>
            <a:off x="2857680" y="47973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: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х особенностей воспитанников,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возможностей семей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54" name="Text Box 393"/>
          <p:cNvSpPr/>
          <p:nvPr/>
        </p:nvSpPr>
        <p:spPr>
          <a:xfrm>
            <a:off x="3357720" y="3929040"/>
            <a:ext cx="399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механизмов выполнения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а, разработка критериев и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ей эффективности реализации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55" name="Text Box 394"/>
          <p:cNvSpPr/>
          <p:nvPr/>
        </p:nvSpPr>
        <p:spPr>
          <a:xfrm>
            <a:off x="4143240" y="314316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едагогов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56" name="Text Box 395"/>
          <p:cNvSpPr/>
          <p:nvPr/>
        </p:nvSpPr>
        <p:spPr>
          <a:xfrm>
            <a:off x="4453560" y="2220840"/>
            <a:ext cx="17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Первичное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обследование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57" name="Text Box 396"/>
          <p:cNvSpPr/>
          <p:nvPr/>
        </p:nvSpPr>
        <p:spPr>
          <a:xfrm>
            <a:off x="4572000" y="1143000"/>
            <a:ext cx="1541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ти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ние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.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58" name="Text Box 398"/>
          <p:cNvSpPr/>
          <p:nvPr/>
        </p:nvSpPr>
        <p:spPr>
          <a:xfrm>
            <a:off x="584280" y="24969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ие семинаров,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ультаций на базе ОУ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59" name="Text Box 400"/>
          <p:cNvSpPr/>
          <p:nvPr/>
        </p:nvSpPr>
        <p:spPr>
          <a:xfrm>
            <a:off x="165240" y="5343480"/>
            <a:ext cx="228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творческой группы, распределение функций </a:t>
            </a:r>
            <a:endParaRPr b="1" i="1" lang="en-US" sz="14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жду участниками при реализации проекта</a:t>
            </a:r>
            <a:endParaRPr b="1" i="1" lang="en-US" sz="14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60" name="Text Box 401"/>
          <p:cNvSpPr/>
          <p:nvPr/>
        </p:nvSpPr>
        <p:spPr>
          <a:xfrm>
            <a:off x="136440" y="4175280"/>
            <a:ext cx="264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ка системы мониторинга </a:t>
            </a:r>
            <a:endParaRPr b="1" i="1" lang="en-US" sz="14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матических представлений детей  дошкольного возраста</a:t>
            </a:r>
            <a:endParaRPr b="1" i="1" lang="en-US" sz="1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61" name="Text Box 402"/>
          <p:cNvSpPr/>
          <p:nvPr/>
        </p:nvSpPr>
        <p:spPr>
          <a:xfrm>
            <a:off x="136440" y="3338640"/>
            <a:ext cx="28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ка базовых конспектов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использование ТДП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62" name="Text Box 403"/>
          <p:cNvSpPr/>
          <p:nvPr/>
        </p:nvSpPr>
        <p:spPr>
          <a:xfrm>
            <a:off x="1406520" y="1625760"/>
            <a:ext cx="24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гностического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следования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9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9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9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9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10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7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10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3" dur="8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8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10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8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6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0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1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8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7"/>
          <p:cNvSpPr/>
          <p:nvPr/>
        </p:nvSpPr>
        <p:spPr>
          <a:xfrm>
            <a:off x="6084720" y="1413000"/>
            <a:ext cx="3059280" cy="5445000"/>
          </a:xfrm>
          <a:prstGeom prst="rect">
            <a:avLst/>
          </a:prstGeom>
          <a:solidFill>
            <a:srgbClr val="ffff66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bat"/>
              </a:rPr>
              <a:t>    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Создание         клуба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родителей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«Вместе веселее»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Совместное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с родителями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материально-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техническое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оснащение группы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Разработка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диагностического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материала для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родителей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Изучение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представлений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родителей о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      </a:t>
            </a: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необходимых ЗУН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64" name="Rectangle 35"/>
          <p:cNvSpPr/>
          <p:nvPr/>
        </p:nvSpPr>
        <p:spPr>
          <a:xfrm>
            <a:off x="3143160" y="1916280"/>
            <a:ext cx="3171960" cy="4941720"/>
          </a:xfrm>
          <a:prstGeom prst="rect">
            <a:avLst/>
          </a:prstGeom>
          <a:solidFill>
            <a:srgbClr val="ccff9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0" y="2276640"/>
            <a:ext cx="3276720" cy="4581360"/>
          </a:xfrm>
          <a:prstGeom prst="rect">
            <a:avLst/>
          </a:prstGeom>
          <a:solidFill>
            <a:srgbClr val="ffff99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bat"/>
              </a:rPr>
              <a:t>2 этап –апробации (внедренческий)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bat"/>
              </a:rPr>
              <a:t> 2019 учебный год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63480" y="416880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24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1152360" y="7650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0" y="2365200"/>
            <a:ext cx="316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bat"/>
              </a:rPr>
              <a:t>Проведение открытых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bat"/>
              </a:rPr>
              <a:t>    </a:t>
            </a:r>
            <a:r>
              <a:rPr b="1" i="1" lang="ru-RU" sz="1600" spc="-1" strike="noStrike">
                <a:solidFill>
                  <a:srgbClr val="ff0000"/>
                </a:solidFill>
                <a:latin typeface="Arbat"/>
              </a:rPr>
              <a:t>мероприятий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bat"/>
              </a:rPr>
              <a:t>Разработка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bat"/>
              </a:rPr>
              <a:t>    </a:t>
            </a:r>
            <a:r>
              <a:rPr b="1" i="1" lang="ru-RU" sz="1600" spc="-1" strike="noStrike">
                <a:solidFill>
                  <a:srgbClr val="ff0000"/>
                </a:solidFill>
                <a:latin typeface="Arbat"/>
              </a:rPr>
              <a:t>интегрированных занятий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bat"/>
              </a:rPr>
              <a:t>Создание консультационного пункта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bat"/>
              </a:rPr>
              <a:t>Создание нового поколения дидактических игр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bat"/>
              </a:rPr>
              <a:t>Изготовление атрибутов для сюжетно-ролевых игр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bat"/>
              </a:rPr>
              <a:t>Создание условий для самостоятельных занятий математикой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3419640" y="2097000"/>
            <a:ext cx="324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Повышение интереса к  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математике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Развитие   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самостоятельности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Развитие самооценки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Формирование 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произвольных речевых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умений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Развитие сюжетных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линий с использованием  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математического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bat"/>
              </a:rPr>
              <a:t>материала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77" name="Freeform 33"/>
          <p:cNvSpPr/>
          <p:nvPr/>
        </p:nvSpPr>
        <p:spPr>
          <a:xfrm>
            <a:off x="2778120" y="2068560"/>
            <a:ext cx="934920" cy="4675320"/>
          </a:xfrm>
          <a:custGeom>
            <a:avLst/>
            <a:gdLst/>
            <a:ahLst/>
            <a:rect l="l" t="t" r="r" b="b"/>
            <a:pathLst>
              <a:path w="589" h="2945">
                <a:moveTo>
                  <a:pt x="338" y="0"/>
                </a:moveTo>
                <a:cubicBezTo>
                  <a:pt x="290" y="52"/>
                  <a:pt x="234" y="92"/>
                  <a:pt x="194" y="151"/>
                </a:cubicBezTo>
                <a:cubicBezTo>
                  <a:pt x="169" y="228"/>
                  <a:pt x="170" y="209"/>
                  <a:pt x="187" y="331"/>
                </a:cubicBezTo>
                <a:cubicBezTo>
                  <a:pt x="190" y="350"/>
                  <a:pt x="242" y="359"/>
                  <a:pt x="244" y="360"/>
                </a:cubicBezTo>
                <a:cubicBezTo>
                  <a:pt x="251" y="362"/>
                  <a:pt x="266" y="367"/>
                  <a:pt x="266" y="367"/>
                </a:cubicBezTo>
                <a:cubicBezTo>
                  <a:pt x="254" y="331"/>
                  <a:pt x="220" y="315"/>
                  <a:pt x="194" y="288"/>
                </a:cubicBezTo>
                <a:cubicBezTo>
                  <a:pt x="196" y="334"/>
                  <a:pt x="190" y="454"/>
                  <a:pt x="223" y="511"/>
                </a:cubicBezTo>
                <a:cubicBezTo>
                  <a:pt x="252" y="561"/>
                  <a:pt x="301" y="604"/>
                  <a:pt x="338" y="648"/>
                </a:cubicBezTo>
                <a:cubicBezTo>
                  <a:pt x="370" y="686"/>
                  <a:pt x="390" y="734"/>
                  <a:pt x="424" y="771"/>
                </a:cubicBezTo>
                <a:cubicBezTo>
                  <a:pt x="427" y="778"/>
                  <a:pt x="428" y="786"/>
                  <a:pt x="432" y="792"/>
                </a:cubicBezTo>
                <a:cubicBezTo>
                  <a:pt x="436" y="798"/>
                  <a:pt x="443" y="801"/>
                  <a:pt x="446" y="807"/>
                </a:cubicBezTo>
                <a:cubicBezTo>
                  <a:pt x="487" y="893"/>
                  <a:pt x="437" y="818"/>
                  <a:pt x="475" y="871"/>
                </a:cubicBezTo>
                <a:cubicBezTo>
                  <a:pt x="496" y="938"/>
                  <a:pt x="488" y="1000"/>
                  <a:pt x="432" y="1037"/>
                </a:cubicBezTo>
                <a:cubicBezTo>
                  <a:pt x="418" y="1075"/>
                  <a:pt x="387" y="1072"/>
                  <a:pt x="352" y="1080"/>
                </a:cubicBezTo>
                <a:cubicBezTo>
                  <a:pt x="359" y="1075"/>
                  <a:pt x="374" y="1075"/>
                  <a:pt x="374" y="1066"/>
                </a:cubicBezTo>
                <a:cubicBezTo>
                  <a:pt x="374" y="1058"/>
                  <a:pt x="358" y="1069"/>
                  <a:pt x="352" y="1073"/>
                </a:cubicBezTo>
                <a:cubicBezTo>
                  <a:pt x="344" y="1079"/>
                  <a:pt x="338" y="1088"/>
                  <a:pt x="331" y="1095"/>
                </a:cubicBezTo>
                <a:cubicBezTo>
                  <a:pt x="321" y="1105"/>
                  <a:pt x="308" y="1117"/>
                  <a:pt x="295" y="1123"/>
                </a:cubicBezTo>
                <a:cubicBezTo>
                  <a:pt x="281" y="1129"/>
                  <a:pt x="252" y="1138"/>
                  <a:pt x="252" y="1138"/>
                </a:cubicBezTo>
                <a:cubicBezTo>
                  <a:pt x="247" y="1143"/>
                  <a:pt x="238" y="1145"/>
                  <a:pt x="237" y="1152"/>
                </a:cubicBezTo>
                <a:cubicBezTo>
                  <a:pt x="232" y="1180"/>
                  <a:pt x="257" y="1242"/>
                  <a:pt x="273" y="1267"/>
                </a:cubicBezTo>
                <a:cubicBezTo>
                  <a:pt x="282" y="1364"/>
                  <a:pt x="268" y="1359"/>
                  <a:pt x="352" y="1375"/>
                </a:cubicBezTo>
                <a:cubicBezTo>
                  <a:pt x="330" y="1445"/>
                  <a:pt x="266" y="1488"/>
                  <a:pt x="194" y="1498"/>
                </a:cubicBezTo>
                <a:cubicBezTo>
                  <a:pt x="151" y="1504"/>
                  <a:pt x="64" y="1512"/>
                  <a:pt x="64" y="1512"/>
                </a:cubicBezTo>
                <a:cubicBezTo>
                  <a:pt x="41" y="1520"/>
                  <a:pt x="0" y="1548"/>
                  <a:pt x="0" y="1548"/>
                </a:cubicBezTo>
                <a:cubicBezTo>
                  <a:pt x="7" y="1626"/>
                  <a:pt x="23" y="1694"/>
                  <a:pt x="79" y="1750"/>
                </a:cubicBezTo>
                <a:cubicBezTo>
                  <a:pt x="96" y="1802"/>
                  <a:pt x="71" y="1740"/>
                  <a:pt x="108" y="1786"/>
                </a:cubicBezTo>
                <a:cubicBezTo>
                  <a:pt x="153" y="1841"/>
                  <a:pt x="70" y="1770"/>
                  <a:pt x="129" y="1829"/>
                </a:cubicBezTo>
                <a:cubicBezTo>
                  <a:pt x="144" y="1844"/>
                  <a:pt x="167" y="1859"/>
                  <a:pt x="187" y="1865"/>
                </a:cubicBezTo>
                <a:cubicBezTo>
                  <a:pt x="205" y="1877"/>
                  <a:pt x="232" y="1910"/>
                  <a:pt x="252" y="1915"/>
                </a:cubicBezTo>
                <a:cubicBezTo>
                  <a:pt x="278" y="1922"/>
                  <a:pt x="305" y="1920"/>
                  <a:pt x="331" y="1923"/>
                </a:cubicBezTo>
                <a:cubicBezTo>
                  <a:pt x="389" y="1931"/>
                  <a:pt x="446" y="1943"/>
                  <a:pt x="504" y="1951"/>
                </a:cubicBezTo>
                <a:cubicBezTo>
                  <a:pt x="525" y="1959"/>
                  <a:pt x="568" y="1973"/>
                  <a:pt x="568" y="1973"/>
                </a:cubicBezTo>
                <a:cubicBezTo>
                  <a:pt x="589" y="2030"/>
                  <a:pt x="549" y="2074"/>
                  <a:pt x="532" y="2124"/>
                </a:cubicBezTo>
                <a:cubicBezTo>
                  <a:pt x="522" y="2154"/>
                  <a:pt x="521" y="2183"/>
                  <a:pt x="496" y="2203"/>
                </a:cubicBezTo>
                <a:cubicBezTo>
                  <a:pt x="466" y="2227"/>
                  <a:pt x="431" y="2227"/>
                  <a:pt x="396" y="2239"/>
                </a:cubicBezTo>
                <a:cubicBezTo>
                  <a:pt x="378" y="2257"/>
                  <a:pt x="368" y="2272"/>
                  <a:pt x="360" y="2297"/>
                </a:cubicBezTo>
                <a:cubicBezTo>
                  <a:pt x="363" y="2347"/>
                  <a:pt x="399" y="2501"/>
                  <a:pt x="338" y="2520"/>
                </a:cubicBezTo>
                <a:cubicBezTo>
                  <a:pt x="298" y="2547"/>
                  <a:pt x="268" y="2557"/>
                  <a:pt x="223" y="2571"/>
                </a:cubicBezTo>
                <a:cubicBezTo>
                  <a:pt x="209" y="2575"/>
                  <a:pt x="180" y="2585"/>
                  <a:pt x="180" y="2585"/>
                </a:cubicBezTo>
                <a:cubicBezTo>
                  <a:pt x="162" y="2602"/>
                  <a:pt x="146" y="2606"/>
                  <a:pt x="122" y="2614"/>
                </a:cubicBezTo>
                <a:cubicBezTo>
                  <a:pt x="115" y="2624"/>
                  <a:pt x="100" y="2643"/>
                  <a:pt x="100" y="2657"/>
                </a:cubicBezTo>
                <a:cubicBezTo>
                  <a:pt x="100" y="2760"/>
                  <a:pt x="277" y="2727"/>
                  <a:pt x="324" y="2729"/>
                </a:cubicBezTo>
                <a:cubicBezTo>
                  <a:pt x="362" y="2741"/>
                  <a:pt x="375" y="2745"/>
                  <a:pt x="403" y="2772"/>
                </a:cubicBezTo>
                <a:cubicBezTo>
                  <a:pt x="421" y="2830"/>
                  <a:pt x="383" y="2870"/>
                  <a:pt x="331" y="2887"/>
                </a:cubicBezTo>
                <a:cubicBezTo>
                  <a:pt x="304" y="2914"/>
                  <a:pt x="322" y="2898"/>
                  <a:pt x="273" y="2931"/>
                </a:cubicBezTo>
                <a:cubicBezTo>
                  <a:pt x="257" y="2942"/>
                  <a:pt x="216" y="2945"/>
                  <a:pt x="216" y="2945"/>
                </a:cubicBezTo>
                <a:cubicBezTo>
                  <a:pt x="226" y="2929"/>
                  <a:pt x="243" y="2918"/>
                  <a:pt x="252" y="2902"/>
                </a:cubicBezTo>
                <a:cubicBezTo>
                  <a:pt x="270" y="2871"/>
                  <a:pt x="269" y="2808"/>
                  <a:pt x="316" y="280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78" name="Text Box 40"/>
          <p:cNvSpPr/>
          <p:nvPr/>
        </p:nvSpPr>
        <p:spPr>
          <a:xfrm>
            <a:off x="1347120" y="1592280"/>
            <a:ext cx="10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bat"/>
              </a:rPr>
              <a:t>Модуль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bat"/>
              </a:rPr>
              <a:t>1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79" name="Text Box 41"/>
          <p:cNvSpPr/>
          <p:nvPr/>
        </p:nvSpPr>
        <p:spPr>
          <a:xfrm rot="19493400">
            <a:off x="87840" y="146592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bat"/>
              </a:rPr>
              <a:t>Педагоги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80" name="Text Box 42"/>
          <p:cNvSpPr/>
          <p:nvPr/>
        </p:nvSpPr>
        <p:spPr>
          <a:xfrm>
            <a:off x="4489560" y="1168560"/>
            <a:ext cx="10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60093"/>
                </a:solidFill>
                <a:latin typeface="Arbat"/>
              </a:rPr>
              <a:t>Модуль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60093"/>
                </a:solidFill>
                <a:latin typeface="Arbat"/>
              </a:rPr>
              <a:t>2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81" name="Text Box 43"/>
          <p:cNvSpPr/>
          <p:nvPr/>
        </p:nvSpPr>
        <p:spPr>
          <a:xfrm rot="19493400">
            <a:off x="3381840" y="12553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Arbat"/>
              </a:rPr>
              <a:t>дети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82" name="Text Box 44"/>
          <p:cNvSpPr/>
          <p:nvPr/>
        </p:nvSpPr>
        <p:spPr>
          <a:xfrm rot="19493400">
            <a:off x="6270480" y="64728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bat"/>
              </a:rPr>
              <a:t>родители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83" name="Text Box 45"/>
          <p:cNvSpPr/>
          <p:nvPr/>
        </p:nvSpPr>
        <p:spPr>
          <a:xfrm>
            <a:off x="7682040" y="736560"/>
            <a:ext cx="10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bat"/>
              </a:rPr>
              <a:t>Модуль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bat"/>
              </a:rPr>
              <a:t>3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7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3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6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7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1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1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7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1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3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4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1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9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1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5" dur="80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6" dur="80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80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7320"/>
                            </p:stCondLst>
                            <p:childTnLst>
                              <p:par>
                                <p:cTn id="1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80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8160"/>
                            </p:stCondLst>
                            <p:childTnLst>
                              <p:par>
                                <p:cTn id="1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2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2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2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2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2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80"/>
                                        <p:tgtEl>
                                          <p:spTgt spid="2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2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2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2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2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2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2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6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26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26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5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6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7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1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2" dur="8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3" dur="8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3" dur="8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8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1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0" dur="8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1" dur="8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6" dur="8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7" dur="8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1" dur="8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2" dur="8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3" dur="8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1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7" dur="8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8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1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3" dur="8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4" dur="8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8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9" dur="8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8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5" dur="8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6" dur="8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8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1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2" dur="80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80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1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80"/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3" dur="80"/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4" dur="80"/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5" dur="80"/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1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2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0" dur="80"/>
                                        <p:tgtEl>
                                          <p:spTgt spid="2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1" dur="80"/>
                                        <p:tgtEl>
                                          <p:spTgt spid="2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7320"/>
                            </p:stCondLst>
                            <p:childTnLst>
                              <p:par>
                                <p:cTn id="1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2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6" dur="80"/>
                                        <p:tgtEl>
                                          <p:spTgt spid="2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7" dur="80"/>
                                        <p:tgtEl>
                                          <p:spTgt spid="2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7680"/>
                            </p:stCondLst>
                            <p:childTnLst>
                              <p:par>
                                <p:cTn id="1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2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2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2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1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2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8" dur="80"/>
                                        <p:tgtEl>
                                          <p:spTgt spid="2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9" dur="80"/>
                                        <p:tgtEl>
                                          <p:spTgt spid="2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8680"/>
                            </p:stCondLst>
                            <p:childTnLst>
                              <p:par>
                                <p:cTn id="1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26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26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5" dur="80"/>
                                        <p:tgtEl>
                                          <p:spTgt spid="26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bat"/>
              </a:rPr>
              <a:t>3 этап – итоговый (аналитический)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bat"/>
              </a:rPr>
              <a:t> 2019  учебный год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63480" y="416880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324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92" name="AutoShape 28"/>
          <p:cNvSpPr/>
          <p:nvPr/>
        </p:nvSpPr>
        <p:spPr>
          <a:xfrm rot="1439400">
            <a:off x="1331640" y="2133720"/>
            <a:ext cx="6408720" cy="31654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bat"/>
              </a:rPr>
              <a:t>Презентация  проекта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93" name="Oval 29"/>
          <p:cNvSpPr/>
          <p:nvPr/>
        </p:nvSpPr>
        <p:spPr>
          <a:xfrm rot="1431000">
            <a:off x="0" y="3573360"/>
            <a:ext cx="4105440" cy="2068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bat"/>
              </a:rPr>
              <a:t>Анализ ОП;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bat"/>
              </a:rPr>
              <a:t>удовлетворенность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bat"/>
              </a:rPr>
              <a:t>участниками проета его результатами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94" name="Oval 30"/>
          <p:cNvSpPr/>
          <p:nvPr/>
        </p:nvSpPr>
        <p:spPr>
          <a:xfrm rot="1431000">
            <a:off x="4508280" y="1425240"/>
            <a:ext cx="4443120" cy="1927080"/>
          </a:xfrm>
          <a:prstGeom prst="ellips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bat"/>
              </a:rPr>
              <a:t>Итоговая диагностика: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bat"/>
              </a:rPr>
              <a:t>воспитанников, родителей, педагогов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95" name="Oval 31"/>
          <p:cNvSpPr/>
          <p:nvPr/>
        </p:nvSpPr>
        <p:spPr>
          <a:xfrm rot="1431000">
            <a:off x="5668920" y="4824360"/>
            <a:ext cx="3373560" cy="1511280"/>
          </a:xfrm>
          <a:prstGeom prst="ellips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bat"/>
              </a:rPr>
              <a:t>Выбор перспективы дальнейшего развития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bat"/>
              </a:rPr>
              <a:t>Критерии и показатели оценки эффективности реализации проек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97" name="Object 14"/>
          <p:cNvGraphicFramePr/>
          <p:nvPr/>
        </p:nvGraphicFramePr>
        <p:xfrm>
          <a:off x="928800" y="1785960"/>
          <a:ext cx="37353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785960"/>
                    <a:ext cx="37353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3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84360" y="4149720"/>
            <a:ext cx="83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24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116000" y="7650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grpSp>
        <p:nvGrpSpPr>
          <p:cNvPr id="307" name="Group 52"/>
          <p:cNvGrpSpPr/>
          <p:nvPr/>
        </p:nvGrpSpPr>
        <p:grpSpPr>
          <a:xfrm>
            <a:off x="-324000" y="549360"/>
            <a:ext cx="3888000" cy="3166560"/>
            <a:chOff x="-324000" y="549360"/>
            <a:chExt cx="3888000" cy="3166560"/>
          </a:xfrm>
        </p:grpSpPr>
        <p:sp>
          <p:nvSpPr>
            <p:cNvPr id="308" name="AutoShape 43"/>
            <p:cNvSpPr/>
            <p:nvPr/>
          </p:nvSpPr>
          <p:spPr>
            <a:xfrm>
              <a:off x="-324000" y="549360"/>
              <a:ext cx="3654720" cy="24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309" name="Rectangle 45"/>
            <p:cNvSpPr/>
            <p:nvPr/>
          </p:nvSpPr>
          <p:spPr>
            <a:xfrm>
              <a:off x="-276120" y="585720"/>
              <a:ext cx="3840120" cy="31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310" name="Freeform 46"/>
            <p:cNvSpPr/>
            <p:nvPr/>
          </p:nvSpPr>
          <p:spPr>
            <a:xfrm>
              <a:off x="279000" y="1692000"/>
              <a:ext cx="1177560" cy="363960"/>
            </a:xfrm>
            <a:custGeom>
              <a:avLst/>
              <a:gdLst/>
              <a:ahLst/>
              <a:rect l="l" t="t" r="r" b="b"/>
              <a:pathLst>
                <a:path w="738" h="300">
                  <a:moveTo>
                    <a:pt x="738" y="78"/>
                  </a:moveTo>
                  <a:lnTo>
                    <a:pt x="0" y="0"/>
                  </a:lnTo>
                  <a:lnTo>
                    <a:pt x="0" y="222"/>
                  </a:lnTo>
                  <a:lnTo>
                    <a:pt x="738" y="300"/>
                  </a:lnTo>
                  <a:lnTo>
                    <a:pt x="738" y="7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311" name="Freeform 47"/>
            <p:cNvSpPr/>
            <p:nvPr/>
          </p:nvSpPr>
          <p:spPr>
            <a:xfrm>
              <a:off x="269280" y="1532160"/>
              <a:ext cx="1187280" cy="255960"/>
            </a:xfrm>
            <a:custGeom>
              <a:avLst/>
              <a:gdLst/>
              <a:ahLst/>
              <a:rect l="l" t="t" r="r" b="b"/>
              <a:pathLst>
                <a:path w="744" h="210">
                  <a:moveTo>
                    <a:pt x="0" y="126"/>
                  </a:moveTo>
                  <a:lnTo>
                    <a:pt x="12" y="120"/>
                  </a:lnTo>
                  <a:lnTo>
                    <a:pt x="24" y="114"/>
                  </a:lnTo>
                  <a:lnTo>
                    <a:pt x="42" y="108"/>
                  </a:lnTo>
                  <a:lnTo>
                    <a:pt x="48" y="102"/>
                  </a:lnTo>
                  <a:lnTo>
                    <a:pt x="60" y="96"/>
                  </a:lnTo>
                  <a:lnTo>
                    <a:pt x="78" y="90"/>
                  </a:lnTo>
                  <a:lnTo>
                    <a:pt x="90" y="84"/>
                  </a:lnTo>
                  <a:lnTo>
                    <a:pt x="108" y="78"/>
                  </a:lnTo>
                  <a:lnTo>
                    <a:pt x="126" y="72"/>
                  </a:lnTo>
                  <a:lnTo>
                    <a:pt x="144" y="66"/>
                  </a:lnTo>
                  <a:lnTo>
                    <a:pt x="156" y="66"/>
                  </a:lnTo>
                  <a:lnTo>
                    <a:pt x="174" y="60"/>
                  </a:lnTo>
                  <a:lnTo>
                    <a:pt x="192" y="54"/>
                  </a:lnTo>
                  <a:lnTo>
                    <a:pt x="216" y="48"/>
                  </a:lnTo>
                  <a:lnTo>
                    <a:pt x="234" y="48"/>
                  </a:lnTo>
                  <a:lnTo>
                    <a:pt x="258" y="42"/>
                  </a:lnTo>
                  <a:lnTo>
                    <a:pt x="282" y="36"/>
                  </a:lnTo>
                  <a:lnTo>
                    <a:pt x="306" y="30"/>
                  </a:lnTo>
                  <a:lnTo>
                    <a:pt x="318" y="30"/>
                  </a:lnTo>
                  <a:lnTo>
                    <a:pt x="342" y="24"/>
                  </a:lnTo>
                  <a:lnTo>
                    <a:pt x="366" y="24"/>
                  </a:lnTo>
                  <a:lnTo>
                    <a:pt x="390" y="18"/>
                  </a:lnTo>
                  <a:lnTo>
                    <a:pt x="414" y="18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80" y="12"/>
                  </a:lnTo>
                  <a:lnTo>
                    <a:pt x="510" y="6"/>
                  </a:lnTo>
                  <a:lnTo>
                    <a:pt x="534" y="6"/>
                  </a:lnTo>
                  <a:lnTo>
                    <a:pt x="564" y="6"/>
                  </a:lnTo>
                  <a:lnTo>
                    <a:pt x="588" y="0"/>
                  </a:lnTo>
                  <a:lnTo>
                    <a:pt x="618" y="0"/>
                  </a:lnTo>
                  <a:lnTo>
                    <a:pt x="642" y="0"/>
                  </a:lnTo>
                  <a:lnTo>
                    <a:pt x="660" y="0"/>
                  </a:lnTo>
                  <a:lnTo>
                    <a:pt x="684" y="0"/>
                  </a:lnTo>
                  <a:lnTo>
                    <a:pt x="714" y="0"/>
                  </a:lnTo>
                  <a:lnTo>
                    <a:pt x="744" y="0"/>
                  </a:lnTo>
                  <a:lnTo>
                    <a:pt x="744" y="21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312" name="Freeform 48"/>
            <p:cNvSpPr/>
            <p:nvPr/>
          </p:nvSpPr>
          <p:spPr>
            <a:xfrm>
              <a:off x="537480" y="1888920"/>
              <a:ext cx="2563200" cy="524160"/>
            </a:xfrm>
            <a:custGeom>
              <a:avLst/>
              <a:gdLst/>
              <a:ahLst/>
              <a:rect l="l" t="t" r="r" b="b"/>
              <a:pathLst>
                <a:path w="1608" h="432">
                  <a:moveTo>
                    <a:pt x="1608" y="0"/>
                  </a:moveTo>
                  <a:lnTo>
                    <a:pt x="1608" y="6"/>
                  </a:lnTo>
                  <a:lnTo>
                    <a:pt x="1602" y="12"/>
                  </a:lnTo>
                  <a:lnTo>
                    <a:pt x="1602" y="18"/>
                  </a:lnTo>
                  <a:lnTo>
                    <a:pt x="1596" y="30"/>
                  </a:lnTo>
                  <a:lnTo>
                    <a:pt x="1596" y="36"/>
                  </a:lnTo>
                  <a:lnTo>
                    <a:pt x="1590" y="42"/>
                  </a:lnTo>
                  <a:lnTo>
                    <a:pt x="1584" y="48"/>
                  </a:lnTo>
                  <a:lnTo>
                    <a:pt x="1578" y="54"/>
                  </a:lnTo>
                  <a:lnTo>
                    <a:pt x="1566" y="66"/>
                  </a:lnTo>
                  <a:lnTo>
                    <a:pt x="1560" y="72"/>
                  </a:lnTo>
                  <a:lnTo>
                    <a:pt x="1548" y="78"/>
                  </a:lnTo>
                  <a:lnTo>
                    <a:pt x="1536" y="84"/>
                  </a:lnTo>
                  <a:lnTo>
                    <a:pt x="1524" y="90"/>
                  </a:lnTo>
                  <a:lnTo>
                    <a:pt x="1512" y="96"/>
                  </a:lnTo>
                  <a:lnTo>
                    <a:pt x="1500" y="102"/>
                  </a:lnTo>
                  <a:lnTo>
                    <a:pt x="1482" y="108"/>
                  </a:lnTo>
                  <a:lnTo>
                    <a:pt x="1470" y="114"/>
                  </a:lnTo>
                  <a:lnTo>
                    <a:pt x="1452" y="120"/>
                  </a:lnTo>
                  <a:lnTo>
                    <a:pt x="1434" y="126"/>
                  </a:lnTo>
                  <a:lnTo>
                    <a:pt x="1416" y="132"/>
                  </a:lnTo>
                  <a:lnTo>
                    <a:pt x="1398" y="138"/>
                  </a:lnTo>
                  <a:lnTo>
                    <a:pt x="1380" y="144"/>
                  </a:lnTo>
                  <a:lnTo>
                    <a:pt x="1362" y="150"/>
                  </a:lnTo>
                  <a:lnTo>
                    <a:pt x="1338" y="156"/>
                  </a:lnTo>
                  <a:lnTo>
                    <a:pt x="1320" y="162"/>
                  </a:lnTo>
                  <a:lnTo>
                    <a:pt x="1296" y="162"/>
                  </a:lnTo>
                  <a:lnTo>
                    <a:pt x="1278" y="168"/>
                  </a:lnTo>
                  <a:lnTo>
                    <a:pt x="1254" y="174"/>
                  </a:lnTo>
                  <a:lnTo>
                    <a:pt x="1230" y="174"/>
                  </a:lnTo>
                  <a:lnTo>
                    <a:pt x="1206" y="180"/>
                  </a:lnTo>
                  <a:lnTo>
                    <a:pt x="1182" y="186"/>
                  </a:lnTo>
                  <a:lnTo>
                    <a:pt x="1152" y="186"/>
                  </a:lnTo>
                  <a:lnTo>
                    <a:pt x="1128" y="192"/>
                  </a:lnTo>
                  <a:lnTo>
                    <a:pt x="1104" y="192"/>
                  </a:lnTo>
                  <a:lnTo>
                    <a:pt x="1080" y="198"/>
                  </a:lnTo>
                  <a:lnTo>
                    <a:pt x="1050" y="198"/>
                  </a:lnTo>
                  <a:lnTo>
                    <a:pt x="1026" y="198"/>
                  </a:lnTo>
                  <a:lnTo>
                    <a:pt x="996" y="204"/>
                  </a:lnTo>
                  <a:lnTo>
                    <a:pt x="972" y="204"/>
                  </a:lnTo>
                  <a:lnTo>
                    <a:pt x="942" y="204"/>
                  </a:lnTo>
                  <a:lnTo>
                    <a:pt x="912" y="204"/>
                  </a:lnTo>
                  <a:lnTo>
                    <a:pt x="888" y="210"/>
                  </a:lnTo>
                  <a:lnTo>
                    <a:pt x="858" y="210"/>
                  </a:lnTo>
                  <a:lnTo>
                    <a:pt x="828" y="210"/>
                  </a:lnTo>
                  <a:lnTo>
                    <a:pt x="804" y="210"/>
                  </a:lnTo>
                  <a:lnTo>
                    <a:pt x="774" y="210"/>
                  </a:lnTo>
                  <a:lnTo>
                    <a:pt x="744" y="210"/>
                  </a:lnTo>
                  <a:lnTo>
                    <a:pt x="720" y="210"/>
                  </a:lnTo>
                  <a:lnTo>
                    <a:pt x="690" y="204"/>
                  </a:lnTo>
                  <a:lnTo>
                    <a:pt x="660" y="204"/>
                  </a:lnTo>
                  <a:lnTo>
                    <a:pt x="636" y="204"/>
                  </a:lnTo>
                  <a:lnTo>
                    <a:pt x="606" y="204"/>
                  </a:lnTo>
                  <a:lnTo>
                    <a:pt x="582" y="198"/>
                  </a:lnTo>
                  <a:lnTo>
                    <a:pt x="552" y="198"/>
                  </a:lnTo>
                  <a:lnTo>
                    <a:pt x="528" y="198"/>
                  </a:lnTo>
                  <a:lnTo>
                    <a:pt x="504" y="192"/>
                  </a:lnTo>
                  <a:lnTo>
                    <a:pt x="474" y="192"/>
                  </a:lnTo>
                  <a:lnTo>
                    <a:pt x="450" y="186"/>
                  </a:lnTo>
                  <a:lnTo>
                    <a:pt x="426" y="186"/>
                  </a:lnTo>
                  <a:lnTo>
                    <a:pt x="402" y="180"/>
                  </a:lnTo>
                  <a:lnTo>
                    <a:pt x="378" y="174"/>
                  </a:lnTo>
                  <a:lnTo>
                    <a:pt x="354" y="174"/>
                  </a:lnTo>
                  <a:lnTo>
                    <a:pt x="330" y="168"/>
                  </a:lnTo>
                  <a:lnTo>
                    <a:pt x="306" y="162"/>
                  </a:lnTo>
                  <a:lnTo>
                    <a:pt x="288" y="162"/>
                  </a:lnTo>
                  <a:lnTo>
                    <a:pt x="264" y="156"/>
                  </a:lnTo>
                  <a:lnTo>
                    <a:pt x="246" y="150"/>
                  </a:lnTo>
                  <a:lnTo>
                    <a:pt x="222" y="144"/>
                  </a:lnTo>
                  <a:lnTo>
                    <a:pt x="204" y="138"/>
                  </a:lnTo>
                  <a:lnTo>
                    <a:pt x="186" y="132"/>
                  </a:lnTo>
                  <a:lnTo>
                    <a:pt x="168" y="126"/>
                  </a:lnTo>
                  <a:lnTo>
                    <a:pt x="150" y="120"/>
                  </a:lnTo>
                  <a:lnTo>
                    <a:pt x="138" y="114"/>
                  </a:lnTo>
                  <a:lnTo>
                    <a:pt x="120" y="108"/>
                  </a:lnTo>
                  <a:lnTo>
                    <a:pt x="108" y="102"/>
                  </a:lnTo>
                  <a:lnTo>
                    <a:pt x="90" y="96"/>
                  </a:lnTo>
                  <a:lnTo>
                    <a:pt x="78" y="90"/>
                  </a:lnTo>
                  <a:lnTo>
                    <a:pt x="66" y="84"/>
                  </a:lnTo>
                  <a:lnTo>
                    <a:pt x="60" y="78"/>
                  </a:lnTo>
                  <a:lnTo>
                    <a:pt x="48" y="72"/>
                  </a:lnTo>
                  <a:lnTo>
                    <a:pt x="36" y="66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6" y="252"/>
                  </a:lnTo>
                  <a:lnTo>
                    <a:pt x="12" y="258"/>
                  </a:lnTo>
                  <a:lnTo>
                    <a:pt x="18" y="264"/>
                  </a:lnTo>
                  <a:lnTo>
                    <a:pt x="24" y="270"/>
                  </a:lnTo>
                  <a:lnTo>
                    <a:pt x="30" y="276"/>
                  </a:lnTo>
                  <a:lnTo>
                    <a:pt x="36" y="288"/>
                  </a:lnTo>
                  <a:lnTo>
                    <a:pt x="48" y="294"/>
                  </a:lnTo>
                  <a:lnTo>
                    <a:pt x="60" y="300"/>
                  </a:lnTo>
                  <a:lnTo>
                    <a:pt x="66" y="306"/>
                  </a:lnTo>
                  <a:lnTo>
                    <a:pt x="78" y="312"/>
                  </a:lnTo>
                  <a:lnTo>
                    <a:pt x="90" y="318"/>
                  </a:lnTo>
                  <a:lnTo>
                    <a:pt x="108" y="324"/>
                  </a:lnTo>
                  <a:lnTo>
                    <a:pt x="120" y="330"/>
                  </a:lnTo>
                  <a:lnTo>
                    <a:pt x="138" y="336"/>
                  </a:lnTo>
                  <a:lnTo>
                    <a:pt x="150" y="342"/>
                  </a:lnTo>
                  <a:lnTo>
                    <a:pt x="168" y="348"/>
                  </a:lnTo>
                  <a:lnTo>
                    <a:pt x="186" y="354"/>
                  </a:lnTo>
                  <a:lnTo>
                    <a:pt x="204" y="360"/>
                  </a:lnTo>
                  <a:lnTo>
                    <a:pt x="222" y="366"/>
                  </a:lnTo>
                  <a:lnTo>
                    <a:pt x="246" y="372"/>
                  </a:lnTo>
                  <a:lnTo>
                    <a:pt x="264" y="378"/>
                  </a:lnTo>
                  <a:lnTo>
                    <a:pt x="288" y="384"/>
                  </a:lnTo>
                  <a:lnTo>
                    <a:pt x="306" y="384"/>
                  </a:lnTo>
                  <a:lnTo>
                    <a:pt x="330" y="390"/>
                  </a:lnTo>
                  <a:lnTo>
                    <a:pt x="354" y="396"/>
                  </a:lnTo>
                  <a:lnTo>
                    <a:pt x="378" y="396"/>
                  </a:lnTo>
                  <a:lnTo>
                    <a:pt x="402" y="402"/>
                  </a:lnTo>
                  <a:lnTo>
                    <a:pt x="426" y="408"/>
                  </a:lnTo>
                  <a:lnTo>
                    <a:pt x="450" y="408"/>
                  </a:lnTo>
                  <a:lnTo>
                    <a:pt x="474" y="414"/>
                  </a:lnTo>
                  <a:lnTo>
                    <a:pt x="504" y="414"/>
                  </a:lnTo>
                  <a:lnTo>
                    <a:pt x="528" y="420"/>
                  </a:lnTo>
                  <a:lnTo>
                    <a:pt x="552" y="420"/>
                  </a:lnTo>
                  <a:lnTo>
                    <a:pt x="582" y="420"/>
                  </a:lnTo>
                  <a:lnTo>
                    <a:pt x="606" y="426"/>
                  </a:lnTo>
                  <a:lnTo>
                    <a:pt x="636" y="426"/>
                  </a:lnTo>
                  <a:lnTo>
                    <a:pt x="660" y="426"/>
                  </a:lnTo>
                  <a:lnTo>
                    <a:pt x="690" y="426"/>
                  </a:lnTo>
                  <a:lnTo>
                    <a:pt x="720" y="432"/>
                  </a:lnTo>
                  <a:lnTo>
                    <a:pt x="744" y="432"/>
                  </a:lnTo>
                  <a:lnTo>
                    <a:pt x="774" y="432"/>
                  </a:lnTo>
                  <a:lnTo>
                    <a:pt x="804" y="432"/>
                  </a:lnTo>
                  <a:lnTo>
                    <a:pt x="828" y="432"/>
                  </a:lnTo>
                  <a:lnTo>
                    <a:pt x="858" y="432"/>
                  </a:lnTo>
                  <a:lnTo>
                    <a:pt x="888" y="432"/>
                  </a:lnTo>
                  <a:lnTo>
                    <a:pt x="912" y="426"/>
                  </a:lnTo>
                  <a:lnTo>
                    <a:pt x="942" y="426"/>
                  </a:lnTo>
                  <a:lnTo>
                    <a:pt x="972" y="426"/>
                  </a:lnTo>
                  <a:lnTo>
                    <a:pt x="996" y="426"/>
                  </a:lnTo>
                  <a:lnTo>
                    <a:pt x="1026" y="420"/>
                  </a:lnTo>
                  <a:lnTo>
                    <a:pt x="1050" y="420"/>
                  </a:lnTo>
                  <a:lnTo>
                    <a:pt x="1080" y="420"/>
                  </a:lnTo>
                  <a:lnTo>
                    <a:pt x="1104" y="414"/>
                  </a:lnTo>
                  <a:lnTo>
                    <a:pt x="1128" y="414"/>
                  </a:lnTo>
                  <a:lnTo>
                    <a:pt x="1152" y="408"/>
                  </a:lnTo>
                  <a:lnTo>
                    <a:pt x="1182" y="408"/>
                  </a:lnTo>
                  <a:lnTo>
                    <a:pt x="1206" y="402"/>
                  </a:lnTo>
                  <a:lnTo>
                    <a:pt x="1230" y="396"/>
                  </a:lnTo>
                  <a:lnTo>
                    <a:pt x="1254" y="396"/>
                  </a:lnTo>
                  <a:lnTo>
                    <a:pt x="1278" y="390"/>
                  </a:lnTo>
                  <a:lnTo>
                    <a:pt x="1296" y="384"/>
                  </a:lnTo>
                  <a:lnTo>
                    <a:pt x="1320" y="384"/>
                  </a:lnTo>
                  <a:lnTo>
                    <a:pt x="1338" y="378"/>
                  </a:lnTo>
                  <a:lnTo>
                    <a:pt x="1362" y="372"/>
                  </a:lnTo>
                  <a:lnTo>
                    <a:pt x="1380" y="366"/>
                  </a:lnTo>
                  <a:lnTo>
                    <a:pt x="1398" y="360"/>
                  </a:lnTo>
                  <a:lnTo>
                    <a:pt x="1416" y="354"/>
                  </a:lnTo>
                  <a:lnTo>
                    <a:pt x="1434" y="348"/>
                  </a:lnTo>
                  <a:lnTo>
                    <a:pt x="1452" y="342"/>
                  </a:lnTo>
                  <a:lnTo>
                    <a:pt x="1470" y="336"/>
                  </a:lnTo>
                  <a:lnTo>
                    <a:pt x="1482" y="330"/>
                  </a:lnTo>
                  <a:lnTo>
                    <a:pt x="1500" y="324"/>
                  </a:lnTo>
                  <a:lnTo>
                    <a:pt x="1512" y="318"/>
                  </a:lnTo>
                  <a:lnTo>
                    <a:pt x="1524" y="312"/>
                  </a:lnTo>
                  <a:lnTo>
                    <a:pt x="1536" y="306"/>
                  </a:lnTo>
                  <a:lnTo>
                    <a:pt x="1548" y="300"/>
                  </a:lnTo>
                  <a:lnTo>
                    <a:pt x="1560" y="294"/>
                  </a:lnTo>
                  <a:lnTo>
                    <a:pt x="1566" y="288"/>
                  </a:lnTo>
                  <a:lnTo>
                    <a:pt x="1578" y="276"/>
                  </a:lnTo>
                  <a:lnTo>
                    <a:pt x="1584" y="270"/>
                  </a:lnTo>
                  <a:lnTo>
                    <a:pt x="1590" y="264"/>
                  </a:lnTo>
                  <a:lnTo>
                    <a:pt x="1596" y="258"/>
                  </a:lnTo>
                  <a:lnTo>
                    <a:pt x="1596" y="252"/>
                  </a:lnTo>
                  <a:lnTo>
                    <a:pt x="1602" y="240"/>
                  </a:lnTo>
                  <a:lnTo>
                    <a:pt x="1602" y="234"/>
                  </a:lnTo>
                  <a:lnTo>
                    <a:pt x="1608" y="228"/>
                  </a:lnTo>
                  <a:lnTo>
                    <a:pt x="1608" y="222"/>
                  </a:lnTo>
                  <a:lnTo>
                    <a:pt x="160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313" name="Freeform 49"/>
            <p:cNvSpPr/>
            <p:nvPr/>
          </p:nvSpPr>
          <p:spPr>
            <a:xfrm>
              <a:off x="537480" y="1634040"/>
              <a:ext cx="2563200" cy="509400"/>
            </a:xfrm>
            <a:custGeom>
              <a:avLst/>
              <a:gdLst/>
              <a:ahLst/>
              <a:rect l="l" t="t" r="r" b="b"/>
              <a:pathLst>
                <a:path w="1608" h="420">
                  <a:moveTo>
                    <a:pt x="804" y="0"/>
                  </a:moveTo>
                  <a:lnTo>
                    <a:pt x="828" y="0"/>
                  </a:lnTo>
                  <a:lnTo>
                    <a:pt x="858" y="0"/>
                  </a:lnTo>
                  <a:lnTo>
                    <a:pt x="888" y="0"/>
                  </a:lnTo>
                  <a:lnTo>
                    <a:pt x="912" y="0"/>
                  </a:lnTo>
                  <a:lnTo>
                    <a:pt x="942" y="0"/>
                  </a:lnTo>
                  <a:lnTo>
                    <a:pt x="972" y="6"/>
                  </a:lnTo>
                  <a:lnTo>
                    <a:pt x="996" y="6"/>
                  </a:lnTo>
                  <a:lnTo>
                    <a:pt x="1026" y="6"/>
                  </a:lnTo>
                  <a:lnTo>
                    <a:pt x="1050" y="6"/>
                  </a:lnTo>
                  <a:lnTo>
                    <a:pt x="1080" y="12"/>
                  </a:lnTo>
                  <a:lnTo>
                    <a:pt x="1104" y="12"/>
                  </a:lnTo>
                  <a:lnTo>
                    <a:pt x="1128" y="18"/>
                  </a:lnTo>
                  <a:lnTo>
                    <a:pt x="1152" y="18"/>
                  </a:lnTo>
                  <a:lnTo>
                    <a:pt x="1182" y="24"/>
                  </a:lnTo>
                  <a:lnTo>
                    <a:pt x="1206" y="24"/>
                  </a:lnTo>
                  <a:lnTo>
                    <a:pt x="1230" y="30"/>
                  </a:lnTo>
                  <a:lnTo>
                    <a:pt x="1254" y="36"/>
                  </a:lnTo>
                  <a:lnTo>
                    <a:pt x="1278" y="36"/>
                  </a:lnTo>
                  <a:lnTo>
                    <a:pt x="1296" y="42"/>
                  </a:lnTo>
                  <a:lnTo>
                    <a:pt x="1320" y="48"/>
                  </a:lnTo>
                  <a:lnTo>
                    <a:pt x="1338" y="54"/>
                  </a:lnTo>
                  <a:lnTo>
                    <a:pt x="1362" y="60"/>
                  </a:lnTo>
                  <a:lnTo>
                    <a:pt x="1380" y="60"/>
                  </a:lnTo>
                  <a:lnTo>
                    <a:pt x="1398" y="66"/>
                  </a:lnTo>
                  <a:lnTo>
                    <a:pt x="1416" y="72"/>
                  </a:lnTo>
                  <a:lnTo>
                    <a:pt x="1434" y="78"/>
                  </a:lnTo>
                  <a:lnTo>
                    <a:pt x="1452" y="84"/>
                  </a:lnTo>
                  <a:lnTo>
                    <a:pt x="1470" y="90"/>
                  </a:lnTo>
                  <a:lnTo>
                    <a:pt x="1482" y="96"/>
                  </a:lnTo>
                  <a:lnTo>
                    <a:pt x="1500" y="102"/>
                  </a:lnTo>
                  <a:lnTo>
                    <a:pt x="1512" y="108"/>
                  </a:lnTo>
                  <a:lnTo>
                    <a:pt x="1524" y="114"/>
                  </a:lnTo>
                  <a:lnTo>
                    <a:pt x="1536" y="126"/>
                  </a:lnTo>
                  <a:lnTo>
                    <a:pt x="1548" y="132"/>
                  </a:lnTo>
                  <a:lnTo>
                    <a:pt x="1560" y="138"/>
                  </a:lnTo>
                  <a:lnTo>
                    <a:pt x="1566" y="144"/>
                  </a:lnTo>
                  <a:lnTo>
                    <a:pt x="1578" y="150"/>
                  </a:lnTo>
                  <a:lnTo>
                    <a:pt x="1584" y="156"/>
                  </a:lnTo>
                  <a:lnTo>
                    <a:pt x="1590" y="162"/>
                  </a:lnTo>
                  <a:lnTo>
                    <a:pt x="1596" y="174"/>
                  </a:lnTo>
                  <a:lnTo>
                    <a:pt x="1596" y="180"/>
                  </a:lnTo>
                  <a:lnTo>
                    <a:pt x="1602" y="186"/>
                  </a:lnTo>
                  <a:lnTo>
                    <a:pt x="1602" y="192"/>
                  </a:lnTo>
                  <a:lnTo>
                    <a:pt x="1608" y="204"/>
                  </a:lnTo>
                  <a:lnTo>
                    <a:pt x="1608" y="210"/>
                  </a:lnTo>
                  <a:lnTo>
                    <a:pt x="1608" y="216"/>
                  </a:lnTo>
                  <a:lnTo>
                    <a:pt x="1602" y="222"/>
                  </a:lnTo>
                  <a:lnTo>
                    <a:pt x="1602" y="228"/>
                  </a:lnTo>
                  <a:lnTo>
                    <a:pt x="1596" y="240"/>
                  </a:lnTo>
                  <a:lnTo>
                    <a:pt x="1596" y="246"/>
                  </a:lnTo>
                  <a:lnTo>
                    <a:pt x="1590" y="252"/>
                  </a:lnTo>
                  <a:lnTo>
                    <a:pt x="1584" y="258"/>
                  </a:lnTo>
                  <a:lnTo>
                    <a:pt x="1578" y="264"/>
                  </a:lnTo>
                  <a:lnTo>
                    <a:pt x="1566" y="276"/>
                  </a:lnTo>
                  <a:lnTo>
                    <a:pt x="1560" y="282"/>
                  </a:lnTo>
                  <a:lnTo>
                    <a:pt x="1548" y="288"/>
                  </a:lnTo>
                  <a:lnTo>
                    <a:pt x="1536" y="294"/>
                  </a:lnTo>
                  <a:lnTo>
                    <a:pt x="1524" y="300"/>
                  </a:lnTo>
                  <a:lnTo>
                    <a:pt x="1512" y="306"/>
                  </a:lnTo>
                  <a:lnTo>
                    <a:pt x="1500" y="312"/>
                  </a:lnTo>
                  <a:lnTo>
                    <a:pt x="1482" y="318"/>
                  </a:lnTo>
                  <a:lnTo>
                    <a:pt x="1470" y="324"/>
                  </a:lnTo>
                  <a:lnTo>
                    <a:pt x="1452" y="330"/>
                  </a:lnTo>
                  <a:lnTo>
                    <a:pt x="1434" y="336"/>
                  </a:lnTo>
                  <a:lnTo>
                    <a:pt x="1416" y="342"/>
                  </a:lnTo>
                  <a:lnTo>
                    <a:pt x="1398" y="348"/>
                  </a:lnTo>
                  <a:lnTo>
                    <a:pt x="1380" y="354"/>
                  </a:lnTo>
                  <a:lnTo>
                    <a:pt x="1362" y="360"/>
                  </a:lnTo>
                  <a:lnTo>
                    <a:pt x="1338" y="366"/>
                  </a:lnTo>
                  <a:lnTo>
                    <a:pt x="1320" y="372"/>
                  </a:lnTo>
                  <a:lnTo>
                    <a:pt x="1296" y="372"/>
                  </a:lnTo>
                  <a:lnTo>
                    <a:pt x="1278" y="378"/>
                  </a:lnTo>
                  <a:lnTo>
                    <a:pt x="1254" y="384"/>
                  </a:lnTo>
                  <a:lnTo>
                    <a:pt x="1242" y="384"/>
                  </a:lnTo>
                  <a:lnTo>
                    <a:pt x="1218" y="390"/>
                  </a:lnTo>
                  <a:lnTo>
                    <a:pt x="1194" y="390"/>
                  </a:lnTo>
                  <a:lnTo>
                    <a:pt x="1170" y="396"/>
                  </a:lnTo>
                  <a:lnTo>
                    <a:pt x="1140" y="396"/>
                  </a:lnTo>
                  <a:lnTo>
                    <a:pt x="1116" y="402"/>
                  </a:lnTo>
                  <a:lnTo>
                    <a:pt x="1092" y="402"/>
                  </a:lnTo>
                  <a:lnTo>
                    <a:pt x="1062" y="408"/>
                  </a:lnTo>
                  <a:lnTo>
                    <a:pt x="1038" y="408"/>
                  </a:lnTo>
                  <a:lnTo>
                    <a:pt x="1008" y="414"/>
                  </a:lnTo>
                  <a:lnTo>
                    <a:pt x="984" y="414"/>
                  </a:lnTo>
                  <a:lnTo>
                    <a:pt x="954" y="414"/>
                  </a:lnTo>
                  <a:lnTo>
                    <a:pt x="930" y="414"/>
                  </a:lnTo>
                  <a:lnTo>
                    <a:pt x="900" y="414"/>
                  </a:lnTo>
                  <a:lnTo>
                    <a:pt x="870" y="420"/>
                  </a:lnTo>
                  <a:lnTo>
                    <a:pt x="846" y="420"/>
                  </a:lnTo>
                  <a:lnTo>
                    <a:pt x="816" y="420"/>
                  </a:lnTo>
                  <a:lnTo>
                    <a:pt x="786" y="420"/>
                  </a:lnTo>
                  <a:lnTo>
                    <a:pt x="762" y="420"/>
                  </a:lnTo>
                  <a:lnTo>
                    <a:pt x="732" y="420"/>
                  </a:lnTo>
                  <a:lnTo>
                    <a:pt x="702" y="414"/>
                  </a:lnTo>
                  <a:lnTo>
                    <a:pt x="678" y="414"/>
                  </a:lnTo>
                  <a:lnTo>
                    <a:pt x="648" y="414"/>
                  </a:lnTo>
                  <a:lnTo>
                    <a:pt x="624" y="414"/>
                  </a:lnTo>
                  <a:lnTo>
                    <a:pt x="594" y="414"/>
                  </a:lnTo>
                  <a:lnTo>
                    <a:pt x="570" y="408"/>
                  </a:lnTo>
                  <a:lnTo>
                    <a:pt x="540" y="408"/>
                  </a:lnTo>
                  <a:lnTo>
                    <a:pt x="516" y="402"/>
                  </a:lnTo>
                  <a:lnTo>
                    <a:pt x="486" y="402"/>
                  </a:lnTo>
                  <a:lnTo>
                    <a:pt x="462" y="396"/>
                  </a:lnTo>
                  <a:lnTo>
                    <a:pt x="438" y="396"/>
                  </a:lnTo>
                  <a:lnTo>
                    <a:pt x="414" y="390"/>
                  </a:lnTo>
                  <a:lnTo>
                    <a:pt x="390" y="390"/>
                  </a:lnTo>
                  <a:lnTo>
                    <a:pt x="366" y="384"/>
                  </a:lnTo>
                  <a:lnTo>
                    <a:pt x="342" y="378"/>
                  </a:lnTo>
                  <a:lnTo>
                    <a:pt x="318" y="378"/>
                  </a:lnTo>
                  <a:lnTo>
                    <a:pt x="294" y="372"/>
                  </a:lnTo>
                  <a:lnTo>
                    <a:pt x="276" y="366"/>
                  </a:lnTo>
                  <a:lnTo>
                    <a:pt x="252" y="360"/>
                  </a:lnTo>
                  <a:lnTo>
                    <a:pt x="234" y="354"/>
                  </a:lnTo>
                  <a:lnTo>
                    <a:pt x="216" y="354"/>
                  </a:lnTo>
                  <a:lnTo>
                    <a:pt x="198" y="348"/>
                  </a:lnTo>
                  <a:lnTo>
                    <a:pt x="180" y="342"/>
                  </a:lnTo>
                  <a:lnTo>
                    <a:pt x="162" y="336"/>
                  </a:lnTo>
                  <a:lnTo>
                    <a:pt x="144" y="330"/>
                  </a:lnTo>
                  <a:lnTo>
                    <a:pt x="126" y="324"/>
                  </a:lnTo>
                  <a:lnTo>
                    <a:pt x="114" y="318"/>
                  </a:lnTo>
                  <a:lnTo>
                    <a:pt x="102" y="312"/>
                  </a:lnTo>
                  <a:lnTo>
                    <a:pt x="84" y="306"/>
                  </a:lnTo>
                  <a:lnTo>
                    <a:pt x="72" y="300"/>
                  </a:lnTo>
                  <a:lnTo>
                    <a:pt x="60" y="288"/>
                  </a:lnTo>
                  <a:lnTo>
                    <a:pt x="54" y="282"/>
                  </a:lnTo>
                  <a:lnTo>
                    <a:pt x="42" y="276"/>
                  </a:lnTo>
                  <a:lnTo>
                    <a:pt x="36" y="270"/>
                  </a:lnTo>
                  <a:lnTo>
                    <a:pt x="24" y="264"/>
                  </a:lnTo>
                  <a:lnTo>
                    <a:pt x="18" y="258"/>
                  </a:lnTo>
                  <a:lnTo>
                    <a:pt x="12" y="246"/>
                  </a:lnTo>
                  <a:lnTo>
                    <a:pt x="6" y="240"/>
                  </a:lnTo>
                  <a:lnTo>
                    <a:pt x="6" y="234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12" y="168"/>
                  </a:lnTo>
                  <a:lnTo>
                    <a:pt x="18" y="162"/>
                  </a:lnTo>
                  <a:lnTo>
                    <a:pt x="24" y="156"/>
                  </a:lnTo>
                  <a:lnTo>
                    <a:pt x="36" y="150"/>
                  </a:lnTo>
                  <a:lnTo>
                    <a:pt x="42" y="138"/>
                  </a:lnTo>
                  <a:lnTo>
                    <a:pt x="54" y="132"/>
                  </a:lnTo>
                  <a:lnTo>
                    <a:pt x="60" y="126"/>
                  </a:lnTo>
                  <a:lnTo>
                    <a:pt x="804" y="210"/>
                  </a:lnTo>
                  <a:lnTo>
                    <a:pt x="804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</p:grpSp>
      <p:sp>
        <p:nvSpPr>
          <p:cNvPr id="314" name="Rectangle 50"/>
          <p:cNvSpPr/>
          <p:nvPr/>
        </p:nvSpPr>
        <p:spPr>
          <a:xfrm>
            <a:off x="250920" y="2421000"/>
            <a:ext cx="287280" cy="266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250920" y="2852640"/>
            <a:ext cx="287280" cy="266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16" name="Text Box 53"/>
          <p:cNvSpPr/>
          <p:nvPr/>
        </p:nvSpPr>
        <p:spPr>
          <a:xfrm>
            <a:off x="240480" y="11970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46 %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17" name="Text Box 55"/>
          <p:cNvSpPr/>
          <p:nvPr/>
        </p:nvSpPr>
        <p:spPr>
          <a:xfrm>
            <a:off x="1768680" y="177336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92 %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18" name="Text Box 56"/>
          <p:cNvSpPr/>
          <p:nvPr/>
        </p:nvSpPr>
        <p:spPr>
          <a:xfrm>
            <a:off x="640080" y="24210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20107</a:t>
            </a: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 год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19" name="Text Box 57"/>
          <p:cNvSpPr/>
          <p:nvPr/>
        </p:nvSpPr>
        <p:spPr>
          <a:xfrm>
            <a:off x="711000" y="278136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2018 год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20" name="Text Box 96"/>
          <p:cNvSpPr/>
          <p:nvPr/>
        </p:nvSpPr>
        <p:spPr>
          <a:xfrm>
            <a:off x="2627280" y="1844640"/>
            <a:ext cx="68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силос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чест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атематического образования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46 %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pic>
        <p:nvPicPr>
          <p:cNvPr id="321" name="Picture 127" descr="CIMG0460"/>
          <p:cNvPicPr/>
          <p:nvPr/>
        </p:nvPicPr>
        <p:blipFill>
          <a:blip r:embed="rId3"/>
          <a:stretch/>
        </p:blipFill>
        <p:spPr>
          <a:xfrm>
            <a:off x="5580000" y="2492280"/>
            <a:ext cx="2519280" cy="1906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22" name="Text Box 131"/>
          <p:cNvSpPr/>
          <p:nvPr/>
        </p:nvSpPr>
        <p:spPr>
          <a:xfrm>
            <a:off x="2627280" y="5084640"/>
            <a:ext cx="684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ан критериальный аппар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струментар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проведения мониторингового исследования математических представлений  дошколь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основе принципа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мини-макса»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pic>
        <p:nvPicPr>
          <p:cNvPr id="323" name="Picture 129" descr="CIMG0468"/>
          <p:cNvPicPr/>
          <p:nvPr/>
        </p:nvPicPr>
        <p:blipFill>
          <a:blip r:embed="rId4"/>
          <a:stretch/>
        </p:blipFill>
        <p:spPr>
          <a:xfrm>
            <a:off x="539640" y="4797360"/>
            <a:ext cx="2376720" cy="178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pull dir="ru"/>
  </p:transition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2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3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4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8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9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0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3040"/>
                            </p:stCondLst>
                            <p:childTnLst>
                              <p:par>
                                <p:cTn id="15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15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2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3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6320"/>
                            </p:stCondLst>
                            <p:childTnLst>
                              <p:par>
                                <p:cTn id="1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8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0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10720"/>
                            </p:stCondLst>
                            <p:childTnLst>
                              <p:par>
                                <p:cTn id="1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5" dur="8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8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bat"/>
              </a:rPr>
              <a:t>Критерии и показатели оценки эффективности реализации проек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933480" y="1905120"/>
          <a:ext cx="3735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905120"/>
                    <a:ext cx="373536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4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663480" y="416880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24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1116000" y="7650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0" y="1413000"/>
            <a:ext cx="615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ba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Создана программа консультационного пункта для молодых специалистов по</a:t>
            </a: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вопросам внедрения ТДП в ОП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- Создан банк проектов занятий с использованием ТДП, в том числе, интегрированных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- Создана картотека дидактических и сюжетно-ролевых игр с математическим содержанием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- Создана программа клуба для родителей «Вместе веселее» по практическому использованию ТДП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- Разработан диагностический материал для родителей по знанию принципов ТДП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pic>
        <p:nvPicPr>
          <p:cNvPr id="336" name="Picture 32" descr="C:\Users\Виктория\Desktop\все документы Вики\фото Кулешова Ручкина ИГРЫ\IMG_0197.JPG"/>
          <p:cNvPicPr/>
          <p:nvPr/>
        </p:nvPicPr>
        <p:blipFill>
          <a:blip r:embed="rId3"/>
          <a:stretch/>
        </p:blipFill>
        <p:spPr>
          <a:xfrm>
            <a:off x="5929200" y="40006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3" descr="C:\Users\Виктория\Desktop\все документы Вики\фото Кулешова Ручкина ИГРЫ\IMG_0283.JPG"/>
          <p:cNvPicPr/>
          <p:nvPr/>
        </p:nvPicPr>
        <p:blipFill>
          <a:blip r:embed="rId4"/>
          <a:stretch/>
        </p:blipFill>
        <p:spPr>
          <a:xfrm>
            <a:off x="6072120" y="1285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5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2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2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2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2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bat"/>
              </a:rPr>
              <a:t>Кроме того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63480" y="416880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324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116000" y="7650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551880" y="1628640"/>
            <a:ext cx="6814800" cy="22269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bat"/>
              </a:rPr>
              <a:t>Проведены семинары по внедрению  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bat"/>
              </a:rPr>
              <a:t>деятельностного подхода в ОП: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bat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bat"/>
              </a:rPr>
              <a:t>внутриучрежденческих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bat"/>
              </a:rPr>
              <a:t>окружных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bat"/>
              </a:rPr>
              <a:t> 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3834000" y="3933720"/>
            <a:ext cx="5109480" cy="13737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но открытых занятий: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ом проекта 3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авторами   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1268280" y="5734080"/>
            <a:ext cx="6880320" cy="9471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о 3 конкурса по  преобразованию 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о-развивающей среды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4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4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1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4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1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4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4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4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4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1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4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4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1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4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4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4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4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1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9" dur="4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4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2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8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8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2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5" dur="8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8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425916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Интернет - ресурсы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0" y="-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24000" y="602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3221280" cy="2415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"/>
          <p:cNvPicPr/>
          <p:nvPr/>
        </p:nvPicPr>
        <p:blipFill>
          <a:blip r:embed="rId5"/>
          <a:stretch/>
        </p:blipFill>
        <p:spPr>
          <a:xfrm>
            <a:off x="2340000" y="364500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nodeType="clickEffect" fill="hold">
                      <p:stCondLst>
                        <p:cond delay="0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9144000" cy="1871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bat"/>
              </a:rPr>
              <a:t>  </a:t>
            </a:r>
            <a:r>
              <a:rPr b="1" i="1" lang="ru-RU" sz="4400" spc="-1" strike="noStrike">
                <a:solidFill>
                  <a:srgbClr val="ff0000"/>
                </a:solidFill>
                <a:latin typeface="Arbat"/>
              </a:rPr>
              <a:t>Инновационный потенциа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929800" cy="2232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Качественное изменение системы 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организации 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занятий с детьми дошкольного возра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Создание банка интегрированных занятий с 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математическим содержанием на основе 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технологии деятельностного подхода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ba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395280" y="4240080"/>
            <a:ext cx="90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95280" y="422100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Разработка диагностического инструментария с использованием принципа «мини-макса»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108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1042920" y="7650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pic>
        <p:nvPicPr>
          <p:cNvPr id="367" name="Picture 33" descr="j0251301"/>
          <p:cNvPicPr/>
          <p:nvPr/>
        </p:nvPicPr>
        <p:blipFill>
          <a:blip r:embed="rId1"/>
          <a:stretch/>
        </p:blipFill>
        <p:spPr>
          <a:xfrm>
            <a:off x="179280" y="549360"/>
            <a:ext cx="1224000" cy="10317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6"/>
          <p:cNvSpPr/>
          <p:nvPr/>
        </p:nvSpPr>
        <p:spPr>
          <a:xfrm>
            <a:off x="395280" y="5229360"/>
            <a:ext cx="9145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bat"/>
              </a:rPr>
              <a:t>Создание системы работы с родителями на новой                        основе с практическим использованием технологии деятельностного подхода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6" dur="8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7" dur="8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8" dur="8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3" dur="8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4" dur="8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5" dur="8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0" dur="8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1" dur="8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2" dur="8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7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8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4" descr="PHOT0022"/>
          <p:cNvPicPr/>
          <p:nvPr/>
        </p:nvPicPr>
        <p:blipFill>
          <a:blip r:embed="rId1"/>
          <a:stretch/>
        </p:blipFill>
        <p:spPr>
          <a:xfrm>
            <a:off x="3500280" y="4586400"/>
            <a:ext cx="3017880" cy="20890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370" name="Picture 20" descr="http://ds2558.ru/_Fotos/1204_prev/02-05.JPG"/>
          <p:cNvPicPr/>
          <p:nvPr/>
        </p:nvPicPr>
        <p:blipFill>
          <a:blip r:embed="rId2"/>
          <a:stretch/>
        </p:blipFill>
        <p:spPr>
          <a:xfrm>
            <a:off x="2571840" y="2643120"/>
            <a:ext cx="2000160" cy="1928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8" descr="http://ds2558.ru/_Fotos/1161_prev/IMG_9256.JPG"/>
          <p:cNvPicPr/>
          <p:nvPr/>
        </p:nvPicPr>
        <p:blipFill>
          <a:blip r:embed="rId3"/>
          <a:stretch/>
        </p:blipFill>
        <p:spPr>
          <a:xfrm>
            <a:off x="428760" y="1143000"/>
            <a:ext cx="2428920" cy="20239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bat"/>
              </a:rPr>
              <a:t>Перспективность и практическая значимость проек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642960" y="4500720"/>
            <a:ext cx="830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324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1116000" y="7650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2556000" y="1773360"/>
            <a:ext cx="576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Возможность использования  системы методических разработок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4932360" y="292428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Использование опыта работы по организации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консультационной службы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83" name="Text Box 35"/>
          <p:cNvSpPr/>
          <p:nvPr/>
        </p:nvSpPr>
        <p:spPr>
          <a:xfrm>
            <a:off x="6512400" y="4653000"/>
            <a:ext cx="25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Использование 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пакета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диагностического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инструментария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aptop"/>
          <p:cNvSpPr/>
          <p:nvPr/>
        </p:nvSpPr>
        <p:spPr>
          <a:xfrm>
            <a:off x="179280" y="1197000"/>
            <a:ext cx="8713800" cy="5327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bat"/>
              </a:rPr>
              <a:t>Влияние технологии деятельностного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bat"/>
              </a:rPr>
              <a:t>подхода на качество математического образования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bat"/>
              </a:rPr>
              <a:t>детей дошкольного возраста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bat"/>
              </a:rPr>
              <a:t>Предмет исслед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63480" y="416880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24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116000" y="7650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9144000" cy="1871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bat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13840" y="1268280"/>
            <a:ext cx="8929800" cy="2232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4240080"/>
            <a:ext cx="90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395280" y="414972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279360" y="3789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08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324000" y="1197000"/>
            <a:ext cx="88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Т.о.</a:t>
            </a:r>
            <a:r>
              <a:rPr b="1" lang="ru-RU" sz="2400" spc="-1" strike="noStrike">
                <a:solidFill>
                  <a:srgbClr val="0000ff"/>
                </a:solidFill>
                <a:latin typeface="Arbat"/>
              </a:rPr>
              <a:t>,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системность в реализации 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целей и задач , инновационный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потенциал, заложенный в проекте, 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использование современных инновационных методов и технологий, соблюдение принципов здоровьесбережения и представленная положительная динамика позволяют сделать вывод </a:t>
            </a:r>
            <a:r>
              <a:rPr b="1" lang="ru-RU" sz="2800" spc="-1" strike="noStrike">
                <a:solidFill>
                  <a:srgbClr val="ffffff"/>
                </a:solidFill>
                <a:latin typeface="Arbat"/>
              </a:rPr>
              <a:t>о положительном</a:t>
            </a: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bat"/>
              </a:rPr>
              <a:t>влиянии технологии деятельностного подхода 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bat"/>
              </a:rPr>
              <a:t>на повышение качества математического образования детей дошкольного возраста 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395280" y="5229360"/>
            <a:ext cx="9145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bat"/>
              </a:rPr>
              <a:t>  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2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3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4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1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8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9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5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6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7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674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Arbat"/>
              </a:rPr>
              <a:t>Актуальность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00000" y="1125360"/>
            <a:ext cx="85680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аправления государственной политики в области обра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bat"/>
              </a:rPr>
              <a:t>доступ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bat"/>
              </a:rPr>
              <a:t>ка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bat"/>
              </a:rPr>
              <a:t>эффектив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Направление регионального комплексного проекта модернизации образования (РКПМ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Развитие региональной системы оценки качества образ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(РСОК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26920" y="409716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26920" y="2421000"/>
            <a:ext cx="81378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cc"/>
                </a:solidFill>
                <a:latin typeface="Arial"/>
              </a:rPr>
              <a:t>Политические и социально-экономические условия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bat"/>
              </a:rPr>
              <a:t>новое содержание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bat"/>
              </a:rPr>
              <a:t>новые формы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bat"/>
              </a:rPr>
              <a:t>новые методы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bat"/>
              </a:rPr>
              <a:t>новый подход к определению целей и задач образования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Специфика работы образовательного учреждения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bat"/>
              </a:rPr>
              <a:t>преемственность дошкольного и начального общего образования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bat"/>
              </a:rPr>
              <a:t>создание единого образовательного пространства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bat"/>
              </a:rPr>
              <a:t>создание внутриучрежденческой СОКО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90000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871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Arbat"/>
              </a:rPr>
              <a:t>Гипотеза исследования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844640"/>
            <a:ext cx="8244000" cy="2232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Arbat"/>
              </a:rPr>
              <a:t>Соблюдаться структура занятий в соответствии с используемой технолог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Arbat"/>
              </a:rPr>
              <a:t>Использоваться принцип «мини - макса» при планировании учебного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Arbat"/>
              </a:rPr>
              <a:t>Учитываться индивидуальные возможности воспитан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63480" y="416880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79360" y="3645000"/>
            <a:ext cx="886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Определены необходимые условия, включающие единые   принципы и подходы всех участников ОП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Осуществляться непрерывное психолого-педагогическое сопровождение образовательного процесса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Осуществляться интеграция специалистов ОУ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Разработан единый критериальный аппарат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pic>
        <p:nvPicPr>
          <p:cNvPr id="128" name="Picture 25" descr="BD21300_"/>
          <p:cNvPicPr/>
          <p:nvPr/>
        </p:nvPicPr>
        <p:blipFill>
          <a:blip r:embed="rId1"/>
          <a:stretch/>
        </p:blipFill>
        <p:spPr>
          <a:xfrm>
            <a:off x="539640" y="2060640"/>
            <a:ext cx="216000" cy="18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BD21300_"/>
          <p:cNvPicPr/>
          <p:nvPr/>
        </p:nvPicPr>
        <p:blipFill>
          <a:blip r:embed="rId2"/>
          <a:stretch/>
        </p:blipFill>
        <p:spPr>
          <a:xfrm>
            <a:off x="539640" y="2637000"/>
            <a:ext cx="216000" cy="18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BD21300_"/>
          <p:cNvPicPr/>
          <p:nvPr/>
        </p:nvPicPr>
        <p:blipFill>
          <a:blip r:embed="rId3"/>
          <a:stretch/>
        </p:blipFill>
        <p:spPr>
          <a:xfrm>
            <a:off x="611280" y="3357720"/>
            <a:ext cx="215640" cy="187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2" descr="BD21300_"/>
          <p:cNvPicPr/>
          <p:nvPr/>
        </p:nvPicPr>
        <p:blipFill>
          <a:blip r:embed="rId4"/>
          <a:stretch/>
        </p:blipFill>
        <p:spPr>
          <a:xfrm>
            <a:off x="179280" y="4149720"/>
            <a:ext cx="216000" cy="187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3" descr="BD21300_"/>
          <p:cNvPicPr/>
          <p:nvPr/>
        </p:nvPicPr>
        <p:blipFill>
          <a:blip r:embed="rId5"/>
          <a:stretch/>
        </p:blipFill>
        <p:spPr>
          <a:xfrm>
            <a:off x="179280" y="4941720"/>
            <a:ext cx="216000" cy="187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BD21300_"/>
          <p:cNvPicPr/>
          <p:nvPr/>
        </p:nvPicPr>
        <p:blipFill>
          <a:blip r:embed="rId6"/>
          <a:stretch/>
        </p:blipFill>
        <p:spPr>
          <a:xfrm>
            <a:off x="179280" y="5950080"/>
            <a:ext cx="216000" cy="187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>
            <a:off x="108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1023840" y="78408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250920" y="620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bat"/>
              </a:rPr>
              <a:t>Качество математического 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bat"/>
              </a:rPr>
              <a:t>образования повысится  если будет:</a:t>
            </a:r>
            <a:endParaRPr b="1" i="1" lang="en-US" sz="3200" spc="-1" strike="noStrike">
              <a:solidFill>
                <a:srgbClr val="ff0000"/>
              </a:solidFill>
              <a:latin typeface="Arbat"/>
            </a:endParaRPr>
          </a:p>
        </p:txBody>
      </p:sp>
      <p:pic>
        <p:nvPicPr>
          <p:cNvPr id="137" name="Picture 40" descr="BD21300_"/>
          <p:cNvPicPr/>
          <p:nvPr/>
        </p:nvPicPr>
        <p:blipFill>
          <a:blip r:embed="rId7"/>
          <a:stretch/>
        </p:blipFill>
        <p:spPr>
          <a:xfrm>
            <a:off x="179280" y="6381720"/>
            <a:ext cx="216000" cy="18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71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bat"/>
              </a:rPr>
              <a:t>Теоретико-методологическая основа исслед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63480" y="416880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108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1023840" y="78408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47" name="AutoShape 20"/>
          <p:cNvSpPr/>
          <p:nvPr/>
        </p:nvSpPr>
        <p:spPr>
          <a:xfrm rot="20301000">
            <a:off x="178920" y="1773000"/>
            <a:ext cx="3816360" cy="289548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100000">
                <a:srgbClr val="ffff66"/>
              </a:gs>
            </a:gsLst>
            <a:lin ang="4002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Положения о социальной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сущности человека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48" name="AutoShape 27"/>
          <p:cNvSpPr/>
          <p:nvPr/>
        </p:nvSpPr>
        <p:spPr>
          <a:xfrm rot="20451600">
            <a:off x="4355640" y="1699920"/>
            <a:ext cx="4062600" cy="3166920"/>
          </a:xfrm>
          <a:prstGeom prst="horizontalScroll">
            <a:avLst>
              <a:gd name="adj" fmla="val 19351"/>
            </a:avLst>
          </a:prstGeom>
          <a:gradFill rotWithShape="0">
            <a:gsLst>
              <a:gs pos="0">
                <a:srgbClr val="00ff00"/>
              </a:gs>
              <a:gs pos="100000">
                <a:srgbClr val="ffff66"/>
              </a:gs>
            </a:gsLst>
            <a:lin ang="3852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bat"/>
              </a:rPr>
              <a:t>Положения о деятельности человека как специфического для субъекта способа отношения к внешнему миру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pic>
        <p:nvPicPr>
          <p:cNvPr id="149" name="Picture 28" descr="Изображение0008"/>
          <p:cNvPicPr/>
          <p:nvPr/>
        </p:nvPicPr>
        <p:blipFill>
          <a:blip r:embed="rId1"/>
          <a:srcRect l="7668" t="17917" r="60107" b="50724"/>
          <a:stretch/>
        </p:blipFill>
        <p:spPr>
          <a:xfrm rot="20374800">
            <a:off x="1834920" y="4076640"/>
            <a:ext cx="1600200" cy="2205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0" name="Picture 29" descr="Изображение0001"/>
          <p:cNvPicPr/>
          <p:nvPr/>
        </p:nvPicPr>
        <p:blipFill>
          <a:blip r:embed="rId2"/>
          <a:srcRect l="65979" t="22622" r="27212" b="62728"/>
          <a:stretch/>
        </p:blipFill>
        <p:spPr>
          <a:xfrm rot="20460000">
            <a:off x="6227640" y="4221000"/>
            <a:ext cx="1704960" cy="2413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1" name="Text Box 30"/>
          <p:cNvSpPr/>
          <p:nvPr/>
        </p:nvSpPr>
        <p:spPr>
          <a:xfrm rot="20311800">
            <a:off x="7164360" y="585324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А.А.Леонтьев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52" name="Text Box 31"/>
          <p:cNvSpPr/>
          <p:nvPr/>
        </p:nvSpPr>
        <p:spPr>
          <a:xfrm rot="20392800">
            <a:off x="2883600" y="551628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bat"/>
              </a:rPr>
              <a:t>П.Я.Гальперин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1258920" y="4292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bat"/>
              </a:rPr>
              <a:t>, 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26920" y="6308640"/>
            <a:ext cx="34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56" name="PubBanner"/>
          <p:cNvSpPr/>
          <p:nvPr/>
        </p:nvSpPr>
        <p:spPr>
          <a:xfrm>
            <a:off x="142920" y="0"/>
            <a:ext cx="8605800" cy="2060640"/>
          </a:xfrm>
          <a:custGeom>
            <a:avLst/>
            <a:gdLst>
              <a:gd name="textAreaLeft" fmla="*/ 1125720 w 8605800"/>
              <a:gd name="textAreaRight" fmla="*/ 7484400 w 8605800"/>
              <a:gd name="textAreaTop" fmla="*/ 431640 h 2060640"/>
              <a:gd name="textAreaBottom" fmla="*/ 1197360 h 2060640"/>
            </a:gdLst>
            <a:ahLst/>
            <a:rect l="textAreaLeft" t="textAreaTop" r="textAreaRight" b="textAreaBottom"/>
            <a:pathLst>
              <a:path w="21600" h="21600">
                <a:moveTo>
                  <a:pt x="18785" y="4525"/>
                </a:moveTo>
                <a:cubicBezTo>
                  <a:pt x="18684" y="3891"/>
                  <a:pt x="18494" y="3359"/>
                  <a:pt x="18152" y="2776"/>
                </a:cubicBezTo>
                <a:cubicBezTo>
                  <a:pt x="17708" y="2243"/>
                  <a:pt x="17125" y="1749"/>
                  <a:pt x="16453" y="1318"/>
                </a:cubicBezTo>
                <a:cubicBezTo>
                  <a:pt x="15667" y="925"/>
                  <a:pt x="14792" y="583"/>
                  <a:pt x="13816" y="342"/>
                </a:cubicBezTo>
                <a:cubicBezTo>
                  <a:pt x="12840" y="152"/>
                  <a:pt x="11826" y="0"/>
                  <a:pt x="10800" y="0"/>
                </a:cubicBezTo>
                <a:cubicBezTo>
                  <a:pt x="9735" y="0"/>
                  <a:pt x="8708" y="152"/>
                  <a:pt x="7732" y="342"/>
                </a:cubicBezTo>
                <a:cubicBezTo>
                  <a:pt x="6807" y="583"/>
                  <a:pt x="5932" y="925"/>
                  <a:pt x="5159" y="1318"/>
                </a:cubicBezTo>
                <a:cubicBezTo>
                  <a:pt x="4474" y="1749"/>
                  <a:pt x="3891" y="2243"/>
                  <a:pt x="3409" y="2776"/>
                </a:cubicBezTo>
                <a:cubicBezTo>
                  <a:pt x="3118" y="3359"/>
                  <a:pt x="2864" y="3891"/>
                  <a:pt x="2826" y="4525"/>
                </a:cubicBezTo>
                <a:lnTo>
                  <a:pt x="2826" y="6084"/>
                </a:lnTo>
                <a:lnTo>
                  <a:pt x="0" y="9152"/>
                </a:lnTo>
                <a:lnTo>
                  <a:pt x="684" y="13728"/>
                </a:lnTo>
                <a:lnTo>
                  <a:pt x="0" y="21600"/>
                </a:lnTo>
                <a:lnTo>
                  <a:pt x="2826" y="18684"/>
                </a:lnTo>
                <a:lnTo>
                  <a:pt x="2826" y="17074"/>
                </a:lnTo>
                <a:cubicBezTo>
                  <a:pt x="2864" y="16491"/>
                  <a:pt x="3118" y="15908"/>
                  <a:pt x="3409" y="15325"/>
                </a:cubicBezTo>
                <a:cubicBezTo>
                  <a:pt x="3891" y="14792"/>
                  <a:pt x="4474" y="14311"/>
                  <a:pt x="5159" y="13867"/>
                </a:cubicBezTo>
                <a:cubicBezTo>
                  <a:pt x="5932" y="13474"/>
                  <a:pt x="6807" y="13145"/>
                  <a:pt x="7732" y="12891"/>
                </a:cubicBezTo>
                <a:cubicBezTo>
                  <a:pt x="8708" y="12701"/>
                  <a:pt x="9735" y="12600"/>
                  <a:pt x="10800" y="12549"/>
                </a:cubicBezTo>
                <a:cubicBezTo>
                  <a:pt x="11826" y="12600"/>
                  <a:pt x="12840" y="12701"/>
                  <a:pt x="13816" y="12891"/>
                </a:cubicBezTo>
                <a:cubicBezTo>
                  <a:pt x="14792" y="13145"/>
                  <a:pt x="15667" y="13474"/>
                  <a:pt x="16453" y="13867"/>
                </a:cubicBezTo>
                <a:cubicBezTo>
                  <a:pt x="17125" y="14311"/>
                  <a:pt x="17708" y="14792"/>
                  <a:pt x="18152" y="15325"/>
                </a:cubicBezTo>
                <a:cubicBezTo>
                  <a:pt x="18494" y="15908"/>
                  <a:pt x="18684" y="16491"/>
                  <a:pt x="18785" y="17074"/>
                </a:cubicBezTo>
                <a:lnTo>
                  <a:pt x="18785" y="18684"/>
                </a:lnTo>
                <a:lnTo>
                  <a:pt x="21600" y="21600"/>
                </a:lnTo>
                <a:lnTo>
                  <a:pt x="20928" y="13728"/>
                </a:lnTo>
                <a:lnTo>
                  <a:pt x="21600" y="9152"/>
                </a:lnTo>
                <a:lnTo>
                  <a:pt x="18785" y="6084"/>
                </a:lnTo>
                <a:lnTo>
                  <a:pt x="18785" y="452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57" name="PubOvalCallout"/>
          <p:cNvSpPr/>
          <p:nvPr/>
        </p:nvSpPr>
        <p:spPr>
          <a:xfrm rot="20694600">
            <a:off x="324000" y="1699920"/>
            <a:ext cx="3887640" cy="188748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207360 h 1887480"/>
              <a:gd name="textAreaBottom" fmla="*/ 1209240 h 1887480"/>
            </a:gdLst>
            <a:ahLst/>
            <a:rect l="textAreaLeft" t="textAreaTop" r="textAreaRight" b="textAreaBottom"/>
            <a:pathLst>
              <a:path w="21600" h="21600">
                <a:moveTo>
                  <a:pt x="11025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1025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332000" y="0"/>
            <a:ext cx="62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bat"/>
              </a:rPr>
              <a:t>Механизмы </a:t>
            </a:r>
            <a:endParaRPr b="1" i="1" lang="en-US" sz="4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bat"/>
              </a:rPr>
              <a:t>выполнения проекта</a:t>
            </a:r>
            <a:endParaRPr b="1" i="1" lang="en-US" sz="4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50920" y="179244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60" name="Text Box 18"/>
          <p:cNvSpPr/>
          <p:nvPr/>
        </p:nvSpPr>
        <p:spPr>
          <a:xfrm rot="20388600">
            <a:off x="725400" y="1765800"/>
            <a:ext cx="29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Uk_Arbat"/>
              </a:rPr>
              <a:t>Объединение усилий педагогов и родителей по овладению технологией деятельностного подхода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Uk_Arbat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Uk_Arbat"/>
              </a:rPr>
              <a:t>(ТДП)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61" name="PubOvalCallout"/>
          <p:cNvSpPr/>
          <p:nvPr/>
        </p:nvSpPr>
        <p:spPr>
          <a:xfrm rot="20409600">
            <a:off x="3780000" y="1773360"/>
            <a:ext cx="3958920" cy="1887480"/>
          </a:xfrm>
          <a:custGeom>
            <a:avLst/>
            <a:gdLst>
              <a:gd name="textAreaLeft" fmla="*/ 579600 w 3958920"/>
              <a:gd name="textAreaRight" fmla="*/ 3379320 w 3958920"/>
              <a:gd name="textAreaTop" fmla="*/ 207360 h 1887480"/>
              <a:gd name="textAreaBottom" fmla="*/ 1209240 h 18874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0766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2484360" y="323208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63" name="Text Box 23"/>
          <p:cNvSpPr/>
          <p:nvPr/>
        </p:nvSpPr>
        <p:spPr>
          <a:xfrm rot="20346000">
            <a:off x="4067280" y="184428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Uk_Arbat"/>
              </a:rPr>
              <a:t>Использование ТДП в регламентированных и нерегламентированных видах деятельности</a:t>
            </a: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64" name="PubOvalCallout"/>
          <p:cNvSpPr/>
          <p:nvPr/>
        </p:nvSpPr>
        <p:spPr>
          <a:xfrm rot="20538000">
            <a:off x="179280" y="3789360"/>
            <a:ext cx="3961080" cy="1887480"/>
          </a:xfrm>
          <a:custGeom>
            <a:avLst/>
            <a:gdLst>
              <a:gd name="textAreaLeft" fmla="*/ 579960 w 3961080"/>
              <a:gd name="textAreaRight" fmla="*/ 3381120 w 3961080"/>
              <a:gd name="textAreaTop" fmla="*/ 207360 h 1887480"/>
              <a:gd name="textAreaBottom" fmla="*/ 1209240 h 18874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0766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65" name="PubOvalCallout"/>
          <p:cNvSpPr/>
          <p:nvPr/>
        </p:nvSpPr>
        <p:spPr>
          <a:xfrm rot="20404200">
            <a:off x="5292720" y="3284280"/>
            <a:ext cx="4032360" cy="1887480"/>
          </a:xfrm>
          <a:custGeom>
            <a:avLst/>
            <a:gdLst>
              <a:gd name="textAreaLeft" fmla="*/ 590400 w 4032360"/>
              <a:gd name="textAreaRight" fmla="*/ 3441960 w 4032360"/>
              <a:gd name="textAreaTop" fmla="*/ 207360 h 1887480"/>
              <a:gd name="textAreaBottom" fmla="*/ 1209240 h 18874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0766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179280" y="443700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67" name="Text Box 27"/>
          <p:cNvSpPr/>
          <p:nvPr/>
        </p:nvSpPr>
        <p:spPr>
          <a:xfrm rot="20393400">
            <a:off x="395640" y="400500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Uk_Arbat"/>
              </a:rPr>
              <a:t>Разработка интегрированных занятий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68" name="PubOvalCallout"/>
          <p:cNvSpPr/>
          <p:nvPr/>
        </p:nvSpPr>
        <p:spPr>
          <a:xfrm rot="20843400">
            <a:off x="2268360" y="4970520"/>
            <a:ext cx="4032360" cy="1887480"/>
          </a:xfrm>
          <a:custGeom>
            <a:avLst/>
            <a:gdLst>
              <a:gd name="textAreaLeft" fmla="*/ 590400 w 4032360"/>
              <a:gd name="textAreaRight" fmla="*/ 3441960 w 4032360"/>
              <a:gd name="textAreaTop" fmla="*/ 207360 h 1887480"/>
              <a:gd name="textAreaBottom" fmla="*/ 1209240 h 18874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0766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5724360" y="3665520"/>
            <a:ext cx="34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5724360" y="359244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71" name="Text Box 31"/>
          <p:cNvSpPr/>
          <p:nvPr/>
        </p:nvSpPr>
        <p:spPr>
          <a:xfrm rot="20403000">
            <a:off x="5651640" y="3428640"/>
            <a:ext cx="30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Uk_Arbat"/>
              </a:rPr>
              <a:t>Разработка критериального аппарата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72" name="Text Box 32"/>
          <p:cNvSpPr/>
          <p:nvPr/>
        </p:nvSpPr>
        <p:spPr>
          <a:xfrm rot="20394000">
            <a:off x="2485080" y="5299200"/>
            <a:ext cx="33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Uk_Arbat"/>
              </a:rPr>
              <a:t>Проектная деятельность воспитанников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042920" y="6165720"/>
            <a:ext cx="34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87948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95280" y="422100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95280" y="42400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63480" y="416880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79360" y="400536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bat"/>
              </a:rPr>
              <a:t> </a:t>
            </a:r>
            <a:endParaRPr b="1" i="1" lang="en-US" sz="2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24000" y="836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116000" y="7650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81" name="Oval 78"/>
          <p:cNvSpPr/>
          <p:nvPr/>
        </p:nvSpPr>
        <p:spPr>
          <a:xfrm>
            <a:off x="755640" y="1413000"/>
            <a:ext cx="2592360" cy="1079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82" name="WordArt 91"/>
          <p:cNvSpPr txBox="1"/>
          <p:nvPr/>
        </p:nvSpPr>
        <p:spPr>
          <a:xfrm>
            <a:off x="900000" y="1844640"/>
            <a:ext cx="237168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bat"/>
              </a:rPr>
              <a:t>Теоретически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bat"/>
              <a:ea typeface="Arbat"/>
            </a:endParaRPr>
          </a:p>
        </p:txBody>
      </p:sp>
      <p:sp>
        <p:nvSpPr>
          <p:cNvPr id="183" name="Oval 92"/>
          <p:cNvSpPr/>
          <p:nvPr/>
        </p:nvSpPr>
        <p:spPr>
          <a:xfrm>
            <a:off x="6012000" y="1628640"/>
            <a:ext cx="2592360" cy="1079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84" name="WordArt 93"/>
          <p:cNvSpPr txBox="1"/>
          <p:nvPr/>
        </p:nvSpPr>
        <p:spPr>
          <a:xfrm>
            <a:off x="6156360" y="2060640"/>
            <a:ext cx="2133720" cy="34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bat"/>
              </a:rPr>
              <a:t>Эмпирически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bat"/>
              <a:ea typeface="Arbat"/>
            </a:endParaRPr>
          </a:p>
        </p:txBody>
      </p:sp>
      <p:sp>
        <p:nvSpPr>
          <p:cNvPr id="185" name="WordArt 94"/>
          <p:cNvSpPr txBox="1"/>
          <p:nvPr/>
        </p:nvSpPr>
        <p:spPr>
          <a:xfrm>
            <a:off x="395280" y="476280"/>
            <a:ext cx="85327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bat"/>
              </a:rPr>
              <a:t>Используемые методы</a:t>
            </a:r>
            <a:endParaRPr b="1" i="1" lang="en-US" sz="60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00ffff"/>
                  </a:gs>
                </a:gsLst>
                <a:lin ang="5400000"/>
              </a:gradFill>
              <a:latin typeface="Arbat"/>
              <a:ea typeface="Arbat"/>
            </a:endParaRPr>
          </a:p>
        </p:txBody>
      </p:sp>
      <p:sp>
        <p:nvSpPr>
          <p:cNvPr id="186" name="Oval 97"/>
          <p:cNvSpPr/>
          <p:nvPr/>
        </p:nvSpPr>
        <p:spPr>
          <a:xfrm>
            <a:off x="179280" y="3068640"/>
            <a:ext cx="1511280" cy="1417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k_Arbat"/>
              </a:rPr>
              <a:t>Анализ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k_Arbat"/>
              </a:rPr>
              <a:t>и синтез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87" name="Oval 99"/>
          <p:cNvSpPr/>
          <p:nvPr/>
        </p:nvSpPr>
        <p:spPr>
          <a:xfrm>
            <a:off x="826920" y="4797360"/>
            <a:ext cx="1513080" cy="14176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k_Arbat"/>
              </a:rPr>
              <a:t>Обобщение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88" name="Oval 100"/>
          <p:cNvSpPr/>
          <p:nvPr/>
        </p:nvSpPr>
        <p:spPr>
          <a:xfrm>
            <a:off x="2627280" y="2565360"/>
            <a:ext cx="1513080" cy="14176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k_Arbat"/>
              </a:rPr>
              <a:t>Модели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k_Arbat"/>
              </a:rPr>
              <a:t>рование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89" name="Oval 101"/>
          <p:cNvSpPr/>
          <p:nvPr/>
        </p:nvSpPr>
        <p:spPr>
          <a:xfrm>
            <a:off x="2843280" y="4797360"/>
            <a:ext cx="1512720" cy="14176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k_Arbat"/>
              </a:rPr>
              <a:t>Аналогия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cxnSp>
        <p:nvCxnSpPr>
          <p:cNvPr id="190" name="AutoShape 102"/>
          <p:cNvCxnSpPr/>
          <p:nvPr/>
        </p:nvCxnSpPr>
        <p:spPr>
          <a:xfrm flipH="1">
            <a:off x="1115640" y="2491920"/>
            <a:ext cx="200880" cy="592920"/>
          </a:xfrm>
          <a:prstGeom prst="straightConnector1">
            <a:avLst/>
          </a:prstGeom>
          <a:ln w="31680">
            <a:solidFill>
              <a:srgbClr val="9933ff"/>
            </a:solidFill>
            <a:miter/>
          </a:ln>
        </p:spPr>
      </p:cxnSp>
      <p:cxnSp>
        <p:nvCxnSpPr>
          <p:cNvPr id="191" name="AutoShape 103"/>
          <p:cNvCxnSpPr/>
          <p:nvPr/>
        </p:nvCxnSpPr>
        <p:spPr>
          <a:xfrm flipH="1" flipV="1">
            <a:off x="2915640" y="2420640"/>
            <a:ext cx="254520" cy="144720"/>
          </a:xfrm>
          <a:prstGeom prst="straightConnector1">
            <a:avLst/>
          </a:prstGeom>
          <a:ln w="31680">
            <a:solidFill>
              <a:srgbClr val="9900cc"/>
            </a:solidFill>
            <a:miter/>
          </a:ln>
        </p:spPr>
      </p:cxnSp>
      <p:cxnSp>
        <p:nvCxnSpPr>
          <p:cNvPr id="192" name="AutoShape 104"/>
          <p:cNvCxnSpPr/>
          <p:nvPr/>
        </p:nvCxnSpPr>
        <p:spPr>
          <a:xfrm flipH="1">
            <a:off x="1618920" y="2565360"/>
            <a:ext cx="289440" cy="2232720"/>
          </a:xfrm>
          <a:prstGeom prst="straightConnector1">
            <a:avLst/>
          </a:prstGeom>
          <a:ln w="31680">
            <a:solidFill>
              <a:srgbClr val="9900cc"/>
            </a:solidFill>
            <a:miter/>
          </a:ln>
        </p:spPr>
      </p:cxnSp>
      <p:cxnSp>
        <p:nvCxnSpPr>
          <p:cNvPr id="193" name="AutoShape 105"/>
          <p:cNvCxnSpPr/>
          <p:nvPr/>
        </p:nvCxnSpPr>
        <p:spPr>
          <a:xfrm>
            <a:off x="2050920" y="2565000"/>
            <a:ext cx="1231200" cy="2297880"/>
          </a:xfrm>
          <a:prstGeom prst="straightConnector1">
            <a:avLst/>
          </a:prstGeom>
          <a:ln w="31680">
            <a:solidFill>
              <a:srgbClr val="9900cc"/>
            </a:solidFill>
            <a:miter/>
          </a:ln>
        </p:spPr>
      </p:cxnSp>
      <p:sp>
        <p:nvSpPr>
          <p:cNvPr id="194" name="Oval 106"/>
          <p:cNvSpPr/>
          <p:nvPr/>
        </p:nvSpPr>
        <p:spPr>
          <a:xfrm>
            <a:off x="5651640" y="4581360"/>
            <a:ext cx="1871640" cy="177804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k_Arbat"/>
              </a:rPr>
              <a:t>Наблюдение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95" name="Oval 107"/>
          <p:cNvSpPr/>
          <p:nvPr/>
        </p:nvSpPr>
        <p:spPr>
          <a:xfrm>
            <a:off x="7164360" y="2997360"/>
            <a:ext cx="1801800" cy="17776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k_Arbat"/>
              </a:rPr>
              <a:t>Изучение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Uk_Arbat"/>
              </a:rPr>
              <a:t>опыта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96" name="Line 110"/>
          <p:cNvSpPr/>
          <p:nvPr/>
        </p:nvSpPr>
        <p:spPr>
          <a:xfrm flipH="1">
            <a:off x="6443640" y="2708280"/>
            <a:ext cx="504720" cy="187308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97" name="Line 111"/>
          <p:cNvSpPr/>
          <p:nvPr/>
        </p:nvSpPr>
        <p:spPr>
          <a:xfrm flipH="1" flipV="1">
            <a:off x="7956720" y="2636640"/>
            <a:ext cx="71280" cy="36036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98" name="Oval 112"/>
          <p:cNvSpPr/>
          <p:nvPr/>
        </p:nvSpPr>
        <p:spPr>
          <a:xfrm>
            <a:off x="4500720" y="1817640"/>
            <a:ext cx="914400" cy="504036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199" name="WordArt 113"/>
          <p:cNvSpPr txBox="1"/>
          <p:nvPr/>
        </p:nvSpPr>
        <p:spPr>
          <a:xfrm rot="5400000">
            <a:off x="3015360" y="3977640"/>
            <a:ext cx="3888000" cy="34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bat"/>
              </a:rPr>
              <a:t>Практически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bat"/>
              <a:ea typeface="Arbat"/>
            </a:endParaRPr>
          </a:p>
        </p:txBody>
      </p:sp>
      <p:sp>
        <p:nvSpPr>
          <p:cNvPr id="200" name="Line 114"/>
          <p:cNvSpPr/>
          <p:nvPr/>
        </p:nvSpPr>
        <p:spPr>
          <a:xfrm>
            <a:off x="3276720" y="2060640"/>
            <a:ext cx="1366560" cy="360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01" name="Line 115"/>
          <p:cNvSpPr/>
          <p:nvPr/>
        </p:nvSpPr>
        <p:spPr>
          <a:xfrm flipH="1">
            <a:off x="5292720" y="2060640"/>
            <a:ext cx="719280" cy="360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02" name="Line 116"/>
          <p:cNvSpPr/>
          <p:nvPr/>
        </p:nvSpPr>
        <p:spPr>
          <a:xfrm>
            <a:off x="3132000" y="1628640"/>
            <a:ext cx="3888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3059280" y="2781360"/>
            <a:ext cx="338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bat"/>
              </a:rPr>
              <a:t>Технология деятельностного подхода (структура занятий )</a:t>
            </a:r>
            <a:endParaRPr b="1" i="1" lang="en-US" sz="28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04" name="AutoShape 4"/>
          <p:cNvSpPr/>
          <p:nvPr/>
        </p:nvSpPr>
        <p:spPr>
          <a:xfrm rot="20209200">
            <a:off x="611280" y="1915920"/>
            <a:ext cx="1676160" cy="1676160"/>
          </a:xfrm>
          <a:custGeom>
            <a:avLst/>
            <a:gdLst>
              <a:gd name="textAreaLeft" fmla="*/ 209520 w 1676160"/>
              <a:gd name="textAreaRight" fmla="*/ 1466640 w 1676160"/>
              <a:gd name="textAreaTop" fmla="*/ 419040 h 1676160"/>
              <a:gd name="textAreaBottom" fmla="*/ 12571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66ff33"/>
              </a:gs>
            </a:gsLst>
            <a:lin ang="6792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ведение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игровую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туацию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2916360" y="1052640"/>
            <a:ext cx="1676160" cy="1676160"/>
          </a:xfrm>
          <a:custGeom>
            <a:avLst/>
            <a:gdLst>
              <a:gd name="textAreaLeft" fmla="*/ 209520 w 1676160"/>
              <a:gd name="textAreaRight" fmla="*/ 1466640 w 1676160"/>
              <a:gd name="textAreaTop" fmla="*/ 419040 h 1676160"/>
              <a:gd name="textAreaBottom" fmla="*/ 12571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отивация,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уализация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06" name="AutoShape 6"/>
          <p:cNvSpPr/>
          <p:nvPr/>
        </p:nvSpPr>
        <p:spPr>
          <a:xfrm rot="1097400">
            <a:off x="5866920" y="1268280"/>
            <a:ext cx="1676520" cy="167652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419040 h 1676520"/>
              <a:gd name="textAreaBottom" fmla="*/ 12574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66ff33"/>
              </a:gs>
            </a:gsLst>
            <a:lin ang="4302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тановка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8153280" y="3657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7451640" y="3068640"/>
            <a:ext cx="1577880" cy="2308320"/>
            <a:chOff x="7451640" y="3068640"/>
            <a:chExt cx="1577880" cy="2308320"/>
          </a:xfrm>
        </p:grpSpPr>
        <p:sp>
          <p:nvSpPr>
            <p:cNvPr id="209" name="AutoShape 9"/>
            <p:cNvSpPr/>
            <p:nvPr/>
          </p:nvSpPr>
          <p:spPr>
            <a:xfrm>
              <a:off x="7451640" y="3068640"/>
              <a:ext cx="1464480" cy="2308320"/>
            </a:xfrm>
            <a:custGeom>
              <a:avLst/>
              <a:gdLst>
                <a:gd name="textAreaLeft" fmla="*/ 196200 w 1464480"/>
                <a:gd name="textAreaRight" fmla="*/ 1268280 w 1464480"/>
                <a:gd name="textAreaTop" fmla="*/ 401400 h 2308320"/>
                <a:gd name="textAreaBottom" fmla="*/ 1751040 h 23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18" stAng="-5400000" swAng="5400000"/>
                  <a:lnTo>
                    <a:pt x="21600" y="12627"/>
                  </a:lnTo>
                  <a:arcTo wR="21600" hR="7518" stAng="0" swAng="2212656"/>
                  <a:lnTo>
                    <a:pt x="9090" y="20902"/>
                  </a:lnTo>
                  <a:lnTo>
                    <a:pt x="0" y="17590"/>
                  </a:lnTo>
                  <a:lnTo>
                    <a:pt x="9090" y="12881"/>
                  </a:lnTo>
                  <a:lnTo>
                    <a:pt x="9090" y="14337"/>
                  </a:lnTo>
                  <a:arcTo wR="21600" hR="7518" stAng="2212656" swAng="-1782629"/>
                  <a:lnTo>
                    <a:pt x="20315" y="10072"/>
                  </a:lnTo>
                  <a:arcTo wR="21600" hR="7518" stAng="-430027" swAng="-4969973"/>
                  <a:close/>
                </a:path>
                <a:path fill="darkenLess" w="21600" h="21600">
                  <a:moveTo>
                    <a:pt x="0" y="0"/>
                  </a:moveTo>
                  <a:arcTo wR="21600" hR="7518" stAng="-5400000" swAng="5400000"/>
                  <a:lnTo>
                    <a:pt x="21600" y="12627"/>
                  </a:lnTo>
                  <a:arcTo wR="21600" hR="7518" stAng="0" swAng="-430027"/>
                  <a:lnTo>
                    <a:pt x="20315" y="10072"/>
                  </a:lnTo>
                  <a:arcTo wR="21600" hR="7518" stAng="-430027" swAng="-4969973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66ff33"/>
                </a:gs>
                <a:gs pos="100000">
                  <a:srgbClr val="ffff00"/>
                </a:gs>
              </a:gsLst>
              <a:lin ang="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 rot="20766600">
              <a:off x="7559280" y="4351320"/>
              <a:ext cx="1391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ff0000"/>
                </a:solidFill>
                <a:latin typeface="Arba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затрудне</a:t>
              </a:r>
              <a:endParaRPr b="1" i="1" lang="en-US" sz="1600" spc="-1" strike="noStrike">
                <a:solidFill>
                  <a:srgbClr val="ff0000"/>
                </a:solidFill>
                <a:latin typeface="Arba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ния</a:t>
              </a:r>
              <a:endParaRPr b="1" i="1" lang="en-US" sz="16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211" name="Text Box 11"/>
            <p:cNvSpPr/>
            <p:nvPr/>
          </p:nvSpPr>
          <p:spPr>
            <a:xfrm rot="756000">
              <a:off x="7542360" y="3202560"/>
              <a:ext cx="91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Выход </a:t>
              </a:r>
              <a:endParaRPr b="1" i="1" lang="en-US" sz="1600" spc="-1" strike="noStrike">
                <a:solidFill>
                  <a:srgbClr val="ff0000"/>
                </a:solidFill>
                <a:latin typeface="Arba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ff0000"/>
                </a:solidFill>
                <a:latin typeface="Arbat"/>
              </a:endParaRPr>
            </a:p>
          </p:txBody>
        </p:sp>
        <p:sp>
          <p:nvSpPr>
            <p:cNvPr id="212" name="Text Box 12"/>
            <p:cNvSpPr/>
            <p:nvPr/>
          </p:nvSpPr>
          <p:spPr>
            <a:xfrm>
              <a:off x="8472600" y="367956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endParaRPr b="1" i="1" lang="en-US" sz="1600" spc="-1" strike="noStrike">
                <a:solidFill>
                  <a:srgbClr val="ff0000"/>
                </a:solidFill>
                <a:latin typeface="Arbat"/>
              </a:endParaRPr>
            </a:p>
          </p:txBody>
        </p:sp>
      </p:grpSp>
      <p:sp>
        <p:nvSpPr>
          <p:cNvPr id="213" name="AutoShape 13"/>
          <p:cNvSpPr/>
          <p:nvPr/>
        </p:nvSpPr>
        <p:spPr>
          <a:xfrm flipH="1">
            <a:off x="5638680" y="4876920"/>
            <a:ext cx="1828800" cy="152388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380880 h 1523880"/>
              <a:gd name="textAreaBottom" fmla="*/ 11430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 практике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14" name="AutoShape 14"/>
          <p:cNvSpPr/>
          <p:nvPr/>
        </p:nvSpPr>
        <p:spPr>
          <a:xfrm flipH="1">
            <a:off x="3059280" y="4941720"/>
            <a:ext cx="1828800" cy="152424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380880 h 1524240"/>
              <a:gd name="textAreaBottom" fmla="*/ 11433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стематизация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15" name="AutoShape 15"/>
          <p:cNvSpPr/>
          <p:nvPr/>
        </p:nvSpPr>
        <p:spPr>
          <a:xfrm flipH="1">
            <a:off x="611280" y="4869000"/>
            <a:ext cx="1828800" cy="152388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380880 h 1523880"/>
              <a:gd name="textAreaBottom" fmla="*/ 11430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флексия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тской 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1" i="1" lang="en-US" sz="16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16" name="WordArt 16"/>
          <p:cNvSpPr txBox="1"/>
          <p:nvPr/>
        </p:nvSpPr>
        <p:spPr>
          <a:xfrm>
            <a:off x="395280" y="404640"/>
            <a:ext cx="85327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bat"/>
              </a:rPr>
              <a:t>Используемые технологии</a:t>
            </a:r>
            <a:endParaRPr b="1" i="1" lang="en-US" sz="60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ff00"/>
                  </a:gs>
                </a:gsLst>
                <a:lin ang="5400000"/>
              </a:gradFill>
              <a:latin typeface="Arbat"/>
              <a:ea typeface="Arbat"/>
            </a:endParaRPr>
          </a:p>
        </p:txBody>
      </p:sp>
    </p:spTree>
  </p:cSld>
  <p:transition spd="med">
    <p:pull dir="ru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7"/>
          <p:cNvSpPr txBox="1"/>
          <p:nvPr/>
        </p:nvSpPr>
        <p:spPr>
          <a:xfrm>
            <a:off x="1403280" y="1484280"/>
            <a:ext cx="648180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доровьесберегающие</a:t>
            </a:r>
            <a:endParaRPr b="1" i="1" lang="en-US" sz="44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395280" y="404640"/>
            <a:ext cx="85327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bat"/>
              </a:rPr>
              <a:t>Используемые технологии</a:t>
            </a:r>
            <a:endParaRPr b="1" i="1" lang="en-US" sz="60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100000">
                    <a:srgbClr val="ff0000"/>
                  </a:gs>
                </a:gsLst>
                <a:lin ang="5400000"/>
              </a:gradFill>
              <a:latin typeface="Arbat"/>
              <a:ea typeface="Arbat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324000" y="2205000"/>
            <a:ext cx="1925640" cy="1190520"/>
          </a:xfrm>
          <a:prstGeom prst="flowChartMultidocumen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3517920" y="2565360"/>
            <a:ext cx="2070000" cy="1190520"/>
          </a:xfrm>
          <a:prstGeom prst="flowChartMultidocumen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Дыхательная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гимнастика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6659640" y="3049560"/>
            <a:ext cx="1925640" cy="1190520"/>
          </a:xfrm>
          <a:prstGeom prst="flowChartMultidocumen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Пальчиковая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гимнастика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539640" y="4149720"/>
            <a:ext cx="1925640" cy="1190520"/>
          </a:xfrm>
          <a:prstGeom prst="flowChartMultidocumen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Кинезио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терапия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23" name="AutoShape 15"/>
          <p:cNvSpPr/>
          <p:nvPr/>
        </p:nvSpPr>
        <p:spPr>
          <a:xfrm>
            <a:off x="3517920" y="4332240"/>
            <a:ext cx="1925640" cy="1190520"/>
          </a:xfrm>
          <a:prstGeom prst="flowChartMultidocumen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Игровой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стрейчинг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6084720" y="5084640"/>
            <a:ext cx="2489400" cy="1190880"/>
          </a:xfrm>
          <a:prstGeom prst="flowChartMultidocumen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Различные виды 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массажа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38320" y="2395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Методика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bat"/>
              </a:rPr>
              <a:t>В.Ф.Базарного</a:t>
            </a:r>
            <a:endParaRPr b="1" i="1" lang="en-US" sz="2000" spc="-1" strike="noStrike">
              <a:solidFill>
                <a:srgbClr val="ff0000"/>
              </a:solidFill>
              <a:latin typeface="Arbat"/>
            </a:endParaRPr>
          </a:p>
        </p:txBody>
      </p:sp>
    </p:spTree>
  </p:cSld>
  <p:transition spd="med">
    <p:pull dir="ru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7:31:54Z</dcterms:created>
  <dc:creator>Светлана</dc:creator>
  <dc:description/>
  <dc:language>en-US</dc:language>
  <cp:lastModifiedBy>RePack by Diakov</cp:lastModifiedBy>
  <dcterms:modified xsi:type="dcterms:W3CDTF">2019-01-13T12:03:56Z</dcterms:modified>
  <cp:revision>30</cp:revision>
  <dc:subject/>
  <dc:title>Тема проекта</dc:title>
</cp:coreProperties>
</file>