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F34-3E6F-4076-80E1-3A33C1F8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1F3-4492-49E9-9AD7-23A86734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079-ED00-486A-AA40-C2C0706F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C0E-0BA4-4609-ADBC-8C99B36C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4B4A-8F4E-4491-B1F2-E3530C60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A481-C52F-43B4-A3D2-3A41F904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46B4-3621-4C45-9CC0-008D3974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3F90-1672-4662-AEE5-E04D6AB9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4C66-6DF6-4F07-A108-D9284E6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3FF6-5CAC-409C-B7E3-92AC068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E750-E600-493A-858D-5C854EB8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02E-53D3-4468-BBE4-057BE7E8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2245-0A8B-4C46-B723-F969208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AE2-E1AA-4822-BC9F-D50B369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C09A-E6AD-493B-B12D-A1D2D261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B439-C841-4900-87FC-9B692E88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539A-7113-4A06-A0C7-87A2E72D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1DB-81D7-4187-A3AD-F5AE50BF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B4D-D074-4E28-9A95-794C1348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87C-AF2C-4D53-9749-7F1655B0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97F-E572-43BB-BD53-E2C31DB4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3C6-249E-457B-AC35-CB7B8E31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6EA-B4B7-46F0-8005-A93E3F4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641-3B21-4489-9EFF-F5440D98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d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d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97B7-1E9A-456A-804B-E6B67BF0107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eece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5315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d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1f497d"/>
                </a:gs>
                <a:gs pos="100000">
                  <a:srgbClr val="1d45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050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eece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966-C666-49AA-B893-0FE6413D99B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вы думаете о каком цветочке идет речь?</a:t>
            </a:r>
            <a:br>
              <a:rPr sz="4400"/>
            </a:b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рел в траве росистой                                 Цветочек золотистый.                                 Потом померк, потух                                 И превратился в пух.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уванчик.</a:t>
            </a:r>
            <a:endParaRPr b="0" lang="en-US" sz="5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59" name="Объект 3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8572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оение одуванчика.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61" name="Объект 3" descr=""/>
          <p:cNvPicPr/>
          <p:nvPr/>
        </p:nvPicPr>
        <p:blipFill>
          <a:blip r:embed="rId1"/>
          <a:stretch/>
        </p:blipFill>
        <p:spPr>
          <a:xfrm>
            <a:off x="2487600" y="1214280"/>
            <a:ext cx="4013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уванчик.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63" name="Объект 3" descr=""/>
          <p:cNvPicPr/>
          <p:nvPr/>
        </p:nvPicPr>
        <p:blipFill>
          <a:blip r:embed="rId1"/>
          <a:stretch/>
        </p:blipFill>
        <p:spPr>
          <a:xfrm>
            <a:off x="560520" y="1285920"/>
            <a:ext cx="78865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3" descr="http://detsadmickeymouse.ru/v_mire_knig/w1.jpg"/>
          <p:cNvPicPr/>
          <p:nvPr/>
        </p:nvPicPr>
        <p:blipFill>
          <a:blip r:embed="rId1"/>
          <a:stretch/>
        </p:blipFill>
        <p:spPr>
          <a:xfrm>
            <a:off x="428760" y="1214280"/>
            <a:ext cx="8286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уванчик-лекарственное растение!!!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66" name="Рисунок 4" descr="Одуванчик лекарственный, корень одуванчика (Taraxacum officinale Wigg."/>
          <p:cNvPicPr/>
          <p:nvPr/>
        </p:nvPicPr>
        <p:blipFill>
          <a:blip r:embed="rId1"/>
          <a:stretch/>
        </p:blipFill>
        <p:spPr>
          <a:xfrm>
            <a:off x="357120" y="1000080"/>
            <a:ext cx="2241720" cy="33577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Корни и корневища лекарственных растений.The roots and rhizomes of medicinal plants. Товары и услуги компании &quot;Лекарственные рас"/>
          <p:cNvPicPr/>
          <p:nvPr/>
        </p:nvPicPr>
        <p:blipFill>
          <a:blip r:embed="rId2"/>
          <a:stretch/>
        </p:blipFill>
        <p:spPr>
          <a:xfrm>
            <a:off x="6164280" y="1143000"/>
            <a:ext cx="2979720" cy="2286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Одуванчик лекарственный корень &quot; Полезная медицинская информация! . Названия и описания мед. препаратов, инструкции и способы их"/>
          <p:cNvPicPr/>
          <p:nvPr/>
        </p:nvPicPr>
        <p:blipFill>
          <a:blip r:embed="rId3"/>
          <a:srcRect l="18414" t="4845" r="18006" b="4135"/>
          <a:stretch/>
        </p:blipFill>
        <p:spPr>
          <a:xfrm>
            <a:off x="2928960" y="2143080"/>
            <a:ext cx="3029040" cy="43340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Уникальные портреты. . Зеленые страницы."/>
          <p:cNvPicPr/>
          <p:nvPr/>
        </p:nvPicPr>
        <p:blipFill>
          <a:blip r:embed="rId4"/>
          <a:stretch/>
        </p:blipFill>
        <p:spPr>
          <a:xfrm>
            <a:off x="7000920" y="3786120"/>
            <a:ext cx="1725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уванчик-полезное растение!!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71" name="Рисунок 6" descr="Дом Кристиана Сильвермана и Евы Даль - Страница 29"/>
          <p:cNvPicPr/>
          <p:nvPr/>
        </p:nvPicPr>
        <p:blipFill>
          <a:blip r:embed="rId1"/>
          <a:stretch/>
        </p:blipFill>
        <p:spPr>
          <a:xfrm>
            <a:off x="285840" y="1000080"/>
            <a:ext cx="22302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Польза одуванчика Советы из Интернета"/>
          <p:cNvPicPr/>
          <p:nvPr/>
        </p:nvPicPr>
        <p:blipFill>
          <a:blip r:embed="rId2">
            <a:lum bright="10000"/>
          </a:blip>
          <a:srcRect l="0" t="6709" r="0" b="6709"/>
          <a:stretch/>
        </p:blipFill>
        <p:spPr>
          <a:xfrm>
            <a:off x="5286240" y="1500120"/>
            <a:ext cx="385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8" descr="Варенье из одуванчиков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2928960" y="1571760"/>
            <a:ext cx="222732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9" descr="Одуванчик лекарственный Натуральное мыло ручной работы и косметика в Казани - Интернет-магазин Mineki.Ru"/>
          <p:cNvPicPr/>
          <p:nvPr/>
        </p:nvPicPr>
        <p:blipFill>
          <a:blip r:embed="rId4"/>
          <a:stretch/>
        </p:blipFill>
        <p:spPr>
          <a:xfrm>
            <a:off x="500040" y="407196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0" descr="Копилка детских стихов - Сайт для мам малышей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4929120" y="4143240"/>
            <a:ext cx="35355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срывайте одуванчики!!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8786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ихотворение «Цветок».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веток на луг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Я сорвал на бег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рвал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зачем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ъяснить не мог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така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день постоял и  завя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сколько бы он на лугу постоял.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. Викторов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C:\Users\лена\Desktop\imgpreview (3).jpg"/>
          <p:cNvPicPr/>
          <p:nvPr/>
        </p:nvPicPr>
        <p:blipFill>
          <a:blip r:embed="rId1"/>
          <a:stretch/>
        </p:blipFill>
        <p:spPr>
          <a:xfrm>
            <a:off x="4844880" y="1143000"/>
            <a:ext cx="3827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1:42:45Z</dcterms:created>
  <dc:creator>FOBOS</dc:creator>
  <dc:description/>
  <dc:language>en-US</dc:language>
  <cp:lastModifiedBy>КЭП</cp:lastModifiedBy>
  <dcterms:modified xsi:type="dcterms:W3CDTF">2018-11-27T07:21:45Z</dcterms:modified>
  <cp:revision>50</cp:revision>
  <dc:subject/>
  <dc:title>Слайд 1</dc:title>
</cp:coreProperties>
</file>